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27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56F-7B44-4DBF-B970-C765F121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692-7A3C-4CBF-9CC0-43B9514A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DF8-A883-46CD-A2F7-44BA9AFA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D95-6920-4930-8F87-421752E8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76A7-46F8-4D65-B99B-7E740466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646-2602-4A00-AA49-1401DE23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108-EB70-48C5-B9AA-0652AC82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ADE-2F98-478D-A1B7-114FA290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64C-B3CA-4E34-A565-7C5B8BE3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66C-CE71-4394-B273-9594006D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938A-171B-455B-93E7-7168E6DA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9AF-BA80-401F-8BAD-BD7F197B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2BFD-D20E-4CEB-9A5F-2216A1E05C1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3" descr="C:\Users\Tomáš\Desktop\upr_3_loga_nadpisy_text.JPG"/>
          <p:cNvPicPr/>
          <p:nvPr/>
        </p:nvPicPr>
        <p:blipFill>
          <a:blip r:embed="rId2"/>
          <a:stretch/>
        </p:blipFill>
        <p:spPr>
          <a:xfrm>
            <a:off x="3414600" y="2905200"/>
            <a:ext cx="23148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pis toku ře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6978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orní 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udký sklon -&gt; rychle te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á eroze – převládá hloub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uboká údolí s příkrými sva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kamenů dělá valou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kud narazí na odolné horniny – vznika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opády a peř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var do (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867280" y="4581360"/>
            <a:ext cx="21942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řední 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k ztrácí na dravosti neunáší kameny 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ísek a ště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lké kameny s ukláda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ěkteré tvrdší horniny už tok obcház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ka mohu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580000" y="4653000"/>
            <a:ext cx="244800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lní t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ina - teče pom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Široké údolí mělké – zařezává 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n – převažuje boční ero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ají opuštěná ra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ka vytváří meand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284720" y="4653000"/>
            <a:ext cx="38527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an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zákrut řeky způsobený boční erozí – vymíláním břehů na jedné straně a usazováním na druhé stra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ledným zahloubením říčního koryta se může meandr zcela oddělit od řečního toku a vznikne mrtvé rameno řeky, meandrové je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nější břeh říčního oblouku, kde vodní tok eroduje, se nazývá výsepní, vnitřní jesep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an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Nowitna_river"/>
          <p:cNvPicPr/>
          <p:nvPr/>
        </p:nvPicPr>
        <p:blipFill>
          <a:blip r:embed="rId1"/>
          <a:stretch/>
        </p:blipFill>
        <p:spPr>
          <a:xfrm>
            <a:off x="324000" y="1125360"/>
            <a:ext cx="792000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an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Erosion and depositon on a meandering river"/>
          <p:cNvPicPr/>
          <p:nvPr/>
        </p:nvPicPr>
        <p:blipFill>
          <a:blip r:embed="rId1"/>
          <a:stretch/>
        </p:blipFill>
        <p:spPr>
          <a:xfrm>
            <a:off x="395280" y="1876320"/>
            <a:ext cx="835344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lta je zvláštní typ ústí řeky do moř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eka se v deltě rozvětvuje do mnoh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men. Vzniká tam, kde moře neodnáš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ční náno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4fe1855f24426555ebc40e4abd61d1ba"/>
          <p:cNvPicPr/>
          <p:nvPr/>
        </p:nvPicPr>
        <p:blipFill>
          <a:blip r:embed="rId1"/>
          <a:stretch/>
        </p:blipFill>
        <p:spPr>
          <a:xfrm>
            <a:off x="1042920" y="1341360"/>
            <a:ext cx="662472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feb6de5770a8742f9a73ee394fea2849"/>
          <p:cNvPicPr/>
          <p:nvPr/>
        </p:nvPicPr>
        <p:blipFill>
          <a:blip r:embed="rId1"/>
          <a:stretch/>
        </p:blipFill>
        <p:spPr>
          <a:xfrm>
            <a:off x="250920" y="1206360"/>
            <a:ext cx="84247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roze čili denu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5640" y="5229360"/>
            <a:ext cx="7920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ní (říční, jezerní, mořská = abraze), ledovcová, eolická=větr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70e31074c8_46065917_o2"/>
          <p:cNvPicPr/>
          <p:nvPr/>
        </p:nvPicPr>
        <p:blipFill>
          <a:blip r:embed="rId1"/>
          <a:stretch/>
        </p:blipFill>
        <p:spPr>
          <a:xfrm>
            <a:off x="104292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břežní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řské vlny rozrušují nejen pobřeží, ale i dno mo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tnost a hloubka přílivu a odlivu má velký vliv na ero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ování horninového materiálu, zvednutého tlakem vody, obrušuje horniny vznikají tzv. abrazní ploš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a energie narážejících vln může způsobovat „odlamování“ různě velkých částic, které pak, neseny pobřežními proudy, zvyšují účinnost ero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břežní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roze také nastává, když vzduch ve skulinách v podkladu je stlačen tlakem vody a tím rozbíjí podkl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ůže též nastat chemická eroze pomocí rozkladu látek v podkladu na prvočini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břežní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Wavecut_platform_southerndown_pano"/>
          <p:cNvPicPr/>
          <p:nvPr/>
        </p:nvPicPr>
        <p:blipFill>
          <a:blip r:embed="rId1"/>
          <a:stretch/>
        </p:blipFill>
        <p:spPr>
          <a:xfrm>
            <a:off x="324000" y="2274840"/>
            <a:ext cx="856908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břežní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Zástupný symbol pro obsah 3" descr="devils-bridge1.jpg"/>
          <p:cNvPicPr/>
          <p:nvPr/>
        </p:nvPicPr>
        <p:blipFill>
          <a:blip r:embed="rId1"/>
          <a:stretch/>
        </p:blipFill>
        <p:spPr>
          <a:xfrm>
            <a:off x="900000" y="112536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dovcová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čistoty v ledu drhnou o podklad a tím ho dřou podobně jako smirkový papír na dřev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pohybu, ledovec na sebe přilne připevněnou část podkladu a jelikož zde je vazba ledu tak pomalu odtrhává část od podkl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rena je kamenitý val vzniklý ledovcovou čin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dovcová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File:Glacial Tarn Formation EN.svg"/>
          <p:cNvPicPr/>
          <p:nvPr/>
        </p:nvPicPr>
        <p:blipFill>
          <a:blip r:embed="rId1"/>
          <a:stretch/>
        </p:blipFill>
        <p:spPr>
          <a:xfrm>
            <a:off x="250920" y="1700280"/>
            <a:ext cx="761976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r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File:Glacier.zermatt.arp.750pix.jpg"/>
          <p:cNvPicPr/>
          <p:nvPr/>
        </p:nvPicPr>
        <p:blipFill>
          <a:blip r:embed="rId1"/>
          <a:stretch/>
        </p:blipFill>
        <p:spPr>
          <a:xfrm>
            <a:off x="826920" y="1341360"/>
            <a:ext cx="7143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r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File:MorainesLakeLouise.JPG"/>
          <p:cNvPicPr/>
          <p:nvPr/>
        </p:nvPicPr>
        <p:blipFill>
          <a:blip r:embed="rId1"/>
          <a:stretch/>
        </p:blipFill>
        <p:spPr>
          <a:xfrm>
            <a:off x="826920" y="1341360"/>
            <a:ext cx="698508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ražení a t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dyž se dostane do nějaké skuliny voda a na zimu zmrzne, tak led díky vzduchovým kapsám se roztáhne a při tání se zas stahuje a zůstávají po něm praskl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rackedWall"/>
          <p:cNvPicPr/>
          <p:nvPr/>
        </p:nvPicPr>
        <p:blipFill>
          <a:blip r:embed="rId1"/>
          <a:stretch/>
        </p:blipFill>
        <p:spPr>
          <a:xfrm>
            <a:off x="5724360" y="4019400"/>
            <a:ext cx="317340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Úvodní inform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rozený proces rozrušovaní a transportu objektů na zemském povrchu pomocí větru, vod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 příchodem lidstva, eroze vzrostla 10x až 40x díky zemědělství, mýcení lesu, stavění cest a rozrůstáním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ní a větrná zodpovídají za 84% všech výskytů ero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ětrná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kytuje se v suchý obla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to zdroj vypařování, desertifikace, nebezpečného vzdušného prachu a škodách na pol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á dvě varian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vihává volné čá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to volné částice naráží silou větru do ostatních struktur, které obruš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dlouhodobém vystavení druhého faktoru můžou vznikat zejména v pouštích tvary podobné tvarům výtrusnic h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ětrná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reepSaltSusp"/>
          <p:cNvPicPr/>
          <p:nvPr/>
        </p:nvPicPr>
        <p:blipFill>
          <a:blip r:embed="rId1"/>
          <a:stretch/>
        </p:blipFill>
        <p:spPr>
          <a:xfrm>
            <a:off x="250920" y="1703520"/>
            <a:ext cx="84978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ětrná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wind-erosion"/>
          <p:cNvPicPr/>
          <p:nvPr/>
        </p:nvPicPr>
        <p:blipFill>
          <a:blip r:embed="rId1"/>
          <a:stretch/>
        </p:blipFill>
        <p:spPr>
          <a:xfrm>
            <a:off x="1258920" y="1268280"/>
            <a:ext cx="69850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ětrná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40501752"/>
          <p:cNvPicPr/>
          <p:nvPr/>
        </p:nvPicPr>
        <p:blipFill>
          <a:blip r:embed="rId1"/>
          <a:stretch/>
        </p:blipFill>
        <p:spPr>
          <a:xfrm>
            <a:off x="1258920" y="1341360"/>
            <a:ext cx="648000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avitační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škozené horniny nebo jiné tělesa mohou ztrácet svůj materiál postupným působením gravitace a tedy odpadá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škození může být způsobeno ledem, větrem, nára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lon svahu na kterém toto těleso leží hodně ovlivňuje intenzitu ero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Gravitační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File:NegevWadi2009.JPG"/>
          <p:cNvPicPr/>
          <p:nvPr/>
        </p:nvPicPr>
        <p:blipFill>
          <a:blip r:embed="rId1"/>
          <a:stretch/>
        </p:blipFill>
        <p:spPr>
          <a:xfrm>
            <a:off x="971640" y="112536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roze způsobená člověk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inností člověka se zvýšila intenzita ero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mědělstvím se krajina otevřela velkému vlivu větru a 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lesňovaní odstranilo vegetaci, která svojí činností často zabraňuje ero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věním měst a silnic opět zbavilo okolí vegetace a vystavilo prostředí města vlivům 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roze způsobená člověk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File:Soil erosion at Hill Farm - geograph.org.uk - 1287527.jpg"/>
          <p:cNvPicPr/>
          <p:nvPr/>
        </p:nvPicPr>
        <p:blipFill>
          <a:blip r:embed="rId1"/>
          <a:stretch/>
        </p:blipFill>
        <p:spPr>
          <a:xfrm>
            <a:off x="971640" y="141300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roze způsobená člověk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File:BURNED CLEAR-CUT AREA OF OLYMPIC NATIONAL TIMBERLAND WASHINGTON. NEAR OLYMPIC NATIONAL PARK - NARA - 555088.tif"/>
          <p:cNvPicPr/>
          <p:nvPr/>
        </p:nvPicPr>
        <p:blipFill>
          <a:blip r:embed="rId1"/>
          <a:stretch/>
        </p:blipFill>
        <p:spPr>
          <a:xfrm>
            <a:off x="826920" y="1484280"/>
            <a:ext cx="76201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 literatu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569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ktory vzniku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měrný roční úhrn srážek, průměrná teplota, rozsah roční teploty, roční období, rychlost větru a frekvence bouřek patří mezi akční faktory vzniku ero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a obsah podkladu determinuje citlivost vůči akčním faktorům. Čím více je podklad citlivější, tím víc se eroze uskutečň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tomnost vegetace vytváří větší rezistenci vůči erozi např. zpevnění břehu ř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odní eroze - déš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dopadu, kapka odstraňuje malé částečky půdy (mohou urazit až 150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mile dopadá víc deště než se stačí vstřebat, nevstřebána voda začne téct a pere sebou částečky pů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a může téct plošně, bez žádných speciálních silných proudu. Vymílá zem jen z povrc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a může téct po určitých „cestičkách“. Zde je proud silnější a může vytvářet malé kory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tšina vody se akumuluje v jednom úzkém bodě a vzniká tak na konci koryto o slušné hlou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ošná dešťová er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Sheet erosion"/>
          <p:cNvPicPr/>
          <p:nvPr/>
        </p:nvPicPr>
        <p:blipFill>
          <a:blip r:embed="rId1"/>
          <a:stretch/>
        </p:blipFill>
        <p:spPr>
          <a:xfrm>
            <a:off x="900000" y="1484280"/>
            <a:ext cx="698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roze vytvářející slabá kory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rillb"/>
          <p:cNvPicPr/>
          <p:nvPr/>
        </p:nvPicPr>
        <p:blipFill>
          <a:blip r:embed="rId1"/>
          <a:stretch/>
        </p:blipFill>
        <p:spPr>
          <a:xfrm>
            <a:off x="1403280" y="1413000"/>
            <a:ext cx="65534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roze vytvářející hluboká kory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GullyErosionPasture-NRCS-LG"/>
          <p:cNvPicPr/>
          <p:nvPr/>
        </p:nvPicPr>
        <p:blipFill>
          <a:blip r:embed="rId1"/>
          <a:stretch/>
        </p:blipFill>
        <p:spPr>
          <a:xfrm>
            <a:off x="468360" y="1557360"/>
            <a:ext cx="4174920" cy="4987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erosion_%20gully"/>
          <p:cNvPicPr/>
          <p:nvPr/>
        </p:nvPicPr>
        <p:blipFill>
          <a:blip r:embed="rId2"/>
          <a:stretch/>
        </p:blipFill>
        <p:spPr>
          <a:xfrm>
            <a:off x="4788000" y="1557360"/>
            <a:ext cx="3662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odní eroze – říční a údolní eroz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niká průběžným tokem v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roze prohlubuje a zároveň rozšiřuje úd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začátku působí zejména vertikálně: vzniká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ozdějších etapách se spíš rozšiřuje a snižuje se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ychlost toku vody ovlivňuje vzniku eroze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plavy jsou schopny unést více částic pů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nášený kamínky a kameny také přispívají k eroz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 podkladu má na průběh eroze vliv (písčitý se mnohem rychleji rozemílá než kameni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8:36:35Z</dcterms:created>
  <dc:creator>JUDr. Ing. Petr Kučera</dc:creator>
  <dc:description/>
  <dc:language>en-US</dc:language>
  <cp:lastModifiedBy>stercl</cp:lastModifiedBy>
  <dcterms:modified xsi:type="dcterms:W3CDTF">2015-04-26T16:38:08Z</dcterms:modified>
  <cp:revision>6</cp:revision>
  <dc:subject/>
  <dc:title>Eroze</dc:title>
</cp:coreProperties>
</file>