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9C4C-B939-4E54-8261-61B8EC24D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CB85-34CC-4DB8-991E-D8545F1F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0C66-EDEE-4466-BBFE-F7A8BE3CD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41D7-F727-4B94-AFB2-725022DA1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A51B-3D36-426B-89EE-76D876AB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219D-44F3-4750-BA17-C9C87CF2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7420-6CA6-4066-8E7A-1EA6124B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DE11-A28F-4103-928F-69C26825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5B67-CE0A-4A4D-B435-AEFA7A5F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BE76-2644-420F-8895-827D1824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07D3-59A7-4503-9EF2-E91EE6BD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94E4-0758-4208-AB10-3973C8FC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6BEF-7425-43DC-98F3-0403B6B7E3D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874960" y="2940120"/>
            <a:ext cx="4827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Praha &amp; EU: Investujeme do vaší budoucnosti</a:t>
            </a:r>
            <a:br>
              <a:rPr sz="1000"/>
            </a:b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Evropský sociální fo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330720" y="2089080"/>
            <a:ext cx="24112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 posledních 10 let zemřelo na průjmová onemocnění více dětí, než kolik činily veškeré lidské ztráty v ozbrojených konfliktech od konce 2. světové vál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lovina lůžek v nemocnicích po celém světě je zaplněna pacienty, kteří trpí nemocemi související se špatnou kvalitou v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ždý den umírá na průjmová onemocnění 1,8 milionu li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88% všech průjmových nemocí je připisováno dodávkám nekvalitní vody, nízké úrovni sanitárního vybavení a nedostatečné hygien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.500 milionů lidí je ohroženo zánětem spojivek a v důsledku toho může být postiženo slepotou až 146 milionů lid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to onemocnění úzce souvis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 nedostatečným mytím obličej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to v důsledku nedostatku blízkých zdrojů nezávadné v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ždý rok zemře 1,3 milionů lidí na malár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90 % z nich jsou děti mladší pěti l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ůměrná vzdálenost, kterou musí ženy v Africe a Asii ujít, aby nabraly vodu, je šest kilomet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hadem 25 % lidí z měst v rozvojových zemích nakupuje vodu od obchodníků za mnohem vyšší cenu než vodu z vodovod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 některých případech za cenu, která představuje více než čtvrtinu příjmů jej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mácnos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soby vody se snižují, zatímco poptávka dramaticky roste neudržitelným temp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 čekává se, že v příštích 20 letech průměrná celosvětová zásoba vodu na osobu klesne o celou třeti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hady hovoří o tom, že 90% odpadních vod v rozvojových státech je vypouštěno bez jakýchkoli úprav rovnou do řek a dalších vodních toků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ždý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la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vynaložený na dostupnost vody a hygienu umožní ušetřit v průměr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osm dolar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íky nižším výdajům a vyšší produktivitě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Nedostatek pitné vody -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celosvětový problé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nsa gymnázium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1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dé v subsaharské Africe stráví každý rok nabíráním vody 40 miliard hodi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ž je doba, která se rovná pracovní době více než 19 milionů zaměstnanců pracujících na plný úvaz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třeba vody na zavlažování se od roku 1960 zvýšila o 60%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si 70 % veškeré dostupné sladké vody se využívá pro zemědělské zavlaž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ohužel kvůli neefektivním zavlažovací, systémům, zejména v rozvojových zemích, se 60% této vody ztratí odpařováním, případně se vrací do řek či zásobníků podzemní v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roblémy hospodaření s vod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lká závislost na srážká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rážkový def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nzivní zeměděl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rušení povrchovou těžb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nečištění po těžbá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ospodaření s odpadními vod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ZEMĚ – MODRÁ PLAN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emi propůjčuje modrou barvu právě vod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esp. její hydrosfé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Každá živá hmota obsahuje vod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mbryo 94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ítě 6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rý člověk 5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ev 8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zek 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sti 2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kurka 9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blko 85%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léb 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R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ledá-li se ve vesmíru živo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ledá se voda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Koloběh vody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nejmohutnější látkový cyklus na Ze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ždoročně jím projde přibližně 500 bilionů tu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n 2,6 % tohoto objemu představuje sladká vo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Spotřeba v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je spotřeba 120 l vody/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USA 300 l vody/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některých afrických zemí jen 10-20 l vody/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13 problémů týkajících 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vody na Ze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,1 miliardy lidí v rozvojových zemích nemá dostatečný přístup k vod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,6 miliardy lidí chybí alespoň základní hygienické podmínky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4T16:00:56Z</dcterms:created>
  <dc:creator>nobody</dc:creator>
  <dc:description/>
  <dc:language>en-US</dc:language>
  <cp:lastModifiedBy>stercl</cp:lastModifiedBy>
  <dcterms:modified xsi:type="dcterms:W3CDTF">2014-09-29T15:32:45Z</dcterms:modified>
  <cp:revision>37</cp:revision>
  <dc:subject/>
  <dc:title>ČESKÉ HORNÍ PRÁVO</dc:title>
</cp:coreProperties>
</file>