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8DD-B1EF-410A-A714-5AD6A0D7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B6F0-1288-46AE-A8E4-FB99339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F650-204C-4A89-94FB-36805336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1EA-4487-4015-B545-EF62F260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1F2-23F7-44BA-92A8-23DF64F5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9FE-F37F-465E-AE17-DFED7112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B4F1-E493-411C-A893-FDBC553C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67C-1EB3-48D3-8CAD-5B6FFDB7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DB1-FFF7-438F-9294-C980373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842F-227A-45D6-934B-FDA814C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C8F0-DC05-4640-AA40-B3966150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0A85-2DFD-4CCF-AD7E-9600843F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839-2A89-4595-BA75-69ECB49294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LEMANIT - C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11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· 5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úza čirých krystalů coleman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an Bernardino Co., Kalifornie, USA. Velikost vzorku 7×4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geologie.vsb.cz/loziska/suroviny/nerudy/colemanit%2002_resize.JPG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280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ERNIT - N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· 3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Stébelnatý agregát kernitu se skelným leske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anderma, Turecko. Velikost vzorku 11×4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ineralogicko-petrografického oddělení Moravského zemského 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muzea v Brně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geologie.vsb.cz/loziska/suroviny/nerudy/kernit%2001_resize.jpg"/>
          <p:cNvPicPr/>
          <p:nvPr/>
        </p:nvPicPr>
        <p:blipFill>
          <a:blip r:embed="rId1"/>
          <a:stretch/>
        </p:blipFill>
        <p:spPr>
          <a:xfrm>
            <a:off x="1692360" y="249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LEXIT - NaCa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· 5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ílý vláknitý ulexit s hedvábným leske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Boron, Kalifornie, USA. Velikost vzorku 6×4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Jirásk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geologie.vsb.cz/loziska/suroviny/nerudy/ulexit%2002_resize.JPG"/>
          <p:cNvPicPr/>
          <p:nvPr/>
        </p:nvPicPr>
        <p:blipFill>
          <a:blip r:embed="rId1"/>
          <a:stretch/>
        </p:blipFill>
        <p:spPr>
          <a:xfrm>
            <a:off x="161928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LEXIT - NaCa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· 5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ílý ulexit, místy s vláknitou stavbo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anderma, Turecko. Velikost vzorku 9×6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uzea východních Čech v Hradci Králové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geologie.vsb.cz/loziska/suroviny/nerudy/ulexit%2001_resize.JPG"/>
          <p:cNvPicPr/>
          <p:nvPr/>
        </p:nvPicPr>
        <p:blipFill>
          <a:blip r:embed="rId1"/>
          <a:stretch/>
        </p:blipFill>
        <p:spPr>
          <a:xfrm>
            <a:off x="1547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ORACIT - Mg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l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iré dvanáctistěny boracitu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Vrch Kalkberg u Lüneburgu, Dolní Sasko, Německo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Velikost největšího krystalu 7 m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ineralogicko-petrografického oddělení Moravského zemského 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muzea v Brně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geologie.vsb.cz/loziska/suroviny/nerudy/boracit%2001_resize.jpg"/>
          <p:cNvPicPr/>
          <p:nvPr/>
        </p:nvPicPr>
        <p:blipFill>
          <a:blip r:embed="rId1"/>
          <a:stretch/>
        </p:blipFill>
        <p:spPr>
          <a:xfrm>
            <a:off x="1547640" y="249228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stém minerálů VI Dusičnany a borát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280" y="5444640"/>
            <a:ext cx="70167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ilský ledek (nitronatrit), borax, colemanit, kernit, ulexit, bora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geologie.vsb.cz/loziska/suroviny/nerudy/nitronatrit%2002_resize.jpg"/>
          <p:cNvPicPr/>
          <p:nvPr/>
        </p:nvPicPr>
        <p:blipFill>
          <a:blip r:embed="rId1"/>
          <a:stretch/>
        </p:blipFill>
        <p:spPr>
          <a:xfrm>
            <a:off x="0" y="2421000"/>
            <a:ext cx="3699000" cy="277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geologie.vsb.cz/loziska/suroviny/nerudy/borax%2001_resize.JPG"/>
          <p:cNvPicPr/>
          <p:nvPr/>
        </p:nvPicPr>
        <p:blipFill>
          <a:blip r:embed="rId2"/>
          <a:stretch/>
        </p:blipFill>
        <p:spPr>
          <a:xfrm>
            <a:off x="5430960" y="2421000"/>
            <a:ext cx="37130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ITRONATRIT - NaNO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itronatrit – čilský ledek je velice dobře rozpustný ve vodě, proto se uchovává jen v aridních oblast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žívá se jako vysoce kvalitní přírodní dusičné hnojiv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žnosti nahrazení: Význam má jako zdroj dusíkupro růst rostlin, kde je dusík nenahraditelný, zastupitelné jsou ale jeho zdro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rodní ledek je vzhledem k vysoké ceně už dlouhou dobu téměř zcela zastupován syntetickými hnojivy na bázi N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leziště: Chi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ITRONATRIT - Na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nědý romboedrický dokonale omezený krystal nitronatr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Chile. Velikost vzorku 4,5×3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geologie.vsb.cz/loziska/suroviny/nerudy/nitronatrit%2002_resize.jpg"/>
          <p:cNvPicPr/>
          <p:nvPr/>
        </p:nvPicPr>
        <p:blipFill>
          <a:blip r:embed="rId1"/>
          <a:stretch/>
        </p:blipFill>
        <p:spPr>
          <a:xfrm>
            <a:off x="183528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ITRONATRIT - NaN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mnozrnný agregát nitronatr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Tarapaca, Chile. Velikost vzorku 6×4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eologie.vsb.cz/loziska/suroviny/nerudy/nitronatrit%2001_resize.JPG"/>
          <p:cNvPicPr/>
          <p:nvPr/>
        </p:nvPicPr>
        <p:blipFill>
          <a:blip r:embed="rId1"/>
          <a:stretch/>
        </p:blipFill>
        <p:spPr>
          <a:xfrm>
            <a:off x="169236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orá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62064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oráty jsou soli různých boritých kyselin, většinou sloučeniny s Na, Ca, méně M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užití: Zejména v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klářstv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skelná vlákna a borokřemičitanová skla)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erami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emaily). Dále se používá při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robě mýdel a detergentů, v metalurgii neželezných kovů a žáruvzdorných materiálů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oridy kovů jsou mimořádně tvrd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hemick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tečn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těkav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žáruvzdorné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ateriály s teplotami tání a elektrickými vodivostmi, které často předčí vlastnosti matečných kovů. Například mimořádně vodivé diboridy Zr, Hf, Nb a Ta tají vesměs nad 3000 ºC a Ti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odivost 5 × vyšší než kovový Ti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oridy TiB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, ZrB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a CrB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našly uplatnění jako materiál na lopatky turbín, vnitřní povrchy spalovacích komor a raketových trysek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Schopnosti odolávat roztaveným kovům se využívá při výrobě vysokoteplotních reakčních nádob atd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derné využití bóru je založené na  velkém účinném průřezu izotopu </a:t>
            </a:r>
            <a:r>
              <a:rPr b="1" lang="cs-CZ" sz="1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B vůči termálním neutronům a výhodné je i proto, že produkty reakce jsou stálé neradioaktivní prvky Li a He. Boridy kovů se používají ve velkém rozsahu v jaderných elektrárnách  pro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neutronové štíty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kontrolní tyče v reaktorech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arbid bóru je brusivem a leštivem kovů, používá se v obložení brzd, neprůstřelných vestách a ochranných štítech bojových letadel. Kubický nitrid bóru (borazon) se tvrdostí vyrovná diamantu a má lepší tepelnou stabilitu, je proto výborným brusivem. Borová vlákna různého složení se používají v laminátech letectví a kosmonautic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irásek, 2007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orax N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7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· 10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 dodekahydrát tetraboritanu disodnéh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rostlice krátce sloupcovitých bílých krystalů borax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Boron, Kalifornie, USA. Velikost vzorku 3,5×2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uzea východních Čech v Hradci Králové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geologie.vsb.cz/loziska/suroviny/nerudy/borax%2001_resize.JPG"/>
          <p:cNvPicPr/>
          <p:nvPr/>
        </p:nvPicPr>
        <p:blipFill>
          <a:blip r:embed="rId1"/>
          <a:stretch/>
        </p:blipFill>
        <p:spPr>
          <a:xfrm>
            <a:off x="161928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orax N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7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· 10 H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 dodekahydrát tetraboritanu disodného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rně nažloutlý krystal borax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Loma Blanca, Jujuy, Argentina. Velikost krystalu 6×3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ineralogicko-petrografického oddělení Moravského zemského 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muzea v Brně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geologie.vsb.cz/loziska/suroviny/nerudy/borax%2002_resize.JPG"/>
          <p:cNvPicPr/>
          <p:nvPr/>
        </p:nvPicPr>
        <p:blipFill>
          <a:blip r:embed="rId1"/>
          <a:stretch/>
        </p:blipFill>
        <p:spPr>
          <a:xfrm>
            <a:off x="1619280" y="22287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560" y="274680"/>
            <a:ext cx="865188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LEMANIT - Ca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11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· 5 H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úza čirých krystalů colemanitu. Turecko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Šířka vzorku 10 cm, velikost krystalů do 13 m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Z. Doubk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geologie.vsb.cz/loziska/suroviny/nerudy/colemanit%2001_resize.JPG"/>
          <p:cNvPicPr/>
          <p:nvPr/>
        </p:nvPicPr>
        <p:blipFill>
          <a:blip r:embed="rId1"/>
          <a:stretch/>
        </p:blipFill>
        <p:spPr>
          <a:xfrm>
            <a:off x="1763640" y="2060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00:36:41Z</dcterms:created>
  <dc:creator>Tomáš Kočí</dc:creator>
  <dc:description/>
  <dc:language>en-US</dc:language>
  <cp:lastModifiedBy>stercl</cp:lastModifiedBy>
  <dcterms:modified xsi:type="dcterms:W3CDTF">2015-04-26T16:47:03Z</dcterms:modified>
  <cp:revision>8</cp:revision>
  <dc:subject/>
  <dc:title>Systém minerálů VI Dusičnany a boráty.</dc:title>
</cp:coreProperties>
</file>