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E4DD-B8D5-4084-8EFA-4609BF9EA3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CF3-BFE0-4A96-91A5-78CCEAA92F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898-A469-40A7-A5DC-023D72DA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332-8CE6-4912-97A4-429AF0EE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21D-E3EC-42B1-843D-0399DB3B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075-9DFF-449D-B116-317C1116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82B-BE9E-4AF8-B245-D91A14DC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B1B-B062-44A7-8C08-AE12BE0B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284-4D68-4B32-9A6A-54C4AEB5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009-C399-466D-BD5F-36AD22E6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959-787B-4EEC-86E1-1073821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27DB-F375-4D7C-ADC1-8BBA015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401-2022-444A-90A6-BFB48BA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536-3FC2-43FA-82E1-30CCD23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1E43-2496-4B98-BE32-868F05E9A5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38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znik zkameněli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2143080"/>
            <a:ext cx="8929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898989"/>
                </a:solidFill>
                <a:latin typeface="Calibri"/>
              </a:rPr>
              <a:t>Zkameněliny</a:t>
            </a: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  neboli </a:t>
            </a:r>
            <a:r>
              <a:rPr b="1" lang="cs-CZ" sz="3200" spc="-1" strike="noStrike">
                <a:solidFill>
                  <a:srgbClr val="898989"/>
                </a:solidFill>
                <a:latin typeface="Calibri"/>
              </a:rPr>
              <a:t>fosilie</a:t>
            </a: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 (=</a:t>
            </a:r>
            <a:r>
              <a:rPr b="1" lang="cs-CZ" sz="3200" spc="-1" strike="noStrike">
                <a:solidFill>
                  <a:srgbClr val="898989"/>
                </a:solidFill>
                <a:latin typeface="Calibri"/>
              </a:rPr>
              <a:t>vykopávky</a:t>
            </a: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). Jsou zbytky těl dávno žijících organismů. Jejich otisky či stopy. Které se zachovaly do současnost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Tyto organismy či jejich otisky či stopy byly pohřbeny a zkameněly přirozenou cestou a měly by jevit určité znaky, které podávají svědectví o tvarech (morfologii) a podobě původního tedy pohřbeného organismu. Měly by být starší než 12 000 let. Čili starší než holocé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1"/>
          <p:cNvSpPr/>
          <p:nvPr/>
        </p:nvSpPr>
        <p:spPr>
          <a:xfrm>
            <a:off x="4284720" y="907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4437000" y="1060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mínky fosilizace = zkam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silizace =zkamenění je velmi složitý proces, kdy za příznivých podmínek vzniká zkamenělina. Jaké jsou příznivé podmínky pro vznik zkameněl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Odumřelý organismus má být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ychle zakryt sediment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usazeninou). Nejlepším prostředím je voda. Na souši  jsou potřeba  speciální podmínky jako jsou prašné bouře, pohyb písečných dun, zakrytí sopečným popelem (Bechlejovice), povodně, bahnotoky,úniky C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pastě na zvířata (Dolnice u Chebu), asfaltová jezírka (Rancho La Brea Kalifornie), jeskyně, propasti, duté kmeny přesliček a kaprad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dmínky fosilizace = zkamen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ychlé zakrytí sedimente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. Příznivé vlastnosti sediment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Nejlepší jsou jemnozrnné usazeniny a ještě k tomu nepropustné pro vodu. Nejhorší jsou štěrky a hrubozrnné usazeniny. Proč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3.Příznivé chemické složení usazenin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 Zapadne-li trilobit, ježovka, šnek, amonit do vápenců, jílovců, prachovců obsahující uhličitan vápenatý (CaC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 tak je jím později prostoupen. Naopak zapadne –li ulita šneka či lastura do jezírka s kyselým prostředím, tak je velmi brzy rozpuštěna tzv. huminovými kyselin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4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mínky fosilizace = zkam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Rychlé zakrytí sedimen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 Vhodná vlastnost sedimen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Vhodné chemické složení sedimen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4. Předpoklad pro zkamenění. Čili má-li zvířátko pevnou vnější či vnitřní kostru či Tvrdé dřevo rostliny, tvrdé listy, tvrdá semena, tvrdé plody. Tak se zachová spíše než nějaká medúza, která nemá pevnou tkáň a oporu tě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5. Teplota, tlak a vlastnosti minerálních roztok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rilobit žil na naší planetě před stovkami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ilionů let. Přesto dnes můžeme najít jeho zkamenělé zbytky. Jak je něco takového vůbec možné? Způsob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zniku zkamenělin se vám pokusí vysvětlit následující obrázky. Představme si, že trilobit zemře na dně</a:t>
            </a:r>
            <a:br>
              <a:rPr sz="2500"/>
            </a:b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ře. Jako první se začnou rozkládat měkké části tě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45115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áš trilobit je pomalu překrýván pískem nebo bahne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71720" y="1592280"/>
            <a:ext cx="56433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rilobit je překrýván stále větším a větším množstvím bahna či písku a již i jeho schránka se začíná pomalu rozkládat. Při tomto rozkladu je schránka postupně nahrazována jinými minerály (které jsou součástí prostředí kolem ní). Například kalcitem, limonitem, pyritem. Také písek a bahno prodělává postupné změny. Jak přibývají další a další vrstvy bahna a písku, tak se vrstva s trilobitem nachází stále hlouběji. Rostoucí tlak nadložních vrstev způsobuje, že se původní písek či bahno smáčknou, jednotlivá zrnka písku se přitisknou blíže k sobě a začnou se i částečně rozpouštět. Původní písek či bahno se začnou měnit na horninu – pískovec či břidlici (správně jílove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571680" y="3429000"/>
            <a:ext cx="333360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3336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š trilobit je plně prostoupen minerály například kalcitem, limonitem, pyritem a stala se  z něj zkamenělina a měkký sediment, který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yl na dně moře, je zpevněn do horni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4000680"/>
            <a:ext cx="333360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s://encrypted-tbn3.gstatic.com/images?q=tbn:ANd9GcSVc0f81zM71WRLVXX4YqQYJ5haQwVaU0aPsXjrN5-8joDKsZmc"/>
          <p:cNvPicPr/>
          <p:nvPr/>
        </p:nvPicPr>
        <p:blipFill>
          <a:blip r:embed="rId2"/>
          <a:stretch/>
        </p:blipFill>
        <p:spPr>
          <a:xfrm>
            <a:off x="0" y="2357280"/>
            <a:ext cx="1143000" cy="2095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s://encrypted-tbn3.gstatic.com/images?q=tbn:ANd9GcQ5IsUpoOIzL7fZYzHIydk2Q7FyPZrWhMM2l-RnLiD-l-Zx65ur"/>
          <p:cNvPicPr/>
          <p:nvPr/>
        </p:nvPicPr>
        <p:blipFill>
          <a:blip r:embed="rId3"/>
          <a:stretch/>
        </p:blipFill>
        <p:spPr>
          <a:xfrm>
            <a:off x="1500120" y="2357280"/>
            <a:ext cx="1676520" cy="207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s://encrypted-tbn2.gstatic.com/images?q=tbn:ANd9GcQho1YmHKm9xLTinslC7N-ccH2c4COUFASVJJWhOgX1zLCilsNgcw"/>
          <p:cNvPicPr/>
          <p:nvPr/>
        </p:nvPicPr>
        <p:blipFill>
          <a:blip r:embed="rId4"/>
          <a:stretch/>
        </p:blipFill>
        <p:spPr>
          <a:xfrm>
            <a:off x="0" y="142920"/>
            <a:ext cx="933480" cy="2095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www.trilobiti.estranky.cz/img/mid/449/sao-hirsuta-barrande--1846.jpg"/>
          <p:cNvPicPr/>
          <p:nvPr/>
        </p:nvPicPr>
        <p:blipFill>
          <a:blip r:embed="rId5"/>
          <a:stretch/>
        </p:blipFill>
        <p:spPr>
          <a:xfrm>
            <a:off x="7715160" y="4568760"/>
            <a:ext cx="1428840" cy="2289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muzeum.geology.cz/nae.php?s=expo.paleo1/YA14.jpg&amp;p=650"/>
          <p:cNvPicPr/>
          <p:nvPr/>
        </p:nvPicPr>
        <p:blipFill>
          <a:blip r:embed="rId6"/>
          <a:stretch/>
        </p:blipFill>
        <p:spPr>
          <a:xfrm>
            <a:off x="3429000" y="2428920"/>
            <a:ext cx="2158920" cy="3058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http://www.trilobiti.estranky.cz/img/mid/717/deanaspis-goldfussi-1--barrande--1846--.jpg"/>
          <p:cNvPicPr/>
          <p:nvPr/>
        </p:nvPicPr>
        <p:blipFill>
          <a:blip r:embed="rId7"/>
          <a:stretch/>
        </p:blipFill>
        <p:spPr>
          <a:xfrm>
            <a:off x="5643720" y="2286000"/>
            <a:ext cx="2253960" cy="221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http://www.geology.cz/aplikace/fotoarchiv/sobr.php?r=300&amp;id=14953"/>
          <p:cNvPicPr/>
          <p:nvPr/>
        </p:nvPicPr>
        <p:blipFill>
          <a:blip r:embed="rId8"/>
          <a:stretch/>
        </p:blipFill>
        <p:spPr>
          <a:xfrm>
            <a:off x="5786280" y="4476600"/>
            <a:ext cx="1785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1:43:08Z</dcterms:created>
  <dc:creator>tk</dc:creator>
  <dc:description/>
  <dc:language>en-US</dc:language>
  <cp:lastModifiedBy>stercl</cp:lastModifiedBy>
  <cp:lastPrinted>2013-11-02T10:36:52Z</cp:lastPrinted>
  <dcterms:modified xsi:type="dcterms:W3CDTF">2015-04-26T16:50:04Z</dcterms:modified>
  <cp:revision>10</cp:revision>
  <dc:subject/>
  <dc:title>Vznik zkamenělin.</dc:title>
</cp:coreProperties>
</file>