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55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37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13.png" ContentType="image/png"/>
  <Override PartName="/ppt/media/image54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0.jpeg" ContentType="image/jpeg"/>
  <Override PartName="/ppt/media/image44.jpeg" ContentType="image/jpeg"/>
  <Override PartName="/ppt/media/image41.jpeg" ContentType="image/jpeg"/>
  <Override PartName="/ppt/media/image45.jpeg" ContentType="image/jpeg"/>
  <Override PartName="/ppt/media/image43.jpeg" ContentType="image/jpeg"/>
  <Override PartName="/ppt/media/image46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12.png" ContentType="image/png"/>
  <Override PartName="/ppt/media/image20.jpeg" ContentType="image/jpeg"/>
  <Override PartName="/ppt/media/image48.jpeg" ContentType="image/jpeg"/>
  <Override PartName="/ppt/media/image53.jpeg" ContentType="image/jpeg"/>
  <Override PartName="/ppt/media/image31.jpeg" ContentType="image/jpeg"/>
  <Override PartName="/ppt/media/image30.jpeg" ContentType="image/jpeg"/>
  <Override PartName="/ppt/media/image10.png" ContentType="image/png"/>
  <Override PartName="/ppt/media/image35.jpeg" ContentType="image/jpeg"/>
  <Override PartName="/ppt/media/image39.jpeg" ContentType="image/jpeg"/>
  <Override PartName="/ppt/media/image8.jpeg" ContentType="image/jpeg"/>
  <Override PartName="/ppt/media/image27.jpeg" ContentType="image/jpeg"/>
  <Override PartName="/ppt/media/image50.jpeg" ContentType="image/jpeg"/>
  <Override PartName="/ppt/media/image29.jpeg" ContentType="image/jpeg"/>
  <Override PartName="/ppt/media/image52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7A96-6BFA-4C16-BC8A-171825B53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4AC3-169D-40E3-8F33-7123F5F2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6975-F854-44C3-BA49-653F56F86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D3F5-77FB-4C9E-8935-356F4E118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DAEC-9392-4122-9741-4FB05F33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03E3-A5A3-48DC-8804-97A6832B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6832-5693-4498-9187-C3CB1B51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7682-CCA0-4FE6-B842-05F2C2E9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18AE-C265-4C9F-B1D3-74AB803C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9782-99C0-4D50-9EEB-DBA8C74B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12CA-D87B-4D17-B526-B247917F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1208-5B70-408D-8D2A-6A8179CC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38F8-3998-4D15-BB8F-94C6F78BEA2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image" Target="../media/image21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0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Obrázek 3" descr="C:\Users\Tomáš\Desktop\upr_3_loga_nadpisy_text.JPG"/>
          <p:cNvPicPr/>
          <p:nvPr/>
        </p:nvPicPr>
        <p:blipFill>
          <a:blip r:embed="rId2"/>
          <a:stretch/>
        </p:blipFill>
        <p:spPr>
          <a:xfrm>
            <a:off x="3414600" y="2905200"/>
            <a:ext cx="23148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alci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web.natur.cuni.cz/ugmnz/mineral/mineral/fotv/kalcit_6.jpg"/>
          <p:cNvPicPr/>
          <p:nvPr/>
        </p:nvPicPr>
        <p:blipFill>
          <a:blip r:embed="rId1"/>
          <a:stretch/>
        </p:blipFill>
        <p:spPr>
          <a:xfrm>
            <a:off x="1258920" y="14842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708360" y="274320"/>
            <a:ext cx="22320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ragoni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Složení: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uhličitan vápenatý, CaCO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500"/>
            </a:b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Soustava: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kosočtverečná </a:t>
            </a:r>
            <a:br>
              <a:rPr sz="2500"/>
            </a:b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Vzhled: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tvoří mnoho různých tvarů, krystaly protáhlé ve směru vertikální osy, často pseudošesterečné srostlice. Také tvoří krápníkovité útvary, sintrové povlaky např. v hrachovci. </a:t>
            </a:r>
            <a:br>
              <a:rPr sz="2500"/>
            </a:b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Barva: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bezbarvý nebo bílý, narůžovělý, vínově žlutý, v UV záření zřetelně světélkuje, vryp bílý </a:t>
            </a:r>
            <a:br>
              <a:rPr sz="2500"/>
            </a:b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Vryp: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bílý </a:t>
            </a:r>
            <a:br>
              <a:rPr sz="2500"/>
            </a:b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Tvrdost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= 3,5 - 4 </a:t>
            </a:r>
            <a:br>
              <a:rPr sz="2500"/>
            </a:b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Hustota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= 2,95 </a:t>
            </a:r>
            <a:br>
              <a:rPr sz="2500"/>
            </a:b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Další vlastnosti: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nedokonalá štěpnost, lasturnatý lom, skelný lesk </a:t>
            </a:r>
            <a:br>
              <a:rPr sz="2500"/>
            </a:b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Vznik: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zřídka na rudních žilách, v dutinách čedičů, sedimentární původ (doprovází ložiska síry), hrachovec (Karlovy Vary) </a:t>
            </a:r>
            <a:br>
              <a:rPr sz="2500"/>
            </a:b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Výskyt: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Špania dolina, Příbram, Hořenec u Bíliny, Hřídelec u N. Paky, Itálie </a:t>
            </a:r>
            <a:br>
              <a:rPr sz="2500"/>
            </a:b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Použití: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šperkařství, dekorační kámen </a:t>
            </a:r>
            <a:br>
              <a:rPr sz="2500"/>
            </a:b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Poznámka: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Perleťová vrstva lastur a samotné perly jsou tvořeny velmi jemnými šupinkami aragonit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http://web.natur.cuni.cz/ugmnz/mineral/mineral/gifm/aragonit-1.gif"/>
          <p:cNvPicPr/>
          <p:nvPr/>
        </p:nvPicPr>
        <p:blipFill>
          <a:blip r:embed="rId1"/>
          <a:stretch/>
        </p:blipFill>
        <p:spPr>
          <a:xfrm>
            <a:off x="324000" y="28440"/>
            <a:ext cx="523800" cy="952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http://web.natur.cuni.cz/ugmnz/mineral/mineral/gifm/aragonit-2.gif"/>
          <p:cNvPicPr/>
          <p:nvPr/>
        </p:nvPicPr>
        <p:blipFill>
          <a:blip r:embed="rId2"/>
          <a:stretch/>
        </p:blipFill>
        <p:spPr>
          <a:xfrm>
            <a:off x="1116000" y="28440"/>
            <a:ext cx="552600" cy="952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dvoj&amp;ccaron;e"/>
          <p:cNvPicPr/>
          <p:nvPr/>
        </p:nvPicPr>
        <p:blipFill>
          <a:blip r:embed="rId3"/>
          <a:stretch/>
        </p:blipFill>
        <p:spPr>
          <a:xfrm>
            <a:off x="1979640" y="41400"/>
            <a:ext cx="49536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ragonit </a:t>
            </a: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Hořenec u Bíli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dvoj&amp;ccaron;e"/>
          <p:cNvPicPr/>
          <p:nvPr/>
        </p:nvPicPr>
        <p:blipFill>
          <a:blip r:embed="rId1"/>
          <a:stretch/>
        </p:blipFill>
        <p:spPr>
          <a:xfrm>
            <a:off x="7885080" y="244440"/>
            <a:ext cx="495360" cy="952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http://web.natur.cuni.cz/ugmnz/mineral/mineral/gifm/aragonit-2.gif"/>
          <p:cNvPicPr/>
          <p:nvPr/>
        </p:nvPicPr>
        <p:blipFill>
          <a:blip r:embed="rId2"/>
          <a:stretch/>
        </p:blipFill>
        <p:spPr>
          <a:xfrm>
            <a:off x="826920" y="260280"/>
            <a:ext cx="552600" cy="952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ttp://web.natur.cuni.cz/ugmnz/mineral/mineral/gifm/aragonit-1.gif"/>
          <p:cNvPicPr/>
          <p:nvPr/>
        </p:nvPicPr>
        <p:blipFill>
          <a:blip r:embed="rId3"/>
          <a:stretch/>
        </p:blipFill>
        <p:spPr>
          <a:xfrm>
            <a:off x="179280" y="260280"/>
            <a:ext cx="524160" cy="952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http://web.natur.cuni.cz/ugmnz/mineral/mineral/fotv/aragonit_1.jpg"/>
          <p:cNvPicPr/>
          <p:nvPr/>
        </p:nvPicPr>
        <p:blipFill>
          <a:blip r:embed="rId4"/>
          <a:stretch/>
        </p:blipFill>
        <p:spPr>
          <a:xfrm>
            <a:off x="1103400" y="14842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ragonit </a:t>
            </a: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Hořenec u Bíli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web.natur.cuni.cz/ugmnz/mineral/mineral/fotv/aragonit_2.jpg"/>
          <p:cNvPicPr/>
          <p:nvPr/>
        </p:nvPicPr>
        <p:blipFill>
          <a:blip r:embed="rId1"/>
          <a:stretch/>
        </p:blipFill>
        <p:spPr>
          <a:xfrm>
            <a:off x="1258920" y="14842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ragonit </a:t>
            </a: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Schönho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http://web.natur.cuni.cz/ugmnz/mineral/mineral/fotv/aragonit_5.jpg"/>
          <p:cNvPicPr/>
          <p:nvPr/>
        </p:nvPicPr>
        <p:blipFill>
          <a:blip r:embed="rId1"/>
          <a:stretch/>
        </p:blipFill>
        <p:spPr>
          <a:xfrm>
            <a:off x="1403280" y="14842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ragonit z Rumuns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http://web.natur.cuni.cz/ugmnz/mineral/mineral/fotv/aragonit_4.jpg"/>
          <p:cNvPicPr/>
          <p:nvPr/>
        </p:nvPicPr>
        <p:blipFill>
          <a:blip r:embed="rId1"/>
          <a:stretch/>
        </p:blipFill>
        <p:spPr>
          <a:xfrm>
            <a:off x="1042920" y="14842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ragonit Špania dolina Slovensk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web.natur.cuni.cz/ugmnz/mineral/mineral/fotv/aragonit_6.jpg"/>
          <p:cNvPicPr/>
          <p:nvPr/>
        </p:nvPicPr>
        <p:blipFill>
          <a:blip r:embed="rId1"/>
          <a:stretch/>
        </p:blipFill>
        <p:spPr>
          <a:xfrm>
            <a:off x="1332000" y="177336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ragon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http://rockshop.mineral.cz/large/02154.jpg"/>
          <p:cNvPicPr/>
          <p:nvPr/>
        </p:nvPicPr>
        <p:blipFill>
          <a:blip r:embed="rId1"/>
          <a:stretch/>
        </p:blipFill>
        <p:spPr>
          <a:xfrm>
            <a:off x="1547640" y="14842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rachovec Karlovy V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http://web.natur.cuni.cz/ugmnz/mineral/mineral/fotv/aragonit_3.jpg"/>
          <p:cNvPicPr/>
          <p:nvPr/>
        </p:nvPicPr>
        <p:blipFill>
          <a:blip r:embed="rId1"/>
          <a:stretch/>
        </p:blipFill>
        <p:spPr>
          <a:xfrm>
            <a:off x="1187280" y="155736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rachovec Karlovy Var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web.natur.cuni.cz/ugmnz/mineral/mineral/fotv/aragonit_7.jpg"/>
          <p:cNvPicPr/>
          <p:nvPr/>
        </p:nvPicPr>
        <p:blipFill>
          <a:blip r:embed="rId1"/>
          <a:stretch/>
        </p:blipFill>
        <p:spPr>
          <a:xfrm>
            <a:off x="1403280" y="162864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Systém minerálů V Uhličitan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240" y="5013000"/>
            <a:ext cx="48560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kalcit, aragonit, dolomit, magnezit, siderit, malachit, azuri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geologie.vsb.cz/loziska/suroviny/nerudy/kalcit%2001_resize.JPG"/>
          <p:cNvPicPr/>
          <p:nvPr/>
        </p:nvPicPr>
        <p:blipFill>
          <a:blip r:embed="rId1"/>
          <a:stretch/>
        </p:blipFill>
        <p:spPr>
          <a:xfrm>
            <a:off x="179280" y="873000"/>
            <a:ext cx="2546280" cy="1909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ttp://web.natur.cuni.cz/ugmnz/mineral/mineral/fotv/aragonit_1.jpg"/>
          <p:cNvPicPr/>
          <p:nvPr/>
        </p:nvPicPr>
        <p:blipFill>
          <a:blip r:embed="rId2"/>
          <a:stretch/>
        </p:blipFill>
        <p:spPr>
          <a:xfrm>
            <a:off x="147600" y="2852640"/>
            <a:ext cx="2556000" cy="1917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geologie.vsb.cz/loziska/suroviny/nerudy/dolomit%2001_resize.JPG"/>
          <p:cNvPicPr/>
          <p:nvPr/>
        </p:nvPicPr>
        <p:blipFill>
          <a:blip r:embed="rId3"/>
          <a:stretch/>
        </p:blipFill>
        <p:spPr>
          <a:xfrm>
            <a:off x="2843280" y="1628640"/>
            <a:ext cx="2208240" cy="1656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http://geologie.vsb.cz/loziska/suroviny/nerudy/magnezit%2001_resize.JPG"/>
          <p:cNvPicPr/>
          <p:nvPr/>
        </p:nvPicPr>
        <p:blipFill>
          <a:blip r:embed="rId4"/>
          <a:stretch/>
        </p:blipFill>
        <p:spPr>
          <a:xfrm>
            <a:off x="2809800" y="3284640"/>
            <a:ext cx="2400480" cy="1800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://web.natur.cuni.cz/ugmnz/mineral/mineral/fotv/siderit_3.jpg"/>
          <p:cNvPicPr/>
          <p:nvPr/>
        </p:nvPicPr>
        <p:blipFill>
          <a:blip r:embed="rId5"/>
          <a:stretch/>
        </p:blipFill>
        <p:spPr>
          <a:xfrm>
            <a:off x="5411880" y="873000"/>
            <a:ext cx="2303280" cy="1727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http://geologie.vsb.cz/loziska/suroviny/rudy/azurit%2001_resize.jpg"/>
          <p:cNvPicPr/>
          <p:nvPr/>
        </p:nvPicPr>
        <p:blipFill>
          <a:blip r:embed="rId6"/>
          <a:stretch/>
        </p:blipFill>
        <p:spPr>
          <a:xfrm>
            <a:off x="6389640" y="4770360"/>
            <a:ext cx="2590920" cy="1941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ttp://geologie.vsb.cz/loziska/suroviny/rudy/malachit%2002_resize.JPG"/>
          <p:cNvPicPr/>
          <p:nvPr/>
        </p:nvPicPr>
        <p:blipFill>
          <a:blip r:embed="rId7"/>
          <a:stretch/>
        </p:blipFill>
        <p:spPr>
          <a:xfrm>
            <a:off x="6156360" y="2711520"/>
            <a:ext cx="271764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Dolomit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Mg(C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0" y="765000"/>
            <a:ext cx="9036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OLOMIT - CaMg(C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uhličitan hořečnato-vápenatý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minerál i monominerální hornin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olomit je sedimentární hornina, složená téměř výhradně z minerálu stejného jména - dolomitu CaMg(CO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. V přírodě se často vyskytuje s příměsí vápence - CaCO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. Při obsahu CaMg(CO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nad 90 % je hornina označována jako dolomit, při 50 - 90 % CaMg(CO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jako kalcitický dolomit. Je to zcela běžná hornina, budující celá pohoří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Využití:jako tavivo v hutnictví železa. Značná část produkce se používá i na výrobu zásaditých žáruvzdorných materiálů. Menší množství spotřebovává chemický průmysl, jemně mletý dolomit se používá jako plnidlo do barev, emulzí a omítek. Další použití je při výrobě dolomitických vápen a hydrátů, hořečnatých cementů, odsiřování spalin tepelných elektráren, neutralizaci odpadních vod, pro dekorační účely. Díky obsahu hořčíku - biogenního prvku - se používá pro výrobu hnojiv a zlepšování vlastností půdy. Z čistého dolomitu lze vyrábět MgO a kovový hořčí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olomit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Mg(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br>
              <a:rPr sz="22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dlovitě zprohýbané klencové krystaly dolomitu (minerálu) na galenitu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   a sfaleritu. Příbram, Březové Hory. Velikost vzorku 9×7,5 cm.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   Sbírka J. Jiráska, foto J. Jirásek 2006.</a:t>
            </a:r>
            <a:br>
              <a:rPr sz="1800"/>
            </a:br>
            <a:br>
              <a:rPr sz="22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http://geologie.vsb.cz/loziska/suroviny/nerudy/dolomit%2001_resize.JPG"/>
          <p:cNvPicPr/>
          <p:nvPr/>
        </p:nvPicPr>
        <p:blipFill>
          <a:blip r:embed="rId1"/>
          <a:stretch/>
        </p:blipFill>
        <p:spPr>
          <a:xfrm>
            <a:off x="1476360" y="162864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Dolomit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Mg(CO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Obdélník 2"/>
          <p:cNvSpPr/>
          <p:nvPr/>
        </p:nvSpPr>
        <p:spPr>
          <a:xfrm>
            <a:off x="2286000" y="62064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olomit (hornina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  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kaly Twardowskiego, Polsko. Velikost vzorku 11×8,5 cm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  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bírky Geologického pavilonu VŠB-TU Ostrava, foto J. Jirásek 2006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http://geologie.vsb.cz/loziska/suroviny/nerudy/dolomit%2002_resize.JPG"/>
          <p:cNvPicPr/>
          <p:nvPr/>
        </p:nvPicPr>
        <p:blipFill>
          <a:blip r:embed="rId1"/>
          <a:stretch/>
        </p:blipFill>
        <p:spPr>
          <a:xfrm>
            <a:off x="1332000" y="222876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olomit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Mg(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brus laminovaného dolomitu (horniny). </a:t>
            </a:r>
            <a:br>
              <a:rPr sz="2200"/>
            </a:br>
            <a:r>
              <a:rPr b="0" i="1" lang="cs-CZ" sz="2200" spc="-1" strike="noStrike">
                <a:solidFill>
                  <a:srgbClr val="000000"/>
                </a:solidFill>
                <a:latin typeface="Calibri"/>
              </a:rPr>
              <a:t>  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Bystřice nad Olší. Velikost vzorku 15×8 cm.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  Sbírka D. Matýska, foto D. Matýsek 2002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ttp://geologie.vsb.cz/loziska/suroviny/nerudy/dolomit%2003_resize.jpg"/>
          <p:cNvPicPr/>
          <p:nvPr/>
        </p:nvPicPr>
        <p:blipFill>
          <a:blip r:embed="rId1"/>
          <a:stretch/>
        </p:blipFill>
        <p:spPr>
          <a:xfrm>
            <a:off x="1547640" y="2060640"/>
            <a:ext cx="571500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Magnezi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Složení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uhličitan hořečnatý, MgCO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Soustava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klencová (trigonální)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zhled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krystalovaný tvoří klence; zrnité kusové agregáty, skelný lesk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Barva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krystalický - modrošedá až šedá barva, celistvý (masivní) - bílá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ryp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světle šedý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Tvrdost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= 4 - 4,5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Hustota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= 3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Další vlastnosti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dokonalá štěpnost podle klence, lasturnatý lom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znik a výskyt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celistvý - ložiska vázána na serpentin Křemže, Polsko, Jugoslávie; krystalický - metasomatický vznik, Lučenec - Košice, Jelšava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oužití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výroba žáruvzdorných cihel, papírenský, sklářský a keramický průmys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gnezit hrubozrnný,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Štýrsko, Rakousk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http://web.natur.cuni.cz/ugmnz/mineral/mineral/fotv/magnezit_2.jpg"/>
          <p:cNvPicPr/>
          <p:nvPr/>
        </p:nvPicPr>
        <p:blipFill>
          <a:blip r:embed="rId1"/>
          <a:stretch/>
        </p:blipFill>
        <p:spPr>
          <a:xfrm>
            <a:off x="1403280" y="141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gnezit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elistvý,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Sobótka JZ od Wroclavi, Polsk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ttp://web.natur.cuni.cz/ugmnz/mineral/mineral/fotv/magnezit_1.jpg"/>
          <p:cNvPicPr/>
          <p:nvPr/>
        </p:nvPicPr>
        <p:blipFill>
          <a:blip r:embed="rId1"/>
          <a:stretch/>
        </p:blipFill>
        <p:spPr>
          <a:xfrm>
            <a:off x="1619280" y="14842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AGNEZIT - MgCO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Hrubě zrnitý bílý magnezit tvořící metasomatickou horninu.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  Sunk, Štýrsko, Rakousko. Velikost vzorku 9×6 cm.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  Sbírky Geologického pavilonu VŠB-TU Ostrava, foto J. Jirásek 2006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http://geologie.vsb.cz/loziska/suroviny/nerudy/magnezit%2001_resize.JPG"/>
          <p:cNvPicPr/>
          <p:nvPr/>
        </p:nvPicPr>
        <p:blipFill>
          <a:blip r:embed="rId1"/>
          <a:stretch/>
        </p:blipFill>
        <p:spPr>
          <a:xfrm>
            <a:off x="1476360" y="17733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AGNEZIT - MgCO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Žíla křídovitého bílého magnezitu.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  Bernartice u Vlašimi. Velikost vzorku 8×6 cm.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  Sbírky Geologického pavilonu VŠB-TU Ostrava, foto J. Jirásek 2006.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http://geologie.vsb.cz/loziska/suroviny/nerudy/magnezit%2002_resize.JPG"/>
          <p:cNvPicPr/>
          <p:nvPr/>
        </p:nvPicPr>
        <p:blipFill>
          <a:blip r:embed="rId1"/>
          <a:stretch/>
        </p:blipFill>
        <p:spPr>
          <a:xfrm>
            <a:off x="1619280" y="17733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Sideri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Složení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uhličitan železnatý, FeCO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Soustava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klencová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zhled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krystalovaný, kusový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Barva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hnědožlutý až tmavohnědý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ryp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bílý, žlutavý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Tvrdost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= 3,5 - 4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Hustota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= 3,8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Další vlastnosti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dokonalá štěpnost podle ploch klence (3 roviny štěpnosti), rozkládá se v běžných kyselinách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znik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krystalizací z roztoků na hydrotermálních rudních žilách, vysrážením z mořské vody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ýskyt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Příbram (hydrotermální), Nučice, Zdice, Kladensko (usazené horniny se sideritem)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oužití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železná ru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59280" y="274680"/>
            <a:ext cx="2449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Kalci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981000"/>
            <a:ext cx="86868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Složení: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uhličitan vápenatý, CaCO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200"/>
            </a:b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Soustava: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klencová </a:t>
            </a:r>
            <a:br>
              <a:rPr sz="2200"/>
            </a:b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Vzhled: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krystalovaný (typickým tvarem je klenec), kusový </a:t>
            </a:r>
            <a:br>
              <a:rPr sz="2200"/>
            </a:b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Barva: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bezbarvý (čirý), různá zbarvení příměsemi </a:t>
            </a:r>
            <a:br>
              <a:rPr sz="2200"/>
            </a:b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Vryp: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bílý </a:t>
            </a:r>
            <a:br>
              <a:rPr sz="2200"/>
            </a:b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Tvrdost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= 3 </a:t>
            </a:r>
            <a:br>
              <a:rPr sz="2200"/>
            </a:b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Hustota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= 2,7 </a:t>
            </a:r>
            <a:br>
              <a:rPr sz="2200"/>
            </a:b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Další vlastnosti: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dokonalá štěpnost podle ploch klence (3 roviny štěpnosti), rozkládá se v běžných kyselinách </a:t>
            </a:r>
            <a:br>
              <a:rPr sz="2200"/>
            </a:b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Vznik: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ze schránek mořských živočichů, vysrážením z vod (sladké i mořské) a z hydrotermálních roztoků </a:t>
            </a:r>
            <a:br>
              <a:rPr sz="2200"/>
            </a:b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Výskyt: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hydrotermální rudní žíly (Příbram), v dutinách čedičů (České středohoří), ve vápencích (Český a Moravský kras); Island (dvojlomný kalcit) </a:t>
            </a:r>
            <a:br>
              <a:rPr sz="2200"/>
            </a:b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Použití: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průmysl stavebních hmot (vápence, mramory), dekorační kámen, sochařství, potravinářský průmys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web.natur.cuni.cz/ugmnz/mineral/mineral/gifm/kalcit-4.gif"/>
          <p:cNvPicPr/>
          <p:nvPr/>
        </p:nvPicPr>
        <p:blipFill>
          <a:blip r:embed="rId1"/>
          <a:stretch/>
        </p:blipFill>
        <p:spPr>
          <a:xfrm>
            <a:off x="4140360" y="981000"/>
            <a:ext cx="952200" cy="561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://web.natur.cuni.cz/ugmnz/mineral/mineral/gifm/kalcit-1.gif"/>
          <p:cNvPicPr/>
          <p:nvPr/>
        </p:nvPicPr>
        <p:blipFill>
          <a:blip r:embed="rId2"/>
          <a:stretch/>
        </p:blipFill>
        <p:spPr>
          <a:xfrm>
            <a:off x="1403280" y="189000"/>
            <a:ext cx="952560" cy="657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web.natur.cuni.cz/ugmnz/mineral/mineral/gifm/kalcit-2.gif"/>
          <p:cNvPicPr/>
          <p:nvPr/>
        </p:nvPicPr>
        <p:blipFill>
          <a:blip r:embed="rId3"/>
          <a:stretch/>
        </p:blipFill>
        <p:spPr>
          <a:xfrm>
            <a:off x="2627280" y="41400"/>
            <a:ext cx="685800" cy="952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http://web.natur.cuni.cz/ugmnz/mineral/mineral/gifm/kalcit-3.gif"/>
          <p:cNvPicPr/>
          <p:nvPr/>
        </p:nvPicPr>
        <p:blipFill>
          <a:blip r:embed="rId4"/>
          <a:stretch/>
        </p:blipFill>
        <p:spPr>
          <a:xfrm>
            <a:off x="395280" y="12600"/>
            <a:ext cx="647640" cy="952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http://web.natur.cuni.cz/ugmnz/mineral/mineral/gifm/kalcit-4.gif"/>
          <p:cNvPicPr/>
          <p:nvPr/>
        </p:nvPicPr>
        <p:blipFill>
          <a:blip r:embed="rId5"/>
          <a:stretch/>
        </p:blipFill>
        <p:spPr>
          <a:xfrm>
            <a:off x="5092560" y="295200"/>
            <a:ext cx="952560" cy="561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http://web.natur.cuni.cz/ugmnz/mineral/mineral/gifm/kalcit-5.gif"/>
          <p:cNvPicPr/>
          <p:nvPr/>
        </p:nvPicPr>
        <p:blipFill>
          <a:blip r:embed="rId6"/>
          <a:stretch/>
        </p:blipFill>
        <p:spPr>
          <a:xfrm>
            <a:off x="6300720" y="100080"/>
            <a:ext cx="57168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iderit Příbram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http://web.natur.cuni.cz/ugmnz/mineral/mineral/fotv/siderit_4.jpg"/>
          <p:cNvPicPr/>
          <p:nvPr/>
        </p:nvPicPr>
        <p:blipFill>
          <a:blip r:embed="rId1"/>
          <a:stretch/>
        </p:blipFill>
        <p:spPr>
          <a:xfrm>
            <a:off x="1403280" y="14842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iderit Příbram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http://web.natur.cuni.cz/ugmnz/mineral/mineral/fotv/siderit_3.jpg"/>
          <p:cNvPicPr/>
          <p:nvPr/>
        </p:nvPicPr>
        <p:blipFill>
          <a:blip r:embed="rId1"/>
          <a:stretch/>
        </p:blipFill>
        <p:spPr>
          <a:xfrm>
            <a:off x="1476360" y="162864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iderit Rudňany Slovensk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http://web.natur.cuni.cz/ugmnz/mineral/mineral/fotv/siderit_1.jpg"/>
          <p:cNvPicPr/>
          <p:nvPr/>
        </p:nvPicPr>
        <p:blipFill>
          <a:blip r:embed="rId1"/>
          <a:stretch/>
        </p:blipFill>
        <p:spPr>
          <a:xfrm>
            <a:off x="1403280" y="155736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iderit Harz Německ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http://web.natur.cuni.cz/ugmnz/mineral/mineral/fotv/siderit_2.jpg"/>
          <p:cNvPicPr/>
          <p:nvPr/>
        </p:nvPicPr>
        <p:blipFill>
          <a:blip r:embed="rId1"/>
          <a:stretch/>
        </p:blipFill>
        <p:spPr>
          <a:xfrm>
            <a:off x="1403280" y="162864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IDERIT - FeCO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2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rúza tence tabulkovitých krystalů sideritu.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   Příbram. Velikost vzorku 9,5×8,5 cm.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   Sbírky Geologického pavilonu VŠB-TU Ostrava, foto J. Jirásek 2007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http://geologie.vsb.cz/loziska/suroviny/rudy/siderit%2003_resize.JPG"/>
          <p:cNvPicPr/>
          <p:nvPr/>
        </p:nvPicPr>
        <p:blipFill>
          <a:blip r:embed="rId1"/>
          <a:stretch/>
        </p:blipFill>
        <p:spPr>
          <a:xfrm>
            <a:off x="1476360" y="184464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IDERIT - FeCO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br>
              <a:rPr sz="22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rúza klencových krystalů sideritu porostlých mladším karbonátem.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   Příbram. Velikost vzorku 11×9 cm. 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   Sbírka J. Slámy, foto J. Jirásek 2006.</a:t>
            </a:r>
            <a:br>
              <a:rPr sz="1800"/>
            </a:b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http://geologie.vsb.cz/loziska/suroviny/rudy/siderit%2001_resize.JPG"/>
          <p:cNvPicPr/>
          <p:nvPr/>
        </p:nvPicPr>
        <p:blipFill>
          <a:blip r:embed="rId1"/>
          <a:stretch/>
        </p:blipFill>
        <p:spPr>
          <a:xfrm>
            <a:off x="1692360" y="162864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IDERIT - FeCO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br>
              <a:rPr sz="22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větle hnědý kusový siderit se zřetelnou klencovou štěpností.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   Rudňany, Slovensko. Velikost vzorku 6,5×5 cm.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   Sbírky Geologického pavilonu VŠB-TU Ostrava, foto J. Jirásek 2006.</a:t>
            </a:r>
            <a:br>
              <a:rPr sz="1800"/>
            </a:b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geologie.vsb.cz/loziska/suroviny/rudy/siderit%2002_resize.JPG"/>
          <p:cNvPicPr/>
          <p:nvPr/>
        </p:nvPicPr>
        <p:blipFill>
          <a:blip r:embed="rId1"/>
          <a:stretch/>
        </p:blipFill>
        <p:spPr>
          <a:xfrm>
            <a:off x="1835280" y="17733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Malachit a azuri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765000"/>
            <a:ext cx="9144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Složení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oba jsou zásadité uhličitany mědi, Cu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OH)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- malachit, Cu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[(OH)CO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- azurit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Soustava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jednoklonná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zhled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zpravidla práškovité nebo zemité kůry a povlaky s ledvinitým povrchem, malachit též jehličkovitý, azurit v drobných krystalcích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Barva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zelená až tmavě zelená - malachit, modrá - azurit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ryp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malachit - světle zelený, azurit - modrý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Tvrdost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= 3,5 - 4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Hustota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= 3,9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znik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zvětráváním rud mědi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ýskyt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Příbram, Podkrkonoší; Rusko (Ural), Namíbie, USA (Arizona)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oužití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ozdobné a šperkové kameny (zejména malachit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u</a:t>
            </a:r>
            <a:r>
              <a:rPr b="0" lang="cs-CZ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(OH)</a:t>
            </a:r>
            <a:r>
              <a:rPr b="0" lang="cs-CZ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cs-CZ" sz="4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- malach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web.natur.cuni.cz/ugmnz/mineral/mineral/fotv/malachit_1.jpg"/>
          <p:cNvPicPr/>
          <p:nvPr/>
        </p:nvPicPr>
        <p:blipFill>
          <a:blip r:embed="rId1"/>
          <a:stretch/>
        </p:blipFill>
        <p:spPr>
          <a:xfrm>
            <a:off x="1403280" y="14842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u</a:t>
            </a:r>
            <a:r>
              <a:rPr b="0" lang="cs-CZ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(OH)</a:t>
            </a:r>
            <a:r>
              <a:rPr b="0" lang="cs-CZ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cs-CZ" sz="4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- malach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http://web.natur.cuni.cz/ugmnz/mineral/mineral/fotv/malachit_3.jpg"/>
          <p:cNvPicPr/>
          <p:nvPr/>
        </p:nvPicPr>
        <p:blipFill>
          <a:blip r:embed="rId1"/>
          <a:stretch/>
        </p:blipFill>
        <p:spPr>
          <a:xfrm>
            <a:off x="1476360" y="14842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alc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web.natur.cuni.cz/ugmnz/mineral/mineral/gifm/kalcit-4.gif"/>
          <p:cNvPicPr/>
          <p:nvPr/>
        </p:nvPicPr>
        <p:blipFill>
          <a:blip r:embed="rId1"/>
          <a:stretch/>
        </p:blipFill>
        <p:spPr>
          <a:xfrm>
            <a:off x="250920" y="295200"/>
            <a:ext cx="952560" cy="561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://web.natur.cuni.cz/ugmnz/mineral/mineral/fotv/kalcit_4.jpg"/>
          <p:cNvPicPr/>
          <p:nvPr/>
        </p:nvPicPr>
        <p:blipFill>
          <a:blip r:embed="rId2"/>
          <a:stretch/>
        </p:blipFill>
        <p:spPr>
          <a:xfrm>
            <a:off x="1203480" y="14842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u</a:t>
            </a:r>
            <a:r>
              <a:rPr b="0" lang="cs-CZ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(OH)</a:t>
            </a:r>
            <a:r>
              <a:rPr b="0" lang="cs-CZ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cs-CZ" sz="4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- malach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http://web.natur.cuni.cz/ugmnz/mineral/mineral/fotv/malachit_2.jpg"/>
          <p:cNvPicPr/>
          <p:nvPr/>
        </p:nvPicPr>
        <p:blipFill>
          <a:blip r:embed="rId1"/>
          <a:stretch/>
        </p:blipFill>
        <p:spPr>
          <a:xfrm>
            <a:off x="1258920" y="155736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ALACHIT - Cu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(CO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)(OH)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Ledvinitý zelený malachit.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  M'sesa, Katanga, Kongo. Velikost vzorku 10×7 cm.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  Sbírky Geologického pavilonu VŠB-TU Ostrava, foto J. Jirásek 2006.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http://geologie.vsb.cz/loziska/suroviny/rudy/malachit%2003_resize.JPG"/>
          <p:cNvPicPr/>
          <p:nvPr/>
        </p:nvPicPr>
        <p:blipFill>
          <a:blip r:embed="rId1"/>
          <a:stretch/>
        </p:blipFill>
        <p:spPr>
          <a:xfrm>
            <a:off x="1619280" y="17733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ALACHIT - Cu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(CO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)(OH)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Leštěný řez zeleným malachitem s ledvinitou stavbou.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  Nižnyj Tagiľsk, Ural, Rusko. Velikost vzorku 6×4,5 cm.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  Sbírky Geologického pavilonu VŠB-TU Ostrava, foto J. Jirásek 2006.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http://geologie.vsb.cz/loziska/suroviny/rudy/malachit%2002_resize.JPG"/>
          <p:cNvPicPr/>
          <p:nvPr/>
        </p:nvPicPr>
        <p:blipFill>
          <a:blip r:embed="rId1"/>
          <a:stretch/>
        </p:blipFill>
        <p:spPr>
          <a:xfrm>
            <a:off x="1403280" y="17733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2472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ALACHIT - Cu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(CO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)(OH)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br>
              <a:rPr sz="2200"/>
            </a:b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Jehlicovitý agregát malachitu.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  Lipová-lázně, lom Smrčník. Velikost udána měřítkem na snímku.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  Sbírka J. Jiráska, foto J. Jirásek 2006.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http://geologie.vsb.cz/loziska/suroviny/rudy/malachit%2001_resize.jpg"/>
          <p:cNvPicPr/>
          <p:nvPr/>
        </p:nvPicPr>
        <p:blipFill>
          <a:blip r:embed="rId1"/>
          <a:stretch/>
        </p:blipFill>
        <p:spPr>
          <a:xfrm>
            <a:off x="1547640" y="206064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Jehlicovité krystaly malachitu v dutinách kalcitové žiloviny.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  Lipová-lázně, lom Smrčník. Velikost udána měřítkem na snímku.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  Sbírka J. Jiráska, foto J. Jirásek 2007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http://geologie.vsb.cz/loziska/suroviny/rudy/malachit%2004_resize.jpg"/>
          <p:cNvPicPr/>
          <p:nvPr/>
        </p:nvPicPr>
        <p:blipFill>
          <a:blip r:embed="rId1"/>
          <a:stretch/>
        </p:blipFill>
        <p:spPr>
          <a:xfrm>
            <a:off x="1619280" y="15573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u</a:t>
            </a:r>
            <a:r>
              <a:rPr b="0" lang="cs-CZ" sz="4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[(OH)CO</a:t>
            </a:r>
            <a:r>
              <a:rPr b="0" lang="cs-CZ" sz="4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cs-CZ" sz="4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- azurit </a:t>
            </a: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Bisbee, Arizona, US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web.natur.cuni.cz/ugmnz/mineral/mineral/fotv/azurit_1.jpg"/>
          <p:cNvPicPr/>
          <p:nvPr/>
        </p:nvPicPr>
        <p:blipFill>
          <a:blip r:embed="rId1"/>
          <a:stretch/>
        </p:blipFill>
        <p:spPr>
          <a:xfrm>
            <a:off x="1332000" y="155736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u</a:t>
            </a:r>
            <a:r>
              <a:rPr b="0" lang="cs-CZ" sz="4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[(OH)CO</a:t>
            </a:r>
            <a:r>
              <a:rPr b="0" lang="cs-CZ" sz="4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cs-CZ" sz="4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– azurit </a:t>
            </a: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Chessy, Francie</a:t>
            </a: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2" descr="http://web.natur.cuni.cz/ugmnz/mineral/mineral/fotv/azurit_2.jpg"/>
          <p:cNvPicPr/>
          <p:nvPr/>
        </p:nvPicPr>
        <p:blipFill>
          <a:blip r:embed="rId1"/>
          <a:stretch/>
        </p:blipFill>
        <p:spPr>
          <a:xfrm>
            <a:off x="1258920" y="155736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u</a:t>
            </a:r>
            <a:r>
              <a:rPr b="0" lang="cs-CZ" sz="4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[(OH)CO</a:t>
            </a:r>
            <a:r>
              <a:rPr b="0" lang="cs-CZ" sz="4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cs-CZ" sz="4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- azurit </a:t>
            </a: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Moldava, Rumunsk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http://web.natur.cuni.cz/ugmnz/mineral/mineral/fotv/azurit_3.jpg"/>
          <p:cNvPicPr/>
          <p:nvPr/>
        </p:nvPicPr>
        <p:blipFill>
          <a:blip r:embed="rId1"/>
          <a:stretch/>
        </p:blipFill>
        <p:spPr>
          <a:xfrm>
            <a:off x="1403280" y="17002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ZURIT - Cu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(CO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(OH)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Bohatý agregát modrých růžic tabulek azuritu.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  Špania Dolina - Piesky, Slovensko. Velikost vzorku 9×6,5 cm.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  Sbírka J. Jiráska, foto J. Jirásek 2006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2" descr="http://geologie.vsb.cz/loziska/suroviny/rudy/azurit%2002_resize.jpg"/>
          <p:cNvPicPr/>
          <p:nvPr/>
        </p:nvPicPr>
        <p:blipFill>
          <a:blip r:embed="rId1"/>
          <a:stretch/>
        </p:blipFill>
        <p:spPr>
          <a:xfrm>
            <a:off x="1476360" y="170028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ZURIT - Cu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(CO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(OH)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Bohatý agregát modrých růžic tabulek azuritu.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  Špania Dolina - Piesky, Slovensko. Velikost vzorku 9×6,5 cm.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  Sbírka J. Jiráska, foto J. Jirásek 2006. detail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http://geologie.vsb.cz/loziska/suroviny/rudy/azurit%2003_resize.JPG"/>
          <p:cNvPicPr/>
          <p:nvPr/>
        </p:nvPicPr>
        <p:blipFill>
          <a:blip r:embed="rId1"/>
          <a:stretch/>
        </p:blipFill>
        <p:spPr>
          <a:xfrm>
            <a:off x="1835280" y="17733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alcit Isl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geologie.vsb.cz/loziska/suroviny/nerudy/kalcit%2001_resize.JPG"/>
          <p:cNvPicPr/>
          <p:nvPr/>
        </p:nvPicPr>
        <p:blipFill>
          <a:blip r:embed="rId1"/>
          <a:stretch/>
        </p:blipFill>
        <p:spPr>
          <a:xfrm>
            <a:off x="1547640" y="148428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ZURIT - Cu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(CO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(OH)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gregát modrých tabulek azuritu se kulovitými útvary zeleného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  malachitu. Špania Dolina - Piesky, Slovensko. Velikost udána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  měřítkem na snímku.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  Sbírka J. Jiráska, foto J. Jirásek 2006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http://geologie.vsb.cz/loziska/suroviny/rudy/azurit%2001_resize.jpg"/>
          <p:cNvPicPr/>
          <p:nvPr/>
        </p:nvPicPr>
        <p:blipFill>
          <a:blip r:embed="rId1"/>
          <a:stretch/>
        </p:blipFill>
        <p:spPr>
          <a:xfrm>
            <a:off x="1619280" y="222876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ZURIT - Cu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(CO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(OH)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rúza temně modrých tabulkovitých krystalů azuritu.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  Chessy-les-Mines, Francie. Velikost vzorku 5×3,5 cm.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  Sbírky Geologického pavilonu VŠB-TU Ostrava, foto J. Jirásek 2006.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http://geologie.vsb.cz/loziska/suroviny/rudy/azurit%2004_resize.JPG"/>
          <p:cNvPicPr/>
          <p:nvPr/>
        </p:nvPicPr>
        <p:blipFill>
          <a:blip r:embed="rId1"/>
          <a:stretch/>
        </p:blipFill>
        <p:spPr>
          <a:xfrm>
            <a:off x="1979640" y="17733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Kalcit </a:t>
            </a: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Andreasberg, Harz, Německ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ttp://web.natur.cuni.cz/ugmnz/mineral/mineral/fotv/kalcit_1.jpg"/>
          <p:cNvPicPr/>
          <p:nvPr/>
        </p:nvPicPr>
        <p:blipFill>
          <a:blip r:embed="rId1"/>
          <a:stretch/>
        </p:blipFill>
        <p:spPr>
          <a:xfrm>
            <a:off x="1332000" y="134136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alcit </a:t>
            </a: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Čertovy schody u Koněpr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web.natur.cuni.cz/ugmnz/mineral/mineral/fotv/kalcit_2.jpg"/>
          <p:cNvPicPr/>
          <p:nvPr/>
        </p:nvPicPr>
        <p:blipFill>
          <a:blip r:embed="rId1"/>
          <a:stretch/>
        </p:blipFill>
        <p:spPr>
          <a:xfrm>
            <a:off x="1258920" y="1413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alcit </a:t>
            </a: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Saska, Rumunsk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http://web.natur.cuni.cz/ugmnz/mineral/mineral/fotv/kalcit_5.jpg"/>
          <p:cNvPicPr/>
          <p:nvPr/>
        </p:nvPicPr>
        <p:blipFill>
          <a:blip r:embed="rId1"/>
          <a:stretch/>
        </p:blipFill>
        <p:spPr>
          <a:xfrm>
            <a:off x="1258920" y="162864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alcit Hluboče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://web.natur.cuni.cz/ugmnz/mineral/mineral/fotv/kalcit_3.jpg"/>
          <p:cNvPicPr/>
          <p:nvPr/>
        </p:nvPicPr>
        <p:blipFill>
          <a:blip r:embed="rId1"/>
          <a:stretch/>
        </p:blipFill>
        <p:spPr>
          <a:xfrm>
            <a:off x="1187280" y="162864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2T23:19:43Z</dcterms:created>
  <dc:creator>Tomáš Kočí</dc:creator>
  <dc:description/>
  <dc:language>en-US</dc:language>
  <cp:lastModifiedBy>stercl</cp:lastModifiedBy>
  <dcterms:modified xsi:type="dcterms:W3CDTF">2015-04-26T16:46:12Z</dcterms:modified>
  <cp:revision>10</cp:revision>
  <dc:subject/>
  <dc:title>Systém minerálů V Uhličitany</dc:title>
</cp:coreProperties>
</file>