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1B8A-4E64-46B5-BB8D-880F1361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416-71A6-472A-A5B6-09DF406A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FD0-D69C-4EF4-A723-DDFF9CD6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E84-3CCE-4049-8972-0B062727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0F5-8501-4A1E-88EF-53DDD1C4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41F-CD47-4AA0-A8A8-C6ECB93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A9B-340D-487C-99A9-9C6982FA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8F8-9F7D-44B5-A10C-80BD8DEC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F762-DC26-4283-835E-6B430A8A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8DCD-F5F2-4194-9AFA-9F01A368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90B-C795-4564-9DE6-63546F0A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303-36A2-4C0B-94DE-3AC8C62B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92B2-54A9-405F-91BB-72D0CF2591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úza typických krychlových krystalů hal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Bochnia, Polsko. Velikost vzorku 13×10 cm. 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geologie.vsb.cz/loziska/suroviny/nerudy/halit%2004_resize.JPG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rúza čirých krychlových krystalů halitu s bílým anhydrite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Bochnia, Polsko. Velikost vzorku 8×7 cm. 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geologie.vsb.cz/loziska/suroviny/nerudy/halit%2005_resize.JPG"/>
          <p:cNvPicPr/>
          <p:nvPr/>
        </p:nvPicPr>
        <p:blipFill>
          <a:blip r:embed="rId1"/>
          <a:stretch/>
        </p:blipFill>
        <p:spPr>
          <a:xfrm>
            <a:off x="1619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ychlový krystal halitu porostlý drobnějšími krystaly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Bochnia, Polsko. Velikost vzorku 4,5×3,5 cm. 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geologie.vsb.cz/loziska/suroviny/nerudy/halit%2003_resize.jpg"/>
          <p:cNvPicPr/>
          <p:nvPr/>
        </p:nvPicPr>
        <p:blipFill>
          <a:blip r:embed="rId1"/>
          <a:stretch/>
        </p:blipFill>
        <p:spPr>
          <a:xfrm>
            <a:off x="147636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lvín KC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aselné soli se z 90 - 95 % používají jako hnojivo, buď přímo, nebo po úpravě. Jen několik procent se používá v chemickém průmyslu k produkci draselných sloučenin (chlorid, dusičnan, uhličitan, manganistan aj.)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ylvín KCl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ychlový průhledný krystal sylvínu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Kalusa (dříve Kalusz), Ukrajina. Velikost vzorku 6,5×5,5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geologie.vsb.cz/loziska/suroviny/nerudy/sylv%C3%ADn%2002_resize.JPG"/>
          <p:cNvPicPr/>
          <p:nvPr/>
        </p:nvPicPr>
        <p:blipFill>
          <a:blip r:embed="rId1"/>
          <a:stretch/>
        </p:blipFill>
        <p:spPr>
          <a:xfrm>
            <a:off x="147636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usový průhledný skelně lesklý sylvín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Kalusa (dříve Kalusz), Ukrajina. Velikost vzorku 8,5×6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geologie.vsb.cz/loziska/suroviny/nerudy/sylv%C3%ADn%2001_resize.JPG"/>
          <p:cNvPicPr/>
          <p:nvPr/>
        </p:nvPicPr>
        <p:blipFill>
          <a:blip r:embed="rId1"/>
          <a:stretch/>
        </p:blipFill>
        <p:spPr>
          <a:xfrm>
            <a:off x="1547640" y="1484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měs čirého halitu a červeně zbarveného sylvín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Buggingen, Bádensko-Württembersko, Německo. Velikost vzorku 12×9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Mineralogicko-petrografického oddělení Moravského zemského 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muzea v Brně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geologie.vsb.cz/loziska/suroviny/nerudy/sylv%C3%ADn%2003_resize.JPG"/>
          <p:cNvPicPr/>
          <p:nvPr/>
        </p:nvPicPr>
        <p:blipFill>
          <a:blip r:embed="rId1"/>
          <a:stretch/>
        </p:blipFill>
        <p:spPr>
          <a:xfrm>
            <a:off x="1476360" y="23493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ARNALLIT - KMgCl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· 6 H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rnitý růžový carnallit. Jako silně hygroskopický minerál pohlcuje vzduš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vlhkost a rychle se rozpadá (vznik bílého povlaku)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Kłodawa, Polsko. Velikost vzorku 8×6 c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geologie.vsb.cz/loziska/suroviny/nerudy/carnallit%2001_resize.JPG"/>
          <p:cNvPicPr/>
          <p:nvPr/>
        </p:nvPicPr>
        <p:blipFill>
          <a:blip r:embed="rId1"/>
          <a:stretch/>
        </p:blipFill>
        <p:spPr>
          <a:xfrm>
            <a:off x="1547640" y="222876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Fluorit Kazivec CaF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fluorid vápenatý, CaF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krychlová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nejčastěji krystaly tvaru krychle, zrnitý, kusový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nejčastěji zelený, fialový, v odstínech mezi žlutou a hnědou, též bezbarvý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= 4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= 3,2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dokonalá štěpnost podle ploch osmistěnu (4 roviny štěpnosti)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 horkých roztoků na hydrotermálních žilách (někdy spolu s barytem)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Krušné hory, Harrachov, Kožlí u Ledče nad Sázavou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surovina pro výrobu sloučenin fluoru; příměs při tavení rud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starý český název pro fluorit je kazive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web.natur.cuni.cz/ugmnz/mineral/mineral/gifm/fluorit-1.gif"/>
          <p:cNvPicPr/>
          <p:nvPr/>
        </p:nvPicPr>
        <p:blipFill>
          <a:blip r:embed="rId1"/>
          <a:stretch/>
        </p:blipFill>
        <p:spPr>
          <a:xfrm>
            <a:off x="4211640" y="1125360"/>
            <a:ext cx="952560" cy="924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eb.natur.cuni.cz/ugmnz/mineral/mineral/gifm/fluorit-2.gif"/>
          <p:cNvPicPr/>
          <p:nvPr/>
        </p:nvPicPr>
        <p:blipFill>
          <a:blip r:embed="rId2"/>
          <a:stretch/>
        </p:blipFill>
        <p:spPr>
          <a:xfrm>
            <a:off x="5508720" y="1104840"/>
            <a:ext cx="952560" cy="94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voj&amp;ccaron;e"/>
          <p:cNvPicPr/>
          <p:nvPr/>
        </p:nvPicPr>
        <p:blipFill>
          <a:blip r:embed="rId3"/>
          <a:stretch/>
        </p:blipFill>
        <p:spPr>
          <a:xfrm>
            <a:off x="6875640" y="1125360"/>
            <a:ext cx="933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Fluorit Kazivec CaF</a:t>
            </a:r>
            <a:r>
              <a:rPr b="0" lang="cs-CZ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560" y="1052640"/>
            <a:ext cx="9109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kazivce - fluoritu (min. 97 % Ca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e vyrábí kyselina fluorovodíková, která se používá při leptání nerezových ocelí, v petrochemickém, sklářském průmyslu, elektronice, vrtání a jako meziprodukt při výrobě dalších sloučenin fluoru (freony, teflon). Metalurgický fluorit (60 - 85 % Ca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do 15 % Si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) se používá jako tavivo v metalurgii železa i oceli, fluorit prostřední kvality (85 - 95 % Ca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2,5 - 3,0 Si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1,0 - 1,5 % Ca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minimum Fe, Pb, Zn) je používán jako tavivo v keramice a přísada do bílého a opálového skla a emailů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luor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má všestranné použití v chemickém průmyslu. Používá se v inertních fluorovaných olejích, mazacích tucích a polymerech. Freony se používaly v chladírenství a jako hnací plyny v tlakových rozprašovačích. Dnes je snaha nahrazovat je jinými látkami, protože poškozují ozónovou vrstvu atmosféry. Polytetrafluoretylen (PTFE, Teflon) je plastický polymer s dobrými smykovými vlastnostmi a odolný vyšším teplotám. Největší část vyrobeného fluoru se používá k přípravě sloučeniny U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á slouží k separaci izotopů uranu v plynném stavu, použití pro obohacování paliva jaderných reaktorů. Fluorovodík HF (bezvodý) je velmi toxický. Používá se na výrobu syntetického kryolitu, který při výrobě hliníku výrazně snižuje teplotu tavení rudy, a tím šetří energii. Dále se používá jako katalyzátor při alkylaci ropy, k úpravě povrchů korozivzdorných ocelí, k výrobě kyselých pracích a čistících prostředků. Kyselina fluorovodíková HF (vodný roztok) se používá při leptání skla. Fluor je považován za perspektivní oxidační činidlo pro raketová paliva, dnes se ale k tomuto účelu nepoužívá. Fluorid sodný NaF se používá k fluorizaci vody, konzervování dřeva, výrobě insekticidů a fungicidů. Ca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e přidává do zubních past k prevenci tvorby zubního kazu. Tetraflouroboritany se uplatňují při elektrickém pokovování.  Jako tavivo v keramice a přísada do bílého a opálového skla a emailů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ystém minerálů III Halogeni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5876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Halit NaCl, Sylvín KCl, Karnalit, Fluorit CaF</a:t>
            </a:r>
            <a:r>
              <a:rPr b="0" lang="cs-CZ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eb.natur.cuni.cz/ugmnz/mineral/mineral/fotv/fluorit_7.jpg"/>
          <p:cNvPicPr/>
          <p:nvPr/>
        </p:nvPicPr>
        <p:blipFill>
          <a:blip r:embed="rId1"/>
          <a:stretch/>
        </p:blipFill>
        <p:spPr>
          <a:xfrm>
            <a:off x="5999040" y="2924280"/>
            <a:ext cx="3144960" cy="2359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geologie.vsb.cz/loziska/suroviny/nerudy/halit%2005_resize.JPG"/>
          <p:cNvPicPr/>
          <p:nvPr/>
        </p:nvPicPr>
        <p:blipFill>
          <a:blip r:embed="rId2"/>
          <a:stretch/>
        </p:blipFill>
        <p:spPr>
          <a:xfrm>
            <a:off x="4680" y="2957400"/>
            <a:ext cx="316728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geologie.vsb.cz/loziska/suroviny/nerudy/sylv%C3%ADn%2001_resize.JPG"/>
          <p:cNvPicPr/>
          <p:nvPr/>
        </p:nvPicPr>
        <p:blipFill>
          <a:blip r:embed="rId3"/>
          <a:stretch/>
        </p:blipFill>
        <p:spPr>
          <a:xfrm>
            <a:off x="3171960" y="3060720"/>
            <a:ext cx="28922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luorit Kazivec CaF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. Drúza krychlových tmavě fialových průsvitných krystalů fluoritu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Důl Cuetu l'Aspa, Španělsko. Velikost vzorku 6,5×7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geologie.vsb.cz/loziska/suroviny/nerudy/fluorit%2004_resize.JPG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eb.natur.cuni.cz/ugmnz/mineral/mineral/gifm/fluorit-1.gif"/>
          <p:cNvPicPr/>
          <p:nvPr/>
        </p:nvPicPr>
        <p:blipFill>
          <a:blip r:embed="rId2"/>
          <a:stretch/>
        </p:blipFill>
        <p:spPr>
          <a:xfrm>
            <a:off x="324000" y="1879560"/>
            <a:ext cx="952200" cy="924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eb.natur.cuni.cz/ugmnz/mineral/mineral/gifm/fluorit-2.gif"/>
          <p:cNvPicPr/>
          <p:nvPr/>
        </p:nvPicPr>
        <p:blipFill>
          <a:blip r:embed="rId3"/>
          <a:stretch/>
        </p:blipFill>
        <p:spPr>
          <a:xfrm>
            <a:off x="324000" y="3078000"/>
            <a:ext cx="952200" cy="94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dvoj&amp;ccaron;e"/>
          <p:cNvPicPr/>
          <p:nvPr/>
        </p:nvPicPr>
        <p:blipFill>
          <a:blip r:embed="rId4"/>
          <a:stretch/>
        </p:blipFill>
        <p:spPr>
          <a:xfrm>
            <a:off x="343080" y="4365720"/>
            <a:ext cx="933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lené osmistěny fluoritu s kalcitem na křemeni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Obří důl. Velikost vzorku 12×9 cm. 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Slámy, foto J. Jirásek 2006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geologie.vsb.cz/loziska/suroviny/nerudy/fluorit%2001_resize.JPG"/>
          <p:cNvPicPr/>
          <p:nvPr/>
        </p:nvPicPr>
        <p:blipFill>
          <a:blip r:embed="rId1"/>
          <a:stretch/>
        </p:blipFill>
        <p:spPr>
          <a:xfrm>
            <a:off x="1619280" y="155736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voj&amp;ccaron;e"/>
          <p:cNvPicPr/>
          <p:nvPr/>
        </p:nvPicPr>
        <p:blipFill>
          <a:blip r:embed="rId2"/>
          <a:stretch/>
        </p:blipFill>
        <p:spPr>
          <a:xfrm>
            <a:off x="312840" y="4508640"/>
            <a:ext cx="933480" cy="952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http://web.natur.cuni.cz/ugmnz/mineral/mineral/gifm/fluorit-2.gif"/>
          <p:cNvPicPr/>
          <p:nvPr/>
        </p:nvPicPr>
        <p:blipFill>
          <a:blip r:embed="rId3"/>
          <a:stretch/>
        </p:blipFill>
        <p:spPr>
          <a:xfrm>
            <a:off x="324000" y="3078000"/>
            <a:ext cx="952200" cy="9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http://web.natur.cuni.cz/ugmnz/mineral/mineral/gifm/fluorit-1.gif"/>
          <p:cNvPicPr/>
          <p:nvPr/>
        </p:nvPicPr>
        <p:blipFill>
          <a:blip r:embed="rId4"/>
          <a:stretch/>
        </p:blipFill>
        <p:spPr>
          <a:xfrm>
            <a:off x="324000" y="1879560"/>
            <a:ext cx="95220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lené osmistěny fluoritu s kalcitem na křemeni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Obří důl. Velikost vzorku 12×9 cm. 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a J. Slámy, foto J. Jirásek 2006.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tail předchozího snímku, velikost krystalu 1,7 cm.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geologie.vsb.cz/loziska/suroviny/nerudy/fluorit%2002_resize.JPG"/>
          <p:cNvPicPr/>
          <p:nvPr/>
        </p:nvPicPr>
        <p:blipFill>
          <a:blip r:embed="rId1"/>
          <a:stretch/>
        </p:blipFill>
        <p:spPr>
          <a:xfrm>
            <a:off x="1476360" y="18446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eb.natur.cuni.cz/ugmnz/mineral/mineral/gifm/fluorit-1.gif"/>
          <p:cNvPicPr/>
          <p:nvPr/>
        </p:nvPicPr>
        <p:blipFill>
          <a:blip r:embed="rId2"/>
          <a:stretch/>
        </p:blipFill>
        <p:spPr>
          <a:xfrm>
            <a:off x="324000" y="1879560"/>
            <a:ext cx="952200" cy="924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web.natur.cuni.cz/ugmnz/mineral/mineral/gifm/fluorit-2.gif"/>
          <p:cNvPicPr/>
          <p:nvPr/>
        </p:nvPicPr>
        <p:blipFill>
          <a:blip r:embed="rId3"/>
          <a:stretch/>
        </p:blipFill>
        <p:spPr>
          <a:xfrm>
            <a:off x="324000" y="3078000"/>
            <a:ext cx="952200" cy="9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voj&amp;ccaron;e"/>
          <p:cNvPicPr/>
          <p:nvPr/>
        </p:nvPicPr>
        <p:blipFill>
          <a:blip r:embed="rId4"/>
          <a:stretch/>
        </p:blipFill>
        <p:spPr>
          <a:xfrm>
            <a:off x="312840" y="4508640"/>
            <a:ext cx="933480" cy="952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web.natur.cuni.cz/ugmnz/mineral/mineral/fotv/fluorit_7.jpg"/>
          <p:cNvPicPr/>
          <p:nvPr/>
        </p:nvPicPr>
        <p:blipFill>
          <a:blip r:embed="rId5"/>
          <a:stretch/>
        </p:blipFill>
        <p:spPr>
          <a:xfrm>
            <a:off x="7475400" y="92160"/>
            <a:ext cx="1570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lokoule páskovaného fluoritu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Jílové u Děčína. Velikost vzorku 11×8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geologie.vsb.cz/loziska/suroviny/nerudy/fluorit%2003_resize.JPG"/>
          <p:cNvPicPr/>
          <p:nvPr/>
        </p:nvPicPr>
        <p:blipFill>
          <a:blip r:embed="rId1"/>
          <a:stretch/>
        </p:blipFill>
        <p:spPr>
          <a:xfrm>
            <a:off x="1476360" y="141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aolinizovaná rula s patrnou původní plošně paralelní texturou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Yaogangxian Mine, Hunan, Čína. Velikost vzorku 9×8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geologie.vsb.cz/loziska/suroviny/nerudy/fluorit%2005_resize.JPG"/>
          <p:cNvPicPr/>
          <p:nvPr/>
        </p:nvPicPr>
        <p:blipFill>
          <a:blip r:embed="rId1"/>
          <a:stretch/>
        </p:blipFill>
        <p:spPr>
          <a:xfrm>
            <a:off x="176364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aolinizovaná rula s patrnou původní plošně paralelní texturou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Yaogangxian Mine, Hunan, Čína. Velikost vzorku 9×8 cm.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tail předchozího vzorku, velikost agregátu 3,5×3,5 cm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geologie.vsb.cz/loziska/suroviny/nerudy/fluorit%2006_resize.JPG"/>
          <p:cNvPicPr/>
          <p:nvPr/>
        </p:nvPicPr>
        <p:blipFill>
          <a:blip r:embed="rId1"/>
          <a:stretch/>
        </p:blipFill>
        <p:spPr>
          <a:xfrm>
            <a:off x="176364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smistěn fluori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http://web.natur.cuni.cz/ugmnz/mineral/mineral/fotv/fluorit_7.jpg"/>
          <p:cNvPicPr/>
          <p:nvPr/>
        </p:nvPicPr>
        <p:blipFill>
          <a:blip r:embed="rId1"/>
          <a:stretch/>
        </p:blipFill>
        <p:spPr>
          <a:xfrm>
            <a:off x="826920" y="87156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Alston Moore, Angl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web.natur.cuni.cz/ugmnz/mineral/mineral/fotv/fluorit_1.jpg"/>
          <p:cNvPicPr/>
          <p:nvPr/>
        </p:nvPicPr>
        <p:blipFill>
          <a:blip r:embed="rId1"/>
          <a:stretch/>
        </p:blipFill>
        <p:spPr>
          <a:xfrm>
            <a:off x="1692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erbyshire, Angl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eb.natur.cuni.cz/ugmnz/mineral/mineral/fotv/fluorit_2.jpg"/>
          <p:cNvPicPr/>
          <p:nvPr/>
        </p:nvPicPr>
        <p:blipFill>
          <a:blip r:embed="rId1"/>
          <a:stretch/>
        </p:blipFill>
        <p:spPr>
          <a:xfrm>
            <a:off x="133200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erbyshire, Angl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web.natur.cuni.cz/ugmnz/mineral/mineral/fotv/fluorit_3.jpg"/>
          <p:cNvPicPr/>
          <p:nvPr/>
        </p:nvPicPr>
        <p:blipFill>
          <a:blip r:embed="rId1"/>
          <a:stretch/>
        </p:blipFill>
        <p:spPr>
          <a:xfrm>
            <a:off x="125892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0403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alit sůl kamenná NaC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emický průmysl spotřebovává 50 - 60 % těžby soli na výrobu různých sloučenin (chlor, kyselina chlorovodíková, chloridy aj.). Asi 20 % spotřebovává potravinářský průmysl a konzervárenství. Další použití je jako posypový materiál vozovek, v zemědělství a v papírenském a farmaceutickém průmyslu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chlov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y tvaru krychle, vláknitá, zrnit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bezbarvý nebo zbarvený šedě, modře, červeně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2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2,2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elmi dokonalá štěpnost podle ploch krychle (tj. ve 3 navzájem kolmých směrech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ypařováním mořské vody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lovensko - Solivar u Prešova, Polsko (Wieliczka), Rakousko (Alpy), Německo, Ukrajina (Solotvino).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potravinářský a chemický průmysl, fyziologický roztok.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ospělý člověk zkonzumuje ročně až 7,5 kg s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eb.natur.cuni.cz/ugmnz/mineral/mineral/gifm/halit-1.gif"/>
          <p:cNvPicPr/>
          <p:nvPr/>
        </p:nvPicPr>
        <p:blipFill>
          <a:blip r:embed="rId1"/>
          <a:stretch/>
        </p:blipFill>
        <p:spPr>
          <a:xfrm>
            <a:off x="6732720" y="2205000"/>
            <a:ext cx="9522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web.natur.cuni.cz/ugmnz/mineral/mineral/gifm/halit-2.gif"/>
          <p:cNvPicPr/>
          <p:nvPr/>
        </p:nvPicPr>
        <p:blipFill>
          <a:blip r:embed="rId2"/>
          <a:stretch/>
        </p:blipFill>
        <p:spPr>
          <a:xfrm>
            <a:off x="7885080" y="220500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struktura"/>
          <p:cNvPicPr/>
          <p:nvPr/>
        </p:nvPicPr>
        <p:blipFill>
          <a:blip r:embed="rId3"/>
          <a:stretch/>
        </p:blipFill>
        <p:spPr>
          <a:xfrm>
            <a:off x="6732720" y="328464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alit, Wieliczka"/>
          <p:cNvPicPr/>
          <p:nvPr/>
        </p:nvPicPr>
        <p:blipFill>
          <a:blip r:embed="rId4"/>
          <a:stretch/>
        </p:blipFill>
        <p:spPr>
          <a:xfrm>
            <a:off x="7819920" y="3254400"/>
            <a:ext cx="13017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Freiberg, Sasko, Němec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eb.natur.cuni.cz/ugmnz/mineral/mineral/fotv/fluorit_4.jpg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rienberg, Sasko, Německ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web.natur.cuni.cz/ugmnz/mineral/mineral/fotv/fluorit_6.jpg"/>
          <p:cNvPicPr/>
          <p:nvPr/>
        </p:nvPicPr>
        <p:blipFill>
          <a:blip r:embed="rId1"/>
          <a:stretch/>
        </p:blipFill>
        <p:spPr>
          <a:xfrm>
            <a:off x="1403280" y="141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žlí u Ledče nad Sázav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eb.natur.cuni.cz/ugmnz/mineral/mineral/fotv/fluorit_5.jpg"/>
          <p:cNvPicPr/>
          <p:nvPr/>
        </p:nvPicPr>
        <p:blipFill>
          <a:blip r:embed="rId1"/>
          <a:stretch/>
        </p:blipFill>
        <p:spPr>
          <a:xfrm>
            <a:off x="1476360" y="1557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luorit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rchoslav u Tepl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web.natur.cuni.cz/ugmnz/mineral/mineral/fotv/fluorit_8.jpg"/>
          <p:cNvPicPr/>
          <p:nvPr/>
        </p:nvPicPr>
        <p:blipFill>
          <a:blip r:embed="rId1"/>
          <a:stretch/>
        </p:blipFill>
        <p:spPr>
          <a:xfrm>
            <a:off x="1476360" y="1484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alit sůl kamenná NaC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eb.natur.cuni.cz/ugmnz/mineral/mineral/fotv/halit_1.jpg"/>
          <p:cNvPicPr/>
          <p:nvPr/>
        </p:nvPicPr>
        <p:blipFill>
          <a:blip r:embed="rId1"/>
          <a:stretch/>
        </p:blipFill>
        <p:spPr>
          <a:xfrm>
            <a:off x="1763640" y="1052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ovéPole 3"/>
          <p:cNvSpPr/>
          <p:nvPr/>
        </p:nvSpPr>
        <p:spPr>
          <a:xfrm>
            <a:off x="542160" y="62373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ieliczka Polsk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web.natur.cuni.cz/ugmnz/mineral/mineral/gifm/halit-1.gif"/>
          <p:cNvPicPr/>
          <p:nvPr/>
        </p:nvPicPr>
        <p:blipFill>
          <a:blip r:embed="rId2"/>
          <a:stretch/>
        </p:blipFill>
        <p:spPr>
          <a:xfrm>
            <a:off x="250920" y="10144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eb.natur.cuni.cz/ugmnz/mineral/mineral/gifm/halit-2.gif"/>
          <p:cNvPicPr/>
          <p:nvPr/>
        </p:nvPicPr>
        <p:blipFill>
          <a:blip r:embed="rId3"/>
          <a:stretch/>
        </p:blipFill>
        <p:spPr>
          <a:xfrm>
            <a:off x="324000" y="2205000"/>
            <a:ext cx="9522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struktura"/>
          <p:cNvPicPr/>
          <p:nvPr/>
        </p:nvPicPr>
        <p:blipFill>
          <a:blip r:embed="rId4"/>
          <a:stretch/>
        </p:blipFill>
        <p:spPr>
          <a:xfrm>
            <a:off x="324000" y="3338640"/>
            <a:ext cx="9522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alit NaCl Wielic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eb.natur.cuni.cz/ugmnz/mineral/mineral/fotv/halit_2.jpg"/>
          <p:cNvPicPr/>
          <p:nvPr/>
        </p:nvPicPr>
        <p:blipFill>
          <a:blip r:embed="rId1"/>
          <a:stretch/>
        </p:blipFill>
        <p:spPr>
          <a:xfrm>
            <a:off x="1476360" y="17002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struktura"/>
          <p:cNvPicPr/>
          <p:nvPr/>
        </p:nvPicPr>
        <p:blipFill>
          <a:blip r:embed="rId2"/>
          <a:stretch/>
        </p:blipFill>
        <p:spPr>
          <a:xfrm>
            <a:off x="247680" y="515772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web.natur.cuni.cz/ugmnz/mineral/mineral/gifm/halit-2.gif"/>
          <p:cNvPicPr/>
          <p:nvPr/>
        </p:nvPicPr>
        <p:blipFill>
          <a:blip r:embed="rId3"/>
          <a:stretch/>
        </p:blipFill>
        <p:spPr>
          <a:xfrm>
            <a:off x="250920" y="3716280"/>
            <a:ext cx="95256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eb.natur.cuni.cz/ugmnz/mineral/mineral/gifm/halit-1.gif"/>
          <p:cNvPicPr/>
          <p:nvPr/>
        </p:nvPicPr>
        <p:blipFill>
          <a:blip r:embed="rId4"/>
          <a:stretch/>
        </p:blipFill>
        <p:spPr>
          <a:xfrm>
            <a:off x="250920" y="2276640"/>
            <a:ext cx="952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alit Aussee u Salzburgu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eb.natur.cuni.cz/ugmnz/mineral/mineral/fotv/halit_3.jpg"/>
          <p:cNvPicPr/>
          <p:nvPr/>
        </p:nvPicPr>
        <p:blipFill>
          <a:blip r:embed="rId1"/>
          <a:stretch/>
        </p:blipFill>
        <p:spPr>
          <a:xfrm>
            <a:off x="183528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ébelnatý halit Bochnia v Pols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eb.natur.cuni.cz/ugmnz/mineral/mineral/fotv/halit_4.jpg"/>
          <p:cNvPicPr/>
          <p:nvPr/>
        </p:nvPicPr>
        <p:blipFill>
          <a:blip r:embed="rId1"/>
          <a:stretch/>
        </p:blipFill>
        <p:spPr>
          <a:xfrm>
            <a:off x="1763640" y="1773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560" y="476280"/>
            <a:ext cx="86518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alit sůl kamenná NaCl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ůhledný krystal halitu na jílovci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Wieliczka, Polsko. Velikost krystalu 6×3,3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geologie.vsb.cz/loziska/suroviny/nerudy/halit%2001_resize.JPG"/>
          <p:cNvPicPr/>
          <p:nvPr/>
        </p:nvPicPr>
        <p:blipFill>
          <a:blip r:embed="rId1"/>
          <a:stretch/>
        </p:blipFill>
        <p:spPr>
          <a:xfrm>
            <a:off x="1547640" y="21337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6868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íla vláknitého halitu na jílovci.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Wieliczka, Polsko. Velikost vzorku 9×6 cm.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geologie.vsb.cz/loziska/suroviny/nerudy/halit%2002_resize.jpg"/>
          <p:cNvPicPr/>
          <p:nvPr/>
        </p:nvPicPr>
        <p:blipFill>
          <a:blip r:embed="rId1"/>
          <a:stretch/>
        </p:blipFill>
        <p:spPr>
          <a:xfrm>
            <a:off x="1619280" y="1484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2:48:07Z</dcterms:created>
  <dc:creator>Tomáš Kočí</dc:creator>
  <dc:description/>
  <dc:language>en-US</dc:language>
  <cp:lastModifiedBy>stercl</cp:lastModifiedBy>
  <dcterms:modified xsi:type="dcterms:W3CDTF">2015-04-26T16:44:21Z</dcterms:modified>
  <cp:revision>10</cp:revision>
  <dc:subject/>
  <dc:title>Systém minerálů III Halogenidy</dc:title>
</cp:coreProperties>
</file>