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AAD7E-E1A1-430E-9CA7-3CE542859FB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0143D-6579-4E2F-9CFB-2A21C55F059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035C6-C416-48EA-9ACB-5F49F532B4C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96B98-6585-46A6-B3F2-0526E502E17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11618-5A3F-45FE-A950-553FE340E14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BC4F5-2F12-4915-8F47-53FFAAC5953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CDAEE-F1D8-402B-BD6D-72364CB34B3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3E7FA-1AF2-41DB-BACD-9D79926F1EA3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90358-A86C-4E57-8034-913D5D1D4A9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09193-B3BC-4163-9232-A69E806A87F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9EB54-77BD-4399-816A-EF40AFA42F8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88D3F-C3D1-485E-93DB-8172F093A4B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030-47E2-4978-AB47-6662F20F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5BE-3F7F-4E1E-8E77-BAF09ECA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109-AC37-4E28-AECB-8DD12248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DBE-DC9A-44C4-979C-096E2442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722-4293-4014-BF51-7A52393F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271-E878-4D97-8567-D7352DB5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EC8-BE89-4624-8071-0B9EEF68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F72-EA39-43CC-8665-6504668D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8F9-3C63-4BA7-8AB2-791D8F46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CA2-9D81-4E33-9D5C-68C3B3E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92D-3939-4D3C-A650-EB4FA15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E27-B811-4CE3-8761-1C252466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D0BA8-A102-481B-8EC9-0179C40CA28B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68720" y="3240000"/>
            <a:ext cx="532296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Praha &amp; EU: Investujeme do vaší budoucnosti</a:t>
            </a:r>
            <a:br>
              <a:rPr sz="1100"/>
            </a:b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Evropský sociální fo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672000" y="2303640"/>
            <a:ext cx="26575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Žezlo, koruna a jabl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03280" y="1805040"/>
            <a:ext cx="907092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runovační řá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28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ůběh korunovačního obřadu -předvečer, buzení panovníka, procesí do chrámu, slib a aklamace, litanie, mše, přinesení sv. oleje,  pomazání, žehnání a předání insignií, korunování a  nastolení krále, holdování, slib krále/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yznává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a slibuji, že budu zákon a spravedlnost i pokoj podle moci i vědomí činiti a zachováva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/, korunovace královny, pokračování mše, obětování, požehnání, přijím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rálovské jabl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0200" indent="-32400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 vysoké 22cm, váží 780gramů, vlastní jablko je lehce zploštělé, průměr 11,9cm, výška 9,8cm na středové elipse je 8safírů,6 spinelů, 31 perel z Perského zálivu, povrch je pokryt tepanými reliéfy / příběhy Davida a Goliáše, Adama a Evy/ . Na vrcholu jablka dva latinské nápisy, v překladu: Hospodine, z tvé moci raduje se král a z tvé pomoci jásá. Bůh vládne nebesům, králové zemi. Je zakončeno křížem 12,2cm vysokým, jež přidržují zlaté sfingy, kříž je zdoben safíry, spinely a perlami. Jablko vzniklo asi před 1550, možná na objednávku Ferdinanda 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Žez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trně zhotovené ve stejné době jako jablko. Váha více než 1kg, délka 67cm. Skládá se ze 4 dílů. Rukojeť je pokryta emailovými květy a listy ukončena dvěma okružími s 62 perlami z Otavy.  Tělo žezla je pokryto tepanými zlatými květy a listy. Je zakončeno hlavicí, jež je tvořena stylizovaným květem se 47 safíry, 4 spinely a 4 perlami. Na vrcholu květu je pátý spinel připojen obroučk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atováclavský me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ikdy nebyl v korunní komoře, vždy ve svatovítském pokladu. Podle korunovačního řádu Karla IV. patřil k odznakům královské moci. Posledních výzkumy ukázaly, že meč  pochází z konce 9.století až počátku 10.století. Délka čepele z damascenské oceli je 94cm, hmotnost 0,4kg.V čepeli byl zasazen pozdě statek sv,Václava / později se ztrat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atováclavský me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51040" y="1768320"/>
            <a:ext cx="6576840" cy="438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1728720" y="1674720"/>
            <a:ext cx="657720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arel IV. jako literární a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genda o sv. Václavu /zdůraznění české státnosti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rality/ tak se označuje soubor jeho úvah o výchově, morálce, psychologii a log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astní životo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runovační řá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runovační pláš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561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5880" indent="-32076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zhotoven ze zvláštní látky, z luxusní hedvábné tkaniny drappi d' oro /česky zlatohlav/, tvoří hedvábná nit otočená plochým zlatým drátkem  / dracoun/ .Plášť je polokruhový, bez rukávů/ tvar pláštěnky/, vzadu prodloužený do vlečky, je 312cm široký, ok krčního výstřihu do konce vlečky 236cm dlouhý. Po celém obvodu je široce lemován hermelínem/ zimní kožešina hranostaje /. Asi počátek 17.stolet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atováclavská přilba a koš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 algn="just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lba byla zhotovena před rokem 1000 někde na východě, patřila ke zbroji  knížecích a královských Přemyslovců, byla v různých dobách opravována. Drátěná košile je nejstarší,pochází z z 9.století původ po trase: Byzanc- Velká Morava- Čechy. Váží 11,5kg, z toho límec 1kg. Největší délka je 169cm, největší šířka je 106cm. Dnes jsou vystavovány s korunovačními předmě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žené pouzdro na koru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just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lovitý tvar, na vyvýšeném obložení červenou kůží leží jablko, které lze překrýt vrchní částí. Vysoké 25,5cm, opatřené bílým řemenem pro  přenášení. Zdobeno 4 znaky- královský český lev , říšská orlice, erb Arnošta z Pardubic, znak pražského arcibiskupství. Nápis kolem praví, že 1347 ho dal zhotovit Karel IV. Nápis zkreslen část chybí, dnes si můžeme přečíst: Ke cti sv. Václav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8:54:11Z</dcterms:created>
  <dc:creator>Jaroslav Štercl</dc:creator>
  <dc:description/>
  <dc:language>en-US</dc:language>
  <cp:lastModifiedBy>stercl</cp:lastModifiedBy>
  <dcterms:modified xsi:type="dcterms:W3CDTF">2014-09-26T12:21:56Z</dcterms:modified>
  <cp:revision>2</cp:revision>
  <dc:subject/>
  <dc:title>Královské jablko</dc:title>
</cp:coreProperties>
</file>