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0FD-8567-402A-976E-3182EB77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F2D-0E3D-4C37-8317-303CB594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E65-D3FA-4CEE-B257-3684F712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D48-B564-4DF7-960B-DF109796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27E-6223-47D0-AE67-3A6E20AA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B51-03E1-4588-BFA5-6536D52D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639-9D7B-461D-B20D-BB4928C6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A12-95A2-406D-BE6A-907052F9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F05-9123-4200-A579-EBFFC741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205-2F17-43AE-A492-3A5FD914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F8D-71E1-4242-BFF6-C781CB69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FB12-7E4D-450E-8878-E4BCCE3E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F35-5197-4D05-A91E-F1F7499C79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ydavatelstvi.vscht.cz/" TargetMode="External"/><Relationship Id="rId2" Type="http://schemas.openxmlformats.org/officeDocument/2006/relationships/hyperlink" Target="http://www.scienceblogs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jeden axon a více dendri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io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jeden axon a jeden dend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seudo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jeden axon rozdělený na dostředivý a odstřed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nipolár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jen jeden axon, informace působí přímo na tě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akrinní buň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z axonu (na sítn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rvový vzru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íří se 1 - 120 c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ý neuron vybaven biomembrá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ud je v buňce převaha záporných iontů, vytváří se klidov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ční potenciál nastává když je buňka podrážděna – přidáním sodných katio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enciál šířící se po buňce je vzr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n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ruch se mezi neurony (nebo neuronem a cílovou buňkou) šíří pomocí synap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ynapse je mezi ukončením neuritu jednoho neuronu a zakončením dendritů druhého neur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átor – tekutina, která se na konci neuritu vypustí na dendrit a způsobí tím vzr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800px-Complete_neuron_cell_diagram_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vydavatelstvi.vscht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enceblog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scottie.borec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referaty-seminark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ireferaty.lidovky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wikipedi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zivotni-energie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ww.zdravcentra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54097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vba neuronu, typy neur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334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jednotka nervové soust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35 popsal J. E. Purky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nos nervových signálů – předávají si vz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schopna se rozmnožovat, rodíme se s daným počtem, pak už jen odumír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narození máme asi 10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ur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arem se liší od ostatních bun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v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lo neur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šedé mozkové hmo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ytoplasma (neuroplas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olgiho komplex (transport a přechovávání bílkov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tochondrie (“buněčná elektrárna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ysosomy (štěpení tuk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ádro je kulovité nebo oválné, obsahuje jadér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v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nd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edá mozková hm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é výběžky buněčného tě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třed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stupní část neur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li výběžek přerušen, část která ztratí kontakt s neuritem odumír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schopnost regenerace, při poškození je šance na plné obno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v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ye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á mozková hmota, důvod bílé barvy mí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ří ochranou vrstvu kolem ax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en z tuků a bílko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je poškozen, vodivost vlákna je špatná nebo chybě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v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x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rvové vlákno, odstředi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de akční potenciály (vzruc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á hmota moz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tlustší myelinový obal, tím lepší vodiv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 mít délku až 1 me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konci nervová zakončení – přenos signálu mezi neurity nebo neuritem a cílovou buň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906768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09:51Z</dcterms:created>
  <dc:creator>Viola</dc:creator>
  <dc:description/>
  <dc:language>en-US</dc:language>
  <cp:lastModifiedBy>stercl</cp:lastModifiedBy>
  <dcterms:modified xsi:type="dcterms:W3CDTF">2015-04-26T16:40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