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8A69F-7325-4BE7-881F-AF6234493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3E880-4E3C-4CE2-9AE4-6A2AED779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95911-E880-4F4B-A310-9DEA3C778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FEFA3-00C9-43F5-9A61-321A6A0F5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5AFA8-DCFF-4AC7-B6A7-5286A379A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1AD45-4437-4CBA-A754-638339F80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11006-B319-4B4D-9770-5B3F581F2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2CF6C-14DF-4E9C-A5BE-385F1628C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AF304-F40F-4C4C-AEFC-B968CF914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CAB67-1B0C-49D3-B40B-109371028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F4873-3D01-437B-9232-9C3EA9786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BD0B9-0030-4E43-97F0-F26214DD7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8A369-23F7-4838-ADB8-F7D65C8E1CC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3" name="Obrázek 3" descr="C:\Users\Tomáš\Desktop\upr_3_loga_nadpisy_text.JPG"/>
          <p:cNvPicPr/>
          <p:nvPr/>
        </p:nvPicPr>
        <p:blipFill>
          <a:blip r:embed="rId2"/>
          <a:stretch/>
        </p:blipFill>
        <p:spPr>
          <a:xfrm>
            <a:off x="3414600" y="2905200"/>
            <a:ext cx="231480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Apatit Zillertall Tyrol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2" descr="http://web.natur.cuni.cz/ugmnz/mineral/mineral/fotv/apatit_6.jpg"/>
          <p:cNvPicPr/>
          <p:nvPr/>
        </p:nvPicPr>
        <p:blipFill>
          <a:blip r:embed="rId1"/>
          <a:stretch/>
        </p:blipFill>
        <p:spPr>
          <a:xfrm>
            <a:off x="1438200" y="155736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Zelený krystal fluorapatitu na muskovitu. 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   Dolní Bory - Hatě. Velikost vzorku 4,5×4 cm. 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   Sbírka J. Slámy, foto J. Jirásek 2006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2" descr="http://geologie.vsb.cz/loziska/suroviny/nerudy/apatit%2001_resize.jpg"/>
          <p:cNvPicPr/>
          <p:nvPr/>
        </p:nvPicPr>
        <p:blipFill>
          <a:blip r:embed="rId1"/>
          <a:stretch/>
        </p:blipFill>
        <p:spPr>
          <a:xfrm>
            <a:off x="1619280" y="1628640"/>
            <a:ext cx="5715000" cy="42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95280" y="274680"/>
            <a:ext cx="8291520" cy="18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Zelený skelně lesklý krystal fluorapatitu. 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   Sljudjanka, Zabajkalí, Rusko. Velikost vzorku 5×4 cm. 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   Sbírky Geologického pavilonu VŠB-TU Ostrava, foto J. Jirásek 2006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http://geologie.vsb.cz/loziska/suroviny/nerudy/apatit%2002_resize.JPG"/>
          <p:cNvPicPr/>
          <p:nvPr/>
        </p:nvPicPr>
        <p:blipFill>
          <a:blip r:embed="rId1"/>
          <a:stretch/>
        </p:blipFill>
        <p:spPr>
          <a:xfrm>
            <a:off x="1763640" y="1844640"/>
            <a:ext cx="571500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8218440" cy="193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Drúza světle fialových šestibokých krystalů fluorapatitu. 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   Horní Slavkov. Velikost vzorku 9,5×7,5 cm. 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   Sbírky Geologického pavilonu VŠB-TU Ostrava, foto J. Jirásek 2006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2" descr="http://geologie.vsb.cz/loziska/suroviny/nerudy/apatit%2003_resize.JPG"/>
          <p:cNvPicPr/>
          <p:nvPr/>
        </p:nvPicPr>
        <p:blipFill>
          <a:blip r:embed="rId1"/>
          <a:stretch/>
        </p:blipFill>
        <p:spPr>
          <a:xfrm>
            <a:off x="1835280" y="2060640"/>
            <a:ext cx="571500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Detail předchozího vzorku, velikost největšího krystalu 7 mm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2" descr="http://geologie.vsb.cz/loziska/suroviny/nerudy/apatit%2004_resize.JPG"/>
          <p:cNvPicPr/>
          <p:nvPr/>
        </p:nvPicPr>
        <p:blipFill>
          <a:blip r:embed="rId1"/>
          <a:stretch/>
        </p:blipFill>
        <p:spPr>
          <a:xfrm>
            <a:off x="1692360" y="1557360"/>
            <a:ext cx="571500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Systém minerálů VIII Fosforečnan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5084280"/>
            <a:ext cx="6400800" cy="10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apat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http://web.natur.cuni.cz/ugmnz/mineral/mineral/gifm/apatit-1.gif"/>
          <p:cNvPicPr/>
          <p:nvPr/>
        </p:nvPicPr>
        <p:blipFill>
          <a:blip r:embed="rId1"/>
          <a:stretch/>
        </p:blipFill>
        <p:spPr>
          <a:xfrm>
            <a:off x="3132000" y="5084640"/>
            <a:ext cx="723960" cy="8575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" descr="http://web.natur.cuni.cz/ugmnz/mineral/mineral/gifm/apatit-1.gif"/>
          <p:cNvPicPr/>
          <p:nvPr/>
        </p:nvPicPr>
        <p:blipFill>
          <a:blip r:embed="rId2"/>
          <a:stretch/>
        </p:blipFill>
        <p:spPr>
          <a:xfrm>
            <a:off x="5219640" y="5111640"/>
            <a:ext cx="723960" cy="8575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6" descr="http://web.natur.cuni.cz/ugmnz/mineral/mineral/gifm/apatit-2.gif"/>
          <p:cNvPicPr/>
          <p:nvPr/>
        </p:nvPicPr>
        <p:blipFill>
          <a:blip r:embed="rId3"/>
          <a:stretch/>
        </p:blipFill>
        <p:spPr>
          <a:xfrm>
            <a:off x="1908000" y="5292720"/>
            <a:ext cx="952560" cy="6764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http://web.natur.cuni.cz/ugmnz/mineral/mineral/gifm/apatit-2.gif"/>
          <p:cNvPicPr/>
          <p:nvPr/>
        </p:nvPicPr>
        <p:blipFill>
          <a:blip r:embed="rId4"/>
          <a:stretch/>
        </p:blipFill>
        <p:spPr>
          <a:xfrm>
            <a:off x="6156360" y="5265720"/>
            <a:ext cx="952560" cy="6764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http://geologie.vsb.cz/loziska/suroviny/nerudy/apatit%2001_resize.jpg"/>
          <p:cNvPicPr/>
          <p:nvPr/>
        </p:nvPicPr>
        <p:blipFill>
          <a:blip r:embed="rId5"/>
          <a:stretch/>
        </p:blipFill>
        <p:spPr>
          <a:xfrm>
            <a:off x="2484360" y="1839960"/>
            <a:ext cx="4057560" cy="30430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" descr="http://geologie.vsb.cz/loziska/suroviny/nerudy/apatit%2002_resize.JPG"/>
          <p:cNvPicPr/>
          <p:nvPr/>
        </p:nvPicPr>
        <p:blipFill>
          <a:blip r:embed="rId6"/>
          <a:stretch/>
        </p:blipFill>
        <p:spPr>
          <a:xfrm>
            <a:off x="6632640" y="1197000"/>
            <a:ext cx="2286000" cy="17143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http://web.natur.cuni.cz/ugmnz/mineral/mineral/fotv/apatit_3.jpg"/>
          <p:cNvPicPr/>
          <p:nvPr/>
        </p:nvPicPr>
        <p:blipFill>
          <a:blip r:embed="rId7"/>
          <a:stretch/>
        </p:blipFill>
        <p:spPr>
          <a:xfrm>
            <a:off x="33480" y="1225440"/>
            <a:ext cx="2350800" cy="17622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" descr="http://web.natur.cuni.cz/ugmnz/mineral/mineral/fotv/apatit_6.jpg"/>
          <p:cNvPicPr/>
          <p:nvPr/>
        </p:nvPicPr>
        <p:blipFill>
          <a:blip r:embed="rId8"/>
          <a:stretch/>
        </p:blipFill>
        <p:spPr>
          <a:xfrm>
            <a:off x="27000" y="3227400"/>
            <a:ext cx="2286000" cy="17143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http://geologie.vsb.cz/loziska/suroviny/nerudy/apatit%2004_resize.JPG"/>
          <p:cNvPicPr/>
          <p:nvPr/>
        </p:nvPicPr>
        <p:blipFill>
          <a:blip r:embed="rId9"/>
          <a:stretch/>
        </p:blipFill>
        <p:spPr>
          <a:xfrm>
            <a:off x="6724800" y="3141720"/>
            <a:ext cx="220824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563640" y="274680"/>
            <a:ext cx="237636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Calibri"/>
              </a:rPr>
              <a:t>APAT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108000" y="981000"/>
            <a:ext cx="885672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APATIT - skupinový název pro nerozlišené fosforečnany Ca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CHLORAPATIT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- Ca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Calibri"/>
              </a:rPr>
              <a:t>5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(PO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C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FLUORAPATIT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- Ca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Calibri"/>
              </a:rPr>
              <a:t>5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(PO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HYDROXYLAPATIT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- Ca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Calibri"/>
              </a:rPr>
              <a:t>5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(PO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O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KARBONÁT-FLUORAPATIT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- Ca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Calibri"/>
              </a:rPr>
              <a:t>5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(PO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,CO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http://web.natur.cuni.cz/ugmnz/mineral/mineral/gifm/apatit-2.gif"/>
          <p:cNvPicPr/>
          <p:nvPr/>
        </p:nvPicPr>
        <p:blipFill>
          <a:blip r:embed="rId1"/>
          <a:stretch/>
        </p:blipFill>
        <p:spPr>
          <a:xfrm>
            <a:off x="5651640" y="184320"/>
            <a:ext cx="952200" cy="6760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" descr="http://web.natur.cuni.cz/ugmnz/mineral/mineral/gifm/apatit-2.gif"/>
          <p:cNvPicPr/>
          <p:nvPr/>
        </p:nvPicPr>
        <p:blipFill>
          <a:blip r:embed="rId2"/>
          <a:stretch/>
        </p:blipFill>
        <p:spPr>
          <a:xfrm>
            <a:off x="2843280" y="171360"/>
            <a:ext cx="952560" cy="6764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" descr="http://web.natur.cuni.cz/ugmnz/mineral/mineral/gifm/apatit-1.gif"/>
          <p:cNvPicPr/>
          <p:nvPr/>
        </p:nvPicPr>
        <p:blipFill>
          <a:blip r:embed="rId3"/>
          <a:stretch/>
        </p:blipFill>
        <p:spPr>
          <a:xfrm>
            <a:off x="1835280" y="133200"/>
            <a:ext cx="723600" cy="8575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" descr="http://web.natur.cuni.cz/ugmnz/mineral/mineral/gifm/apatit-1.gif"/>
          <p:cNvPicPr/>
          <p:nvPr/>
        </p:nvPicPr>
        <p:blipFill>
          <a:blip r:embed="rId4"/>
          <a:stretch/>
        </p:blipFill>
        <p:spPr>
          <a:xfrm>
            <a:off x="6948360" y="171360"/>
            <a:ext cx="723960" cy="8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563640" y="274680"/>
            <a:ext cx="216036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Apat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108000" y="981000"/>
            <a:ext cx="885672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Složení: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fosforečnan vápenatý s fluórem,  chlórem a vodou, Ca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Calibri"/>
              </a:rPr>
              <a:t>5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(PO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(OH,F,Cl) </a:t>
            </a:r>
            <a:br>
              <a:rPr sz="2400"/>
            </a:b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Soustava: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šesterečná </a:t>
            </a:r>
            <a:br>
              <a:rPr sz="2400"/>
            </a:b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Vzhled: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krystaly tabulkovité, sloupcovité, jehlicovité, též zrnitý, kusový </a:t>
            </a:r>
            <a:br>
              <a:rPr sz="2400"/>
            </a:b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Barva: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zelený, hnědý, světle fialový </a:t>
            </a:r>
            <a:br>
              <a:rPr sz="2400"/>
            </a:b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Vryp: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bílý </a:t>
            </a:r>
            <a:br>
              <a:rPr sz="2400"/>
            </a:b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Tvrdost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= 5 </a:t>
            </a:r>
            <a:br>
              <a:rPr sz="2400"/>
            </a:b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Hustota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= 3,2 </a:t>
            </a:r>
            <a:br>
              <a:rPr sz="2400"/>
            </a:b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Další vlastnosti: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neštěpný </a:t>
            </a:r>
            <a:br>
              <a:rPr sz="2400"/>
            </a:b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Vznik: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z magmatu; z nahromaděných zbytků organismů (tzv. fosforit) </a:t>
            </a:r>
            <a:br>
              <a:rPr sz="2400"/>
            </a:b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Výskyt: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Písecko (pegmatity), Horní Slavkov, Cínovec; Rusko (poloostrov Kola) </a:t>
            </a:r>
            <a:br>
              <a:rPr sz="2400"/>
            </a:b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Použití: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výroba hnojiv, kys. fosforečné a dalších sloučenin fosforu </a:t>
            </a:r>
            <a:br>
              <a:rPr sz="2400"/>
            </a:b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Poznámka: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Mikroskopické krystalky apatitu se vyskytují v kostech a zubech obratlovců včetně člověka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2" descr="http://web.natur.cuni.cz/ugmnz/mineral/mineral/gifm/apatit-1.gif"/>
          <p:cNvPicPr/>
          <p:nvPr/>
        </p:nvPicPr>
        <p:blipFill>
          <a:blip r:embed="rId1"/>
          <a:stretch/>
        </p:blipFill>
        <p:spPr>
          <a:xfrm>
            <a:off x="324000" y="115920"/>
            <a:ext cx="723600" cy="8571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" descr="http://web.natur.cuni.cz/ugmnz/mineral/mineral/gifm/apatit-1.gif"/>
          <p:cNvPicPr/>
          <p:nvPr/>
        </p:nvPicPr>
        <p:blipFill>
          <a:blip r:embed="rId2"/>
          <a:stretch/>
        </p:blipFill>
        <p:spPr>
          <a:xfrm>
            <a:off x="8172360" y="136440"/>
            <a:ext cx="723960" cy="8571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http://web.natur.cuni.cz/ugmnz/mineral/mineral/gifm/apatit-2.gif"/>
          <p:cNvPicPr/>
          <p:nvPr/>
        </p:nvPicPr>
        <p:blipFill>
          <a:blip r:embed="rId3"/>
          <a:stretch/>
        </p:blipFill>
        <p:spPr>
          <a:xfrm>
            <a:off x="1258920" y="227160"/>
            <a:ext cx="952560" cy="6760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8" descr="http://web.natur.cuni.cz/ugmnz/mineral/mineral/gifm/apatit-2.gif"/>
          <p:cNvPicPr/>
          <p:nvPr/>
        </p:nvPicPr>
        <p:blipFill>
          <a:blip r:embed="rId4"/>
          <a:stretch/>
        </p:blipFill>
        <p:spPr>
          <a:xfrm>
            <a:off x="7020000" y="297000"/>
            <a:ext cx="952560" cy="67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Apatit Slavko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2" descr="http://web.natur.cuni.cz/ugmnz/mineral/mineral/fotv/apatit_4.jpg"/>
          <p:cNvPicPr/>
          <p:nvPr/>
        </p:nvPicPr>
        <p:blipFill>
          <a:blip r:embed="rId1"/>
          <a:stretch/>
        </p:blipFill>
        <p:spPr>
          <a:xfrm>
            <a:off x="1692360" y="1341360"/>
            <a:ext cx="60958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Apatit Slavko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http://web.natur.cuni.cz/ugmnz/mineral/mineral/fotv/apatit_3.jpg"/>
          <p:cNvPicPr/>
          <p:nvPr/>
        </p:nvPicPr>
        <p:blipFill>
          <a:blip r:embed="rId1"/>
          <a:stretch/>
        </p:blipFill>
        <p:spPr>
          <a:xfrm>
            <a:off x="1547640" y="162864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Apatit Slavko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2" descr="http://web.natur.cuni.cz/ugmnz/mineral/mineral/fotv/apatit_5.jpg"/>
          <p:cNvPicPr/>
          <p:nvPr/>
        </p:nvPicPr>
        <p:blipFill>
          <a:blip r:embed="rId1"/>
          <a:stretch/>
        </p:blipFill>
        <p:spPr>
          <a:xfrm>
            <a:off x="1476360" y="1268280"/>
            <a:ext cx="60958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Apatit Krupk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http://web.natur.cuni.cz/ugmnz/mineral/mineral/fotv/apatit_2.jpg"/>
          <p:cNvPicPr/>
          <p:nvPr/>
        </p:nvPicPr>
        <p:blipFill>
          <a:blip r:embed="rId1"/>
          <a:stretch/>
        </p:blipFill>
        <p:spPr>
          <a:xfrm>
            <a:off x="1403280" y="170028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Apatit Bajkal Rusk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2" descr="http://web.natur.cuni.cz/ugmnz/mineral/mineral/fotv/apatit_1.jpg"/>
          <p:cNvPicPr/>
          <p:nvPr/>
        </p:nvPicPr>
        <p:blipFill>
          <a:blip r:embed="rId1"/>
          <a:stretch/>
        </p:blipFill>
        <p:spPr>
          <a:xfrm>
            <a:off x="1547640" y="170028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3T00:38:29Z</dcterms:created>
  <dc:creator>Tomáš Kočí</dc:creator>
  <dc:description/>
  <dc:language>en-US</dc:language>
  <cp:lastModifiedBy>stercl</cp:lastModifiedBy>
  <dcterms:modified xsi:type="dcterms:W3CDTF">2015-04-26T16:48:18Z</dcterms:modified>
  <cp:revision>6</cp:revision>
  <dc:subject/>
  <dc:title>Systém minerálů VIII Fosforečnany</dc:title>
</cp:coreProperties>
</file>