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9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5.jpeg" ContentType="image/jpeg"/>
  <Override PartName="/ppt/media/image29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39.jpeg" ContentType="image/jpeg"/>
  <Override PartName="/ppt/media/image8.png" ContentType="image/png"/>
  <Override PartName="/ppt/media/image5.jpeg" ContentType="image/jpeg"/>
  <Override PartName="/ppt/media/image26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2D61-FE14-4755-A58C-098C2923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969-F32D-46DA-8060-0A1A1BDF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77F8-9A0A-4E3D-859A-D582715F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FDE-ADBD-412F-8E23-DD077F9E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36BD-2A8C-4BB5-8EB2-41F0A83E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550A-D0B5-408A-9AF4-106A8D6A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C8EC-EF6D-476C-910F-EFD95953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3DCA-B188-48B9-8170-52604657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AE8F-D6BC-4006-BF4C-88A4835A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C64-293C-44AC-83C3-290EC999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EAB-1E25-40F7-80C1-61F18315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273-FAFB-4C42-B7C2-0F9D3564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52C7-C778-4DEA-A901-090CC1D590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3" descr="C:\Users\Tomáš\Desktop\upr_3_loga_nadpisy_text.JPG"/>
          <p:cNvPicPr/>
          <p:nvPr/>
        </p:nvPicPr>
        <p:blipFill>
          <a:blip r:embed="rId2"/>
          <a:stretch/>
        </p:blipFill>
        <p:spPr>
          <a:xfrm>
            <a:off x="3414600" y="2905200"/>
            <a:ext cx="23148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Žíla hrubě krystalického grafitu s diamantovým leskem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rí Lanka. Velikost vzorku 10,5×7,5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geologie.vsb.cz/loziska/suroviny/nerudy/grafit%2001_resize.JPG"/>
          <p:cNvPicPr/>
          <p:nvPr/>
        </p:nvPicPr>
        <p:blipFill>
          <a:blip r:embed="rId1"/>
          <a:stretch/>
        </p:blipFill>
        <p:spPr>
          <a:xfrm>
            <a:off x="1835280" y="1989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asivní tmavě šedý grafit s tektonicky ohlazenými plochami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Velké Vrbno, ložisko Konstantin. Velikost vzorku 9×6,5 cm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a J. Jiráska, foto J. Jirásek 2007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geologie.vsb.cz/loziska/suroviny/nerudy/grafit%2002_resize.JPG"/>
          <p:cNvPicPr/>
          <p:nvPr/>
        </p:nvPicPr>
        <p:blipFill>
          <a:blip r:embed="rId1"/>
          <a:stretch/>
        </p:blipFill>
        <p:spPr>
          <a:xfrm>
            <a:off x="1619280" y="162864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íra 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0" y="1212840"/>
          <a:ext cx="9056520" cy="5448240"/>
        </p:xfrm>
        <a:graphic>
          <a:graphicData uri="http://schemas.openxmlformats.org/drawingml/2006/table">
            <a:tbl>
              <a:tblPr/>
              <a:tblGrid>
                <a:gridCol w="8827920"/>
                <a:gridCol w="228600"/>
              </a:tblGrid>
              <a:tr h="4398840">
                <a:tc>
                  <a:txBody>
                    <a:bodyPr lIns="95400" rIns="95400" tIns="95400" bIns="95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žení: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íra, S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tava: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osočtverečná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hled: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ehlanovité nebo klínovité krystaly s diamantovým leskem, zrnitá, povlaky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va: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žlutá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yp: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lámově žlutý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rdost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2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stota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2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nik: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ážením ze sirných par v blízkosti sopek, činností bakterií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kyt: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olsko (Tarnobrzeg), Itálie (Sicíle), USA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žití: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hemický průmysl (sloučeniny síry, vulkanizace kaučuku), pyrotechnika, textilní prům. (bělení), potravinářství (desinfekce)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a: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ři spalování se oxiduje na štiplavý SO</a:t>
                      </a:r>
                      <a:r>
                        <a:rPr b="0" lang="cs-CZ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 gridSpan="2">
                  <a:txBody>
                    <a:bodyPr lIns="95400" rIns="95400" tIns="95400" bIns="95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5400" marR="9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Picture 5" descr="http://web.natur.cuni.cz/ugmnz/mineral/mineral/gifm/sira-1.gif"/>
          <p:cNvPicPr/>
          <p:nvPr/>
        </p:nvPicPr>
        <p:blipFill>
          <a:blip r:embed="rId1"/>
          <a:stretch/>
        </p:blipFill>
        <p:spPr>
          <a:xfrm>
            <a:off x="168120" y="260280"/>
            <a:ext cx="781200" cy="952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íra, Sicílie"/>
          <p:cNvPicPr/>
          <p:nvPr/>
        </p:nvPicPr>
        <p:blipFill>
          <a:blip r:embed="rId2"/>
          <a:stretch/>
        </p:blipFill>
        <p:spPr>
          <a:xfrm>
            <a:off x="1332000" y="212760"/>
            <a:ext cx="13334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íra 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http://web.natur.cuni.cz/ugmnz/mineral/mineral/fotv/sira_2.jpg"/>
          <p:cNvPicPr/>
          <p:nvPr/>
        </p:nvPicPr>
        <p:blipFill>
          <a:blip r:embed="rId1"/>
          <a:stretch/>
        </p:blipFill>
        <p:spPr>
          <a:xfrm>
            <a:off x="1332000" y="1197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íra 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web.natur.cuni.cz/ugmnz/mineral/mineral/fotv/sira_3.jpg"/>
          <p:cNvPicPr/>
          <p:nvPr/>
        </p:nvPicPr>
        <p:blipFill>
          <a:blip r:embed="rId1"/>
          <a:stretch/>
        </p:blipFill>
        <p:spPr>
          <a:xfrm>
            <a:off x="1547640" y="11253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íra 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web.natur.cuni.cz/ugmnz/mineral/mineral/fotv/sira_4.jpg"/>
          <p:cNvPicPr/>
          <p:nvPr/>
        </p:nvPicPr>
        <p:blipFill>
          <a:blip r:embed="rId1"/>
          <a:stretch/>
        </p:blipFill>
        <p:spPr>
          <a:xfrm>
            <a:off x="1547640" y="1700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íra 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eb.natur.cuni.cz/ugmnz/mineral/mineral/fotv/sira_1.jpg"/>
          <p:cNvPicPr/>
          <p:nvPr/>
        </p:nvPicPr>
        <p:blipFill>
          <a:blip r:embed="rId1"/>
          <a:stretch/>
        </p:blipFill>
        <p:spPr>
          <a:xfrm>
            <a:off x="1692360" y="1773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rostlice žlutých průsvitných krystalů síry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Agrigento, Itálie. Velikost vzorku 7×5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geologie.vsb.cz/loziska/suroviny/nerudy/s%C3%ADra%2001_resize.JPG"/>
          <p:cNvPicPr/>
          <p:nvPr/>
        </p:nvPicPr>
        <p:blipFill>
          <a:blip r:embed="rId1"/>
          <a:stretch/>
        </p:blipFill>
        <p:spPr>
          <a:xfrm>
            <a:off x="1403280" y="1916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ěď C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ložení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měď, Cu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oustav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rychlová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zhled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často plíškovitá, keříčkovitá, mechovitá, celistvá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arv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ovově červená, někdy nahnědlá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ryp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měděně červený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vrd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= 3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Hustot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= 8,5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alší vlastnosti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ujná, vynikající tepelná a elektrická vodivost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znik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výlevné horniny s velmi nízkým obsahem křemíku (Podkrkonoší); cementační zóna žilných ložisek (Borovec, Horní Slavkov)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skyt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v ČR jen mineralogické výskyty; Maďarsko, Velká Británie, USA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užití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vodiče, elektrotechnika, slitiny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známk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zvětrává na malachit a azuri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ěď C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http://web.natur.cuni.cz/ugmnz/mineral/mineral/fotv/med_2.jpg"/>
          <p:cNvPicPr/>
          <p:nvPr/>
        </p:nvPicPr>
        <p:blipFill>
          <a:blip r:embed="rId1"/>
          <a:stretch/>
        </p:blipFill>
        <p:spPr>
          <a:xfrm>
            <a:off x="1763640" y="12682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7" name="TextovéPole 1"/>
          <p:cNvSpPr/>
          <p:nvPr/>
        </p:nvSpPr>
        <p:spPr>
          <a:xfrm>
            <a:off x="905760" y="623736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ichigan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ystém minerálů I Prv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4560" y="4724280"/>
            <a:ext cx="89773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kov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C –diamant, C- grafit –tuha, S – sí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ov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Cu –měď, Ag – stříbro, Au – zlato, Pt – platina, rtuť Hg, Arsen As, Bismut B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geologie.vsb.cz/loziska/suroviny/nerudy/diamant%2001_resize.jpg"/>
          <p:cNvPicPr/>
          <p:nvPr/>
        </p:nvPicPr>
        <p:blipFill>
          <a:blip r:embed="rId1"/>
          <a:stretch/>
        </p:blipFill>
        <p:spPr>
          <a:xfrm>
            <a:off x="34920" y="907920"/>
            <a:ext cx="2925720" cy="2195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ttp://geologie.vsb.cz/loziska/suroviny/nerudy/grafit%2001_resize.JPG"/>
          <p:cNvPicPr/>
          <p:nvPr/>
        </p:nvPicPr>
        <p:blipFill>
          <a:blip r:embed="rId2"/>
          <a:stretch/>
        </p:blipFill>
        <p:spPr>
          <a:xfrm>
            <a:off x="5940360" y="963720"/>
            <a:ext cx="3071880" cy="2303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geologie.vsb.cz/loziska/suroviny/nerudy/s%C3%ADra%2001_resize.JPG"/>
          <p:cNvPicPr/>
          <p:nvPr/>
        </p:nvPicPr>
        <p:blipFill>
          <a:blip r:embed="rId3"/>
          <a:stretch/>
        </p:blipFill>
        <p:spPr>
          <a:xfrm>
            <a:off x="2984400" y="2565360"/>
            <a:ext cx="2806920" cy="2103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web.natur.cuni.cz/ugmnz/mineral/mineral/fotv/med_2.jpg"/>
          <p:cNvPicPr/>
          <p:nvPr/>
        </p:nvPicPr>
        <p:blipFill>
          <a:blip r:embed="rId4"/>
          <a:stretch/>
        </p:blipFill>
        <p:spPr>
          <a:xfrm>
            <a:off x="34920" y="3267000"/>
            <a:ext cx="2832120" cy="212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geologie.vsb.cz/loziska/suroviny/rudy/zlato%2005_resize.JPG"/>
          <p:cNvPicPr/>
          <p:nvPr/>
        </p:nvPicPr>
        <p:blipFill>
          <a:blip r:embed="rId5"/>
          <a:stretch/>
        </p:blipFill>
        <p:spPr>
          <a:xfrm>
            <a:off x="6083280" y="3267000"/>
            <a:ext cx="2786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ěď C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web.natur.cuni.cz/ugmnz/mineral/mineral/fotv/med_1.jpg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ohatý keříčkovitý agregát ryzí mědi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Zlaté Hory, štola Josef. Velikost vzorku 6×5,5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a M. Krause, foto J. Jirásek 2007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geologie.vsb.cz/loziska/suroviny/rudy/m%C4%9B%C4%8F%2002_resize.JPG"/>
          <p:cNvPicPr/>
          <p:nvPr/>
        </p:nvPicPr>
        <p:blipFill>
          <a:blip r:embed="rId1"/>
          <a:stretch/>
        </p:blipFill>
        <p:spPr>
          <a:xfrm>
            <a:off x="140328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yzí měď v křemenné žilovině s typicky červenou barvou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Borovec u Štěpánova. Velikost vzorku 7×6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a M. Krause, foto J. Jirásek 2007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geologie.vsb.cz/loziska/suroviny/rudy/m%C4%9B%C4%8F%2001_resize.JPG"/>
          <p:cNvPicPr/>
          <p:nvPr/>
        </p:nvPicPr>
        <p:blipFill>
          <a:blip r:embed="rId1"/>
          <a:stretch/>
        </p:blipFill>
        <p:spPr>
          <a:xfrm>
            <a:off x="1476360" y="1557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pravidelné plechy ryzí mědi vypreparované z horniny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Poloostrov Keweenaw, Michigan, USA. Velikost vzorku 8,5×6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a M. Krause, foto J. Jirásek 2007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://geologie.vsb.cz/loziska/suroviny/rudy/m%C4%9B%C4%8F%2003_resize.JPG"/>
          <p:cNvPicPr/>
          <p:nvPr/>
        </p:nvPicPr>
        <p:blipFill>
          <a:blip r:embed="rId1"/>
          <a:stretch/>
        </p:blipFill>
        <p:spPr>
          <a:xfrm>
            <a:off x="1619280" y="162864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íbro A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ložení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stříbro, Ag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oustav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rychlová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zhled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drátkovité, plíškovité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arv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ovově bílá, časem černá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ryp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stříbrobílý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Tvrdos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= 2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Hustot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= 10,5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Další vlastnosti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ujné, vynikající tepelná a elektrická vodivost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znik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rystalizací z horkých roztoků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ýskyt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utná Hora, Jihlava, Jáchymov, Příbram; Norsko, Kanada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užití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elektrotechnika, fotografie, šperkařství, mincovnictv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íbro A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http://web.natur.cuni.cz/ugmnz/mineral/mineral/fotv/stribro_1.jpg"/>
          <p:cNvPicPr/>
          <p:nvPr/>
        </p:nvPicPr>
        <p:blipFill>
          <a:blip r:embed="rId1"/>
          <a:stretch/>
        </p:blipFill>
        <p:spPr>
          <a:xfrm>
            <a:off x="1187280" y="12682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110" name="TextovéPole 1"/>
          <p:cNvSpPr/>
          <p:nvPr/>
        </p:nvSpPr>
        <p:spPr>
          <a:xfrm>
            <a:off x="613440" y="623736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reiberg Sasko Německ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átkovitý agregát stříbra v karbonátové žilovině s kalcite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Uranové ložisko Rožná, důl Rožná 1, 20. patro, blok Z3-XX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Velikost drátků do 3 cm. Sbírka J. Pařízka, foto J. Pařízek 2006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geologie.vsb.cz/loziska/suroviny/rudy/st%C5%99%C3%ADbro%2001_resize.jpg"/>
          <p:cNvPicPr/>
          <p:nvPr/>
        </p:nvPicPr>
        <p:blipFill>
          <a:blip r:embed="rId1"/>
          <a:stretch/>
        </p:blipFill>
        <p:spPr>
          <a:xfrm>
            <a:off x="1692360" y="1484280"/>
            <a:ext cx="5715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átkovitý agregát stříbra na kalcitu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Polymetalický revír Příbram. Velikost dutiny 4×3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ttp://geologie.vsb.cz/loziska/suroviny/rudy/st%C5%99%C3%ADbro%2002_resize.JPG"/>
          <p:cNvPicPr/>
          <p:nvPr/>
        </p:nvPicPr>
        <p:blipFill>
          <a:blip r:embed="rId1"/>
          <a:stretch/>
        </p:blipFill>
        <p:spPr>
          <a:xfrm>
            <a:off x="1619280" y="1557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43920"/>
            <a:ext cx="8507520" cy="13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átkovité stříbro na galenitu a křemeni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Příbram, důl Lill, Černojamská žíla, 3. patro. Velikost vzorku 7×7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geologie.vsb.cz/loziska/suroviny/rudy/st%C5%99%C3%ADbro%2003_resize.JPG"/>
          <p:cNvPicPr/>
          <p:nvPr/>
        </p:nvPicPr>
        <p:blipFill>
          <a:blip r:embed="rId1"/>
          <a:stretch/>
        </p:blipFill>
        <p:spPr>
          <a:xfrm>
            <a:off x="1692360" y="1916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černalé plechy stříbra na hornině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Hodějovice. Velikost vzorku 9×6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7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geologie.vsb.cz/loziska/suroviny/rudy/st%C5%99%C3%ADbro%2005_resize.JPG"/>
          <p:cNvPicPr/>
          <p:nvPr/>
        </p:nvPicPr>
        <p:blipFill>
          <a:blip r:embed="rId1"/>
          <a:stretch/>
        </p:blipFill>
        <p:spPr>
          <a:xfrm>
            <a:off x="1763640" y="1989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amant 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ložení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uhlík, C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oustava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krychlová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zhled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zaoblené osmistěny, zrna, lesk diamantový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Barva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bezbarvý, žlutá, hnědá, zelená, modrá, černá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ryp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bílý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Tvrdos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= 10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Hustot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= 3,5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Další vlastnosti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nejtvrdší známá látka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znik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v kimberlitu (hlubinná vyvřelina s nízkým obsahem křemíku)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ýskyt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Jihoafrická rep., Rusko (Jakutsko), Brazílie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užití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šperkařství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známka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V ČR se našly pouze dva diamanty v oblasti Třebenic v Českém středohoř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://web.natur.cuni.cz/ugmnz/mineral/mineral/gifm/diamant-3.gif"/>
          <p:cNvPicPr/>
          <p:nvPr/>
        </p:nvPicPr>
        <p:blipFill>
          <a:blip r:embed="rId1"/>
          <a:stretch/>
        </p:blipFill>
        <p:spPr>
          <a:xfrm>
            <a:off x="8028000" y="115920"/>
            <a:ext cx="95256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lato 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765000"/>
          <a:ext cx="9109080" cy="6093000"/>
        </p:xfrm>
        <a:graphic>
          <a:graphicData uri="http://schemas.openxmlformats.org/drawingml/2006/table">
            <a:tbl>
              <a:tblPr/>
              <a:tblGrid>
                <a:gridCol w="8879040"/>
                <a:gridCol w="230040"/>
              </a:tblGrid>
              <a:tr h="5421600">
                <a:tc>
                  <a:txBody>
                    <a:bodyPr lIns="95400" rIns="95400" tIns="95400" bIns="95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žení: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zlato, Au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tava: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rychlová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hled: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líškovité, keříčkovité, valounky, zlatinky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va: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ovově žlutá, často světlejší odstíny (příměs stříbra)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yp: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žlutý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rdost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2,5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stota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19,3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vlastnosti: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ujné, vynikající tepelná a elektrická vodivost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nik: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a hydrotermálních křemenných žilách, po zvětrávání zlatonosných hornin se hromadí v náplavech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kyt: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Jílové u Prahy, Kašperské Hory, Zlaté Hory v Jes.; Jihoafrická rep., Kanada, Rusko (Sibiř), Rumunsko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žití: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ěnový kov, mincovnictví, elektrotechnika, šperkařství, fol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5400" marR="9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 gridSpan="2">
                  <a:txBody>
                    <a:bodyPr lIns="95400" rIns="95400" tIns="95400" bIns="95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5400" marR="95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21" name="Picture 6" descr="Gold, Lukmanier."/>
          <p:cNvPicPr/>
          <p:nvPr/>
        </p:nvPicPr>
        <p:blipFill>
          <a:blip r:embed="rId1"/>
          <a:stretch/>
        </p:blipFill>
        <p:spPr>
          <a:xfrm>
            <a:off x="7667640" y="0"/>
            <a:ext cx="14763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lato 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http://web.natur.cuni.cz/ugmnz/mineral/mineral/fotv/zlato_1.jpg"/>
          <p:cNvPicPr/>
          <p:nvPr/>
        </p:nvPicPr>
        <p:blipFill>
          <a:blip r:embed="rId1"/>
          <a:stretch/>
        </p:blipFill>
        <p:spPr>
          <a:xfrm>
            <a:off x="1476360" y="9079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24" name="TextovéPole 2"/>
          <p:cNvSpPr/>
          <p:nvPr/>
        </p:nvSpPr>
        <p:spPr>
          <a:xfrm>
            <a:off x="681840" y="6093000"/>
            <a:ext cx="25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respatak Sedmihradsk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5788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latý plech (elektrum) s trojúhelníkovitými výrůstky čtyřiadvacetistěnu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deltoidového. Křepice. Velikost vzorku 4×2,8 cm, hmotnost 3,95 g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a Městského muzea a galerie Vodňany, foto J. Jirásek 2006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http://geologie.vsb.cz/loziska/suroviny/rudy/zlato%2005_resize.JPG"/>
          <p:cNvPicPr/>
          <p:nvPr/>
        </p:nvPicPr>
        <p:blipFill>
          <a:blip r:embed="rId1"/>
          <a:stretch/>
        </p:blipFill>
        <p:spPr>
          <a:xfrm>
            <a:off x="1476360" y="1989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endritický růst drátků zlata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Jílové u Prahy. Velikost agregátu 17×15 m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ttp://geologie.vsb.cz/loziska/suroviny/rudy/zlato%2001_resize.JPG"/>
          <p:cNvPicPr/>
          <p:nvPr/>
        </p:nvPicPr>
        <p:blipFill>
          <a:blip r:embed="rId1"/>
          <a:stretch/>
        </p:blipFill>
        <p:spPr>
          <a:xfrm>
            <a:off x="1547640" y="1700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latá zrna a nugetky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Pilar, Goyaz, Brazílie. Velikost zrn do 5 m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http://geologie.vsb.cz/loziska/suroviny/rudy/zlato%2002_resize.JPG"/>
          <p:cNvPicPr/>
          <p:nvPr/>
        </p:nvPicPr>
        <p:blipFill>
          <a:blip r:embed="rId1"/>
          <a:stretch/>
        </p:blipFill>
        <p:spPr>
          <a:xfrm>
            <a:off x="1692360" y="18446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latina 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latina 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http://geologie.vsb.cz/loziska/suroviny/rudy/platina%2002_resize.jpg"/>
          <p:cNvPicPr/>
          <p:nvPr/>
        </p:nvPicPr>
        <p:blipFill>
          <a:blip r:embed="rId1"/>
          <a:stretch/>
        </p:blipFill>
        <p:spPr>
          <a:xfrm>
            <a:off x="1476360" y="14130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4" name="TextovéPole 1"/>
          <p:cNvSpPr/>
          <p:nvPr/>
        </p:nvSpPr>
        <p:spPr>
          <a:xfrm>
            <a:off x="770400" y="5950080"/>
            <a:ext cx="64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ožisko Omutninskaja, Syserť, Rusko. Velikost vzorku 1,5×1 c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bírky Geologického pavilonu VŠB-TU Ostrava, foto J. Jirásek 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200"/>
            <a:ext cx="8229600" cy="5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latina 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6" descr="http://www.infoescola.com/wp-content/uploads/2010/05/platina.jpg"/>
          <p:cNvPicPr/>
          <p:nvPr/>
        </p:nvPicPr>
        <p:blipFill>
          <a:blip r:embed="rId1"/>
          <a:stretch/>
        </p:blipFill>
        <p:spPr>
          <a:xfrm>
            <a:off x="782640" y="836640"/>
            <a:ext cx="7315200" cy="5448240"/>
          </a:xfrm>
          <a:prstGeom prst="rect">
            <a:avLst/>
          </a:prstGeom>
          <a:ln w="0">
            <a:noFill/>
          </a:ln>
        </p:spPr>
      </p:pic>
      <p:sp>
        <p:nvSpPr>
          <p:cNvPr id="139" name="TextovéPole 7"/>
          <p:cNvSpPr/>
          <p:nvPr/>
        </p:nvSpPr>
        <p:spPr>
          <a:xfrm>
            <a:off x="312480" y="6453360"/>
            <a:ext cx="55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ttp://www.infoescola.com/elementos-quimicos/platina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tuť H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tuť Hg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pky rtuti v křemen-sideritové žilovině s drobně zrnitým cinabarite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Štola Zimné, Rudňany, Slovensko. Velikost kapek 7 a 3 mm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a J. Mazucha, foto J. Jirásek 2006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http://geologie.vsb.cz/loziska/suroviny/rudy/rtu%C5%A5%2002_resize.jpg"/>
          <p:cNvPicPr/>
          <p:nvPr/>
        </p:nvPicPr>
        <p:blipFill>
          <a:blip r:embed="rId1"/>
          <a:stretch/>
        </p:blipFill>
        <p:spPr>
          <a:xfrm>
            <a:off x="1476360" y="1773360"/>
            <a:ext cx="5715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amant 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http://web.natur.cuni.cz/ugmnz/mineral/mineral/gifm/diamant-1.gif"/>
          <p:cNvPicPr/>
          <p:nvPr/>
        </p:nvPicPr>
        <p:blipFill>
          <a:blip r:embed="rId1"/>
          <a:stretch/>
        </p:blipFill>
        <p:spPr>
          <a:xfrm>
            <a:off x="2268360" y="260280"/>
            <a:ext cx="914400" cy="95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web.natur.cuni.cz/ugmnz/mineral/mineral/fotv/diamant_1.jpg"/>
          <p:cNvPicPr/>
          <p:nvPr/>
        </p:nvPicPr>
        <p:blipFill>
          <a:blip r:embed="rId2"/>
          <a:stretch/>
        </p:blipFill>
        <p:spPr>
          <a:xfrm>
            <a:off x="1476360" y="13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web.natur.cuni.cz/ugmnz/mineral/mineral/gifm/diamant-2.gif"/>
          <p:cNvPicPr/>
          <p:nvPr/>
        </p:nvPicPr>
        <p:blipFill>
          <a:blip r:embed="rId3"/>
          <a:stretch/>
        </p:blipFill>
        <p:spPr>
          <a:xfrm>
            <a:off x="6084720" y="361800"/>
            <a:ext cx="905040" cy="95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http://web.natur.cuni.cz/ugmnz/mineral/mineral/gifm/s-kub.gif"/>
          <p:cNvPicPr/>
          <p:nvPr/>
        </p:nvPicPr>
        <p:blipFill>
          <a:blip r:embed="rId4"/>
          <a:stretch/>
        </p:blipFill>
        <p:spPr>
          <a:xfrm>
            <a:off x="324000" y="384120"/>
            <a:ext cx="8096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pka rtuti v křemen-sideritové žilovině s červeným cinabarite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Štola Zimné, Rudňany, Slovensko. Velikost kapky 3 mm.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a J. Mazucha, foto J. Jirásek 2006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http://geologie.vsb.cz/loziska/suroviny/rudy/rtu%C5%A5%2001_resize.jpg"/>
          <p:cNvPicPr/>
          <p:nvPr/>
        </p:nvPicPr>
        <p:blipFill>
          <a:blip r:embed="rId1"/>
          <a:stretch/>
        </p:blipFill>
        <p:spPr>
          <a:xfrm>
            <a:off x="1809720" y="1916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sen 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vový arsen je šedý, křehký a lze ho roztírat na prášek. Ochlazením arsenových par získáme nekovovou plastickou modifikaci žlutého arsenu. Všechny sloučeniny arsenu jsou jedovat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17640"/>
            <a:ext cx="9144000" cy="23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rsen A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Šedočerný ledvinitý arsen. Jáchymov. Velikost vzorku 9,5×6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http://geologie.vsb.cz/loziska/suroviny/rudy/arsen%2002_resize.jpg"/>
          <p:cNvPicPr/>
          <p:nvPr/>
        </p:nvPicPr>
        <p:blipFill>
          <a:blip r:embed="rId1"/>
          <a:stretch/>
        </p:blipFill>
        <p:spPr>
          <a:xfrm>
            <a:off x="161928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mavě šedý ledvinitý arsen s krystaly bílého dolomitu. 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  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áchymov. Velikost vzorku 8×6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a D. Matýska, foto D. Matýsek 2001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http://geologie.vsb.cz/loziska/suroviny/rudy/arsen%2003_resize.jpg"/>
          <p:cNvPicPr/>
          <p:nvPr/>
        </p:nvPicPr>
        <p:blipFill>
          <a:blip r:embed="rId1"/>
          <a:stretch/>
        </p:blipFill>
        <p:spPr>
          <a:xfrm>
            <a:off x="1476360" y="1557360"/>
            <a:ext cx="57150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edvinitý agregát arsenu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Příbram - Březové Hory. Velikost vzorku 5,5×3,5 cm. 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a J. Slámy, foto J. Jirásek 2006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http://geologie.vsb.cz/loziska/suroviny/rudy/arsen%2001_resize.JPG"/>
          <p:cNvPicPr/>
          <p:nvPr/>
        </p:nvPicPr>
        <p:blipFill>
          <a:blip r:embed="rId1"/>
          <a:stretch/>
        </p:blipFill>
        <p:spPr>
          <a:xfrm>
            <a:off x="1763640" y="1557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smut Bi je načervenalý kov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ismut se používá hlavně ve farmaceutickém, kosmetickém a chemickém průmyslu. Je přísadou při výrobě lehkotavitelných slitin (Roseho kov 2 Bi - Sn - Pb, Woodův kov 4 Bi - 2 Pb - Sn - Cd), které se používají jako pájky a elektrické pojistky. Sloučeniny bismutu dobře pájí kov se sklem. Dále je přídaván do slitin s malou smrštivostí a ložiskových kovů. Protože má malý průřez na záchyt neutronů, používá se v jaderných reaktorech. Využívá se i pro výrobu pigmentů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ismut Bi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Šedý bismut s dolomitem (vlevo)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Jáchymov, důl Svornost. Velikost vzorku 9,5×6,5 c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6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http://geologie.vsb.cz/loziska/suroviny/rudy/bismut%2001_resize.jpg"/>
          <p:cNvPicPr/>
          <p:nvPr/>
        </p:nvPicPr>
        <p:blipFill>
          <a:blip r:embed="rId1"/>
          <a:stretch/>
        </p:blipFill>
        <p:spPr>
          <a:xfrm>
            <a:off x="1476360" y="2421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252000" cy="23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ismut Bi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říbřitě bílé kovové zrno bismutu v křemenné žilovině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Jáchymov. Velikost udána měřítkem na snímku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a J. Jiráska, foto J. Jirásek 2007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http://geologie.vsb.cz/loziska/suroviny/rudy/bismut%2002_resize.jpg"/>
          <p:cNvPicPr/>
          <p:nvPr/>
        </p:nvPicPr>
        <p:blipFill>
          <a:blip r:embed="rId1"/>
          <a:stretch/>
        </p:blipFill>
        <p:spPr>
          <a:xfrm>
            <a:off x="1547640" y="1916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olný nažloutlý čirý osmistěn diamantu (hmotnost 0,0253 g)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Kimberley, Jihoafrická republika. Velikost udána úsečkou na snímku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7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geologie.vsb.cz/loziska/suroviny/nerudy/diamant%2001_resize.jpg"/>
          <p:cNvPicPr/>
          <p:nvPr/>
        </p:nvPicPr>
        <p:blipFill>
          <a:blip r:embed="rId1"/>
          <a:stretch/>
        </p:blipFill>
        <p:spPr>
          <a:xfrm>
            <a:off x="900000" y="1378080"/>
            <a:ext cx="669636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irý diamant (lepty je zvýrazněno lamelování) ve slepenci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Diamantina, Minas Gerais, Brazílie. Délka krystalu 5 mm.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   Sbírky Geologického pavilonu VŠB-TU Ostrava, foto J. Jirásek 2007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geologie.vsb.cz/loziska/suroviny/nerudy/diamant%2002_resize.jpg"/>
          <p:cNvPicPr/>
          <p:nvPr/>
        </p:nvPicPr>
        <p:blipFill>
          <a:blip r:embed="rId1"/>
          <a:stretch/>
        </p:blipFill>
        <p:spPr>
          <a:xfrm>
            <a:off x="1332000" y="1413000"/>
            <a:ext cx="63864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rovnání krystalické mřížky diamantu a grafitu-tuh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grafit"/>
          <p:cNvPicPr/>
          <p:nvPr/>
        </p:nvPicPr>
        <p:blipFill>
          <a:blip r:embed="rId1"/>
          <a:stretch/>
        </p:blipFill>
        <p:spPr>
          <a:xfrm>
            <a:off x="5602320" y="1765440"/>
            <a:ext cx="1876320" cy="1609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diamant"/>
          <p:cNvPicPr/>
          <p:nvPr/>
        </p:nvPicPr>
        <p:blipFill>
          <a:blip r:embed="rId2"/>
          <a:stretch/>
        </p:blipFill>
        <p:spPr>
          <a:xfrm>
            <a:off x="1835280" y="1773360"/>
            <a:ext cx="149544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struktura"/>
          <p:cNvPicPr/>
          <p:nvPr/>
        </p:nvPicPr>
        <p:blipFill>
          <a:blip r:embed="rId3"/>
          <a:stretch/>
        </p:blipFill>
        <p:spPr>
          <a:xfrm>
            <a:off x="5867280" y="4040280"/>
            <a:ext cx="1901880" cy="2089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http://web.natur.cuni.cz/ugmnz/mineral/mineral/gifm/diamant-3.gif"/>
          <p:cNvPicPr/>
          <p:nvPr/>
        </p:nvPicPr>
        <p:blipFill>
          <a:blip r:embed="rId4"/>
          <a:stretch/>
        </p:blipFill>
        <p:spPr>
          <a:xfrm>
            <a:off x="1619280" y="4011480"/>
            <a:ext cx="199080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t Tuha 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4560" y="475920"/>
            <a:ext cx="910908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oustava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šesterečná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zhled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šupinkatá až celistvá, často s jílem, neprůhledná, lesk polokovový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Barva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tmavě šedá až černá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ryp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šedý až černý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Tvrdos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= 1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Hustot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= 2,2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Další vlastnosti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vodič elektřiny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znik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přeměnou usazených hornin ze zbytků organických látek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ýskyt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v přeměněných horninách - Český Krumlov, Netolice, Jeseníky (Branná)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užití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elektrody suchých článků, moderátor v atomových reaktorech, žáruvzdorné nádoby, náplně do tužek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známka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zanechává stopu na papír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http://web.natur.cuni.cz/ugmnz/mineral/mineral/gifm/s-hextri.gif"/>
          <p:cNvPicPr/>
          <p:nvPr/>
        </p:nvPicPr>
        <p:blipFill>
          <a:blip r:embed="rId1"/>
          <a:stretch/>
        </p:blipFill>
        <p:spPr>
          <a:xfrm>
            <a:off x="8028000" y="22320"/>
            <a:ext cx="7714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t Tuh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http://web.natur.cuni.cz/ugmnz/mineral/mineral/fotv/grafit_2.jpg"/>
          <p:cNvPicPr/>
          <p:nvPr/>
        </p:nvPicPr>
        <p:blipFill>
          <a:blip r:embed="rId1"/>
          <a:stretch/>
        </p:blipFill>
        <p:spPr>
          <a:xfrm>
            <a:off x="1547640" y="162864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struktura"/>
          <p:cNvPicPr/>
          <p:nvPr/>
        </p:nvPicPr>
        <p:blipFill>
          <a:blip r:embed="rId2"/>
          <a:stretch/>
        </p:blipFill>
        <p:spPr>
          <a:xfrm>
            <a:off x="395280" y="404640"/>
            <a:ext cx="1900080" cy="2087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http://web.natur.cuni.cz/ugmnz/mineral/mineral/gifm/s-hextri.gif"/>
          <p:cNvPicPr/>
          <p:nvPr/>
        </p:nvPicPr>
        <p:blipFill>
          <a:blip r:embed="rId3"/>
          <a:stretch/>
        </p:blipFill>
        <p:spPr>
          <a:xfrm>
            <a:off x="7956720" y="260280"/>
            <a:ext cx="7714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01:37:29Z</dcterms:created>
  <dc:creator>Tomáš Kočí</dc:creator>
  <dc:description/>
  <dc:language>en-US</dc:language>
  <cp:lastModifiedBy>stercl</cp:lastModifiedBy>
  <dcterms:modified xsi:type="dcterms:W3CDTF">2015-04-26T16:43:12Z</dcterms:modified>
  <cp:revision>15</cp:revision>
  <dc:subject/>
  <dc:title>Systém minerálů</dc:title>
</cp:coreProperties>
</file>