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62E4-FB5D-4C29-A71D-C70113B234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FBC2-A265-4361-8CD9-16FF2CE857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C08F-01CE-4C6C-8F06-0D4F2FC773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DF49-B936-462A-9DA1-3594BB4EFC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0FB8-3E79-4427-B1D7-67813D366D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949B-8CEC-46B7-B227-FD9BBB65A1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A543-58FD-48B7-82A1-EC4D7E76D78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EA32-D064-454D-96FE-F404B2C136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8079-BC01-456D-BF7E-B063A5D480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5CB9-5091-47D8-B16D-43DBFD68F2C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974F-0D8B-45C8-8F49-344E0BC382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E006-57E8-4BE5-8450-30FCA41B78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35EE-BE5A-463D-A132-624024738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22D-4849-4D5A-B642-DAA9E643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CBA62-9674-4AE5-B0D7-1D2078BC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31F6A-273A-421F-9303-3AD9B6D4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FDC98-8966-4AE6-BD35-E3EAA215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77440-7351-4F84-97E5-ECEE8188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7EBA3-4482-4677-8BAD-4471E4CE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99F0B-43F4-4D7C-A20B-E7F7D5C0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CDB1D-9FCA-4675-8959-D6035E93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8EE26-062F-4B75-9202-62F23409E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63D8B-4B5E-4EA0-94F9-1F21E868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AEFF0-EAF1-4260-82F4-7E57030E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FAB5-3C2E-4946-AAD8-F607A334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AA51F-97CC-4CB5-A579-B78CBE44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FDE37-AED7-4002-866C-3CE0D17B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FE116-999D-48AF-AB2A-A64B4913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8EFC6-BF36-4ED6-9CC7-1DBAE7E4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A2EF3-9804-4D28-960C-5CE8AC03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7B709-D529-4AB8-9FB6-972FAA37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B4BAA-8882-4BC7-9EA7-3C9BCA4F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E448C-B56F-4FD7-8522-1A24F100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099CB-58C5-4FB3-AEE6-F2BC9A1D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E076A-D694-4DC5-9AEF-28DB504F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526-E9D1-4915-9C3C-2F0F15D9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A99B2-A1B1-42AD-9DF3-CACEADAF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641F0-CD48-4605-AEFB-7604FB4C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CE4CC-9758-40E9-B3CC-00BE9B6B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B0E39-72F8-4390-B173-5177E842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4226C-B8FD-4486-900C-953B0E70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AF4C8-A504-4FDC-B499-FB51738F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4AFC2-6484-4911-BB6D-1C0181A2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0AA07-5E87-4AA4-832D-B6B89F3F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4D1A7-AF61-40A6-B456-23DFB3CB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FC1E9-7A3A-4A7B-AA28-91F35721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DA22-D856-4987-900F-BEB5390D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A2156-7BFE-4172-A56A-EDA73DDA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F991C-3151-457D-B7F2-CEAE94D9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13EBC-13C8-4756-AB3D-4A091383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172B5-34AB-4110-AE53-9149E5B3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2EB25-956D-4FF6-8A85-086AE9C3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A08DB-3901-488B-8227-0B7C6A54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4070D-F932-4639-9109-D429BBDE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4332B-F146-4135-B66D-75C4A9EB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2D256-45BA-4DD9-B3CA-678183A2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DC990-EEDF-437D-BE21-D7F55728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3BD1-3D34-42EE-BB2C-DA6787F0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FA69F-836F-4B10-B27F-E45C7E76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25BF3-8888-4B9F-A270-40F71863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47EC0-FDEB-48B2-9A47-3CE403BE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3F50AC-A204-4D39-96AD-E2EABC84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04C1C-3AD3-4109-B214-EB479561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E1DF2-38E9-4942-BBA9-29E13EF8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67F85-C4CE-444A-8D87-105A26F6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C50AB-57E4-4534-89CB-5577EB09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8502F-9A85-492F-AA4D-73549D4B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AF211-FD9E-4277-A627-59357D2A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06B4-468E-4C40-AC26-7A22CD63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400D14-3990-442E-B708-B5CA177F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FB4016-2B35-4C83-A9A9-08A11A55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C00D0-BF1B-4089-8956-6C6C3E09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066A0-CE25-40CE-BE21-E4DF0EA2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138F5-DC10-4E6D-98C2-40278E36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17000-EE15-4423-8B9A-0531B5A2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510EF-3838-4C1B-B0A1-A001FBF9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920CD-16E6-45FC-8486-56E2C0FC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B9666-FE64-4A70-A37E-BD15BEAC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49AD7-A4C3-4491-B6A5-FA873038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7C8A-B30A-4390-BE4F-4CDFD3F0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4F4164-BE49-4547-9F35-B13ED921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F5BE3-D915-4FBE-AEBA-A16C8E94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491775-CC56-4862-82E1-12E920E4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249A9D-A8CC-4991-9079-193C8168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437578-04B4-47C7-90B9-D7521B43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8B544F-E63C-4D7D-B891-0777972C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C32AA6-3DC9-4AFE-B0E2-089AC270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7EF8E-92C9-43D8-931F-110DA1C0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CDA46-E750-4C7C-B0CC-0A2A5244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61E6-E095-4E77-82C1-E3DB189B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1A76-BAA5-4FC4-A678-90EDDFE3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7AC2-D76D-408B-81BD-F5E96D3F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0DB9-DC4E-4CA7-8ECC-17D7F7EA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F5EA-D33E-4648-81BE-2A3795D0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B710-9E85-4B7B-AF9B-1985C846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3358-D63C-4BCA-AE8E-FA7BF1EC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D649-B566-4B88-B75B-2DDAF594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3126-D60A-46EB-A335-7F42D04F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73C25-4ACD-441D-ACA7-7E07BB85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DC4EA-6DBE-440D-8D90-875F8805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9683B-AF9F-4566-992A-3A84FDE2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0CD7E-B2AB-4A0D-8B2F-5F519911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3B230-DED8-40E6-8560-828E7702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7B0-0423-4CEA-80A5-B95B0B41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33747-270C-47B4-943C-479876CD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FCA7B-C29B-4AB8-8AFF-B07152A3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399B9-97EA-4C4E-9EBD-A255101E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32894-344C-4EE7-AEF7-82B4CD38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5A579-0D92-4B6C-9E39-688AFF36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2018E-F9CB-4BAD-A262-40A6D871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94735-825F-4C1C-906A-0E0BDD66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C759C-E52B-4E30-9B83-389B27A7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AEFD7-E79F-4774-AF9C-63B5382D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9F5AA-FE26-4948-9BB1-A08C4154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4D1-994F-4A72-97D0-5A14516A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B57E2-3804-4351-A7CA-91887918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CBD58-C16B-49EA-A1DB-925F38C3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9C584-8609-4453-BE86-0116377E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02289-9473-46DC-BE54-4860EC0F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05258-9795-4239-BF51-7F6D468F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A3D1E-F3FB-4692-9B09-92268E69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1C49B-5952-4152-9EC1-59C8ADBB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CFCC2-5861-41FD-93C1-8045A549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C0D75-4ADE-4F13-95CD-11AAF84E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4BB66-D070-4879-9F15-F401243A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FAC9-9F95-4AE3-A344-FF88A33E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B1D6D-00BA-423E-AFD0-481509B4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76A10-8EDC-44A4-AE0F-1F9F1BDA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49330-B8D9-474B-A842-76386164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5B6AA-833B-4747-8603-5F49E5CD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A0FD9-64B8-430E-8732-09DAF7FC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0CC92-9D7E-47ED-9503-E193CF7C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0A962-E350-4714-8F5A-6EC48B0E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92C53-A292-44FD-8B21-7F1474B2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55A18-62C1-485E-A55F-30FB4351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D6626-A7E0-44BF-BAEA-A21DA404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DC1-F1C5-423C-94B7-66CA006A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B6596-FCBF-4886-9341-03B78ACF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1C2C3-AA73-40B5-A1AB-315D2747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19734-A9A3-4533-89B7-9E490316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CF9D7-7D3E-4E1F-B0A0-4513F440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F9F40-D425-4AF8-AC6A-3AABEC7D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A4F44-D716-4706-BF04-EEE6ECC7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A25C6-8CDC-4668-9E87-FF053ABC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E633A-52F2-4095-ABC4-A5443501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FA065-A6EE-4867-94B0-24A50B0D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30644-D011-4479-91D4-4F1AEE67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B38-700D-415B-99A3-153D914C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8FFB9-A08C-4C8D-A41A-3C51B913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4E402-EA91-4724-9B8F-65CDA19A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EA2F3-F82D-4BF2-A922-0B059C39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3C7F0-A878-46C8-8B59-7A6862E1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07215-003A-40F7-9C7E-C1E72C05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3E50A-3D6E-4117-979D-7FCCF992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D7C43-0214-428A-90EF-5793641B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92611-C0CC-4E7F-8221-67A0461A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98C67-C146-4032-9922-77C9A7E4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E670C-7030-4459-AD37-FD32727E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95B-77AE-4517-A078-3FDCF707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93D67-6A86-4AF8-AFFB-5EBBF1FB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8E31E-24BA-494A-A1B4-FDF1D5AB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C3453-792D-4C62-965D-7E5DADBF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917A0-50CE-4DE2-8CA7-2D5E01B5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3D0EF-78B8-40D8-A3FC-3A57D3A1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63FE6-227F-445B-A471-58AEF9E3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D6E3D-3BDF-4922-B392-47A8AC11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07BC5-6757-4F38-A6E3-3A1635A1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D9922-7BA5-44A6-B471-8712AF79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817A8-B49F-4058-88A7-F427DD94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FAD-D2A5-4CA0-A9B2-B058ACDD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EA291-3137-4803-AE0E-7664BD13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03430-32CB-40A7-A27D-C005870E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25B2D-2DFF-44F2-AA28-7C58EC57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7DFC2-B2FF-4791-B731-2C05A6D7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3E8B4-4B81-42E5-9529-E170F63D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2C2A4-7A41-4C89-81FA-A157FAE8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A971C-903D-4441-9B3C-005E6A2B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465F9-A322-4D8B-B67A-3D6AB46A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FFD4A-BA04-4928-AFFB-596116F0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FBCF5-2861-43AB-8933-FF410288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33E2-119C-49E2-A546-837D08EF6BB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38450ECC-E147-4100-8057-55FB5C1F928B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4C559EBF-F4EE-4B99-A31C-AF76F6225AB5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5E8CCD09-23CF-40A7-A4CA-755E9CBB111F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38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39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BED834EB-8247-4032-A1D8-EC4FF482B677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0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2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9188E429-9DBE-4C3A-9CB0-912A866AB116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534520"/>
                <a:tab algn="l" pos="8940960"/>
                <a:tab algn="l" pos="9347040"/>
                <a:tab algn="l" pos="9753480"/>
                <a:tab algn="l" pos="10159920"/>
                <a:tab algn="l" pos="10566360"/>
              </a:tabLst>
            </a:pPr>
            <a:fld id="{427B745C-D670-4DEB-98BB-1A5BCDD1B986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3581-8601-415A-9559-7F3FF5A7509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FE2173CA-3A6A-40FB-8DD8-D77ED6286CA3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0F25239C-16B2-4109-A385-8422EC89EEED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76B8495E-88E7-4402-8BFE-FC1CD575542F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4346ECF2-21C3-492E-8B8B-492484FC6543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47A49339-38CF-4A22-A9CD-2306FA2C38CB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39736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580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04640"/>
                <a:tab algn="l" pos="812880"/>
                <a:tab algn="l" pos="1220760"/>
                <a:tab algn="l" pos="1627200"/>
                <a:tab algn="l" pos="2035080"/>
                <a:tab algn="l" pos="2443320"/>
                <a:tab algn="l" pos="2851200"/>
                <a:tab algn="l" pos="3257640"/>
                <a:tab algn="l" pos="3665520"/>
                <a:tab algn="l" pos="4073400"/>
                <a:tab algn="l" pos="4479840"/>
                <a:tab algn="l" pos="4888080"/>
                <a:tab algn="l" pos="5295960"/>
                <a:tab algn="l" pos="5703840"/>
                <a:tab algn="l" pos="6110280"/>
                <a:tab algn="l" pos="6518160"/>
                <a:tab algn="l" pos="6926400"/>
                <a:tab algn="l" pos="7332840"/>
                <a:tab algn="l" pos="7740720"/>
                <a:tab algn="l" pos="8148600"/>
                <a:tab algn="l" pos="8229600"/>
                <a:tab algn="l" pos="9144000"/>
                <a:tab algn="l" pos="10058400"/>
              </a:tabLst>
            </a:pPr>
            <a:fld id="{A1FE55D0-B831-4571-BDFC-ED06FE766FBA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2873520" y="2952720"/>
            <a:ext cx="482904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Praha &amp; EU: Investujeme do vaší budoucnosti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Evropský sociální f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4" descr=""/>
          <p:cNvPicPr/>
          <p:nvPr/>
        </p:nvPicPr>
        <p:blipFill>
          <a:blip r:embed="rId1"/>
          <a:stretch/>
        </p:blipFill>
        <p:spPr>
          <a:xfrm>
            <a:off x="3330720" y="2089080"/>
            <a:ext cx="2411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Výš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72" name="Picture 5" descr="rovnobeznosten_7"/>
          <p:cNvPicPr/>
          <p:nvPr/>
        </p:nvPicPr>
        <p:blipFill>
          <a:blip r:embed="rId1"/>
          <a:stretch/>
        </p:blipFill>
        <p:spPr>
          <a:xfrm>
            <a:off x="250920" y="1844640"/>
            <a:ext cx="6697440" cy="40672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" descr="rovnobeznosten_8"/>
          <p:cNvPicPr/>
          <p:nvPr/>
        </p:nvPicPr>
        <p:blipFill>
          <a:blip r:embed="rId2"/>
          <a:stretch/>
        </p:blipFill>
        <p:spPr>
          <a:xfrm>
            <a:off x="5148360" y="5229360"/>
            <a:ext cx="356400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Objem rovnoběžnostěn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jem rovnoběžnostěnu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sah podstavy ∙ vý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0066"/>
                </a:solidFill>
                <a:latin typeface="Times New Roman"/>
              </a:rPr>
              <a:t>  </a:t>
            </a:r>
            <a:r>
              <a:rPr b="1" i="1" lang="cs-CZ" sz="4000" spc="-1" strike="noStrike">
                <a:solidFill>
                  <a:srgbClr val="330066"/>
                </a:solidFill>
                <a:latin typeface="Times New Roman"/>
              </a:rPr>
              <a:t>V = a ∙</a:t>
            </a:r>
            <a:r>
              <a:rPr b="1" lang="cs-CZ" sz="40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i="1" lang="cs-CZ" sz="4000" spc="-1" strike="noStrike">
                <a:solidFill>
                  <a:srgbClr val="330066"/>
                </a:solidFill>
                <a:latin typeface="Times New Roman"/>
              </a:rPr>
              <a:t>b ∙ c </a:t>
            </a:r>
            <a:r>
              <a:rPr b="1" lang="cs-CZ" sz="4000" spc="-1" strike="noStrike">
                <a:solidFill>
                  <a:srgbClr val="330066"/>
                </a:solidFill>
                <a:latin typeface="Times New Roman"/>
              </a:rPr>
              <a:t>∙ sin</a:t>
            </a:r>
            <a:r>
              <a:rPr b="1" lang="el-GR" sz="4000" spc="-1" strike="noStrike">
                <a:solidFill>
                  <a:srgbClr val="330066"/>
                </a:solidFill>
                <a:latin typeface="Times New Roman"/>
              </a:rPr>
              <a:t>α</a:t>
            </a:r>
            <a:r>
              <a:rPr b="1" lang="cs-CZ" sz="4000" spc="-1" strike="noStrike">
                <a:solidFill>
                  <a:srgbClr val="330066"/>
                </a:solidFill>
                <a:latin typeface="Times New Roman"/>
              </a:rPr>
              <a:t> ∙  sin</a:t>
            </a:r>
            <a:r>
              <a:rPr b="1" lang="el-GR" sz="4000" spc="-1" strike="noStrike">
                <a:solidFill>
                  <a:srgbClr val="330066"/>
                </a:solidFill>
                <a:latin typeface="Times New Roman"/>
              </a:rPr>
              <a:t>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Zdro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formace o trojklonné soustavě: 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http://minerals.webgarden.cz/temata/krystalove-sousta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itace Cavalieriho principu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http://mapyourinfo.com/wiki/cs.wikipedia.org/Cavalieriho%20princip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62708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0066"/>
                </a:solidFill>
                <a:latin typeface="Arial"/>
              </a:rPr>
              <a:t>Trojklonná soustava</a:t>
            </a:r>
            <a:br>
              <a:rPr sz="4400"/>
            </a:br>
            <a:r>
              <a:rPr b="1" lang="cs-CZ" sz="4400" spc="-1" strike="noStrike">
                <a:solidFill>
                  <a:srgbClr val="330066"/>
                </a:solidFill>
                <a:latin typeface="Arial"/>
              </a:rPr>
              <a:t>… </a:t>
            </a:r>
            <a:r>
              <a:rPr b="1" i="1" lang="cs-CZ" sz="3200" spc="-1" strike="noStrike">
                <a:solidFill>
                  <a:srgbClr val="330066"/>
                </a:solidFill>
                <a:latin typeface="Arial"/>
              </a:rPr>
              <a:t>a objem rovnoběžnostěnu řešený synteticky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hDr. Eva Patá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nsa gymnáz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Trojklonná soustav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šechny osy osového kříže jsou různě dlouhé a svírají libovolný kosý úhel (nikoli pravý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inerály: albit, chalkantit (modrá skalice), kaolinit, plagioklas,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odonit, inesit, prousti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Model postavení moleku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0" y="5084640"/>
            <a:ext cx="9144000" cy="10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sm molekul tvoří vrcholy tělesa </a:t>
            </a:r>
            <a:r>
              <a:rPr b="1" lang="cs-CZ" sz="3000" spc="-1" strike="noStrike">
                <a:solidFill>
                  <a:srgbClr val="330066"/>
                </a:solidFill>
                <a:latin typeface="Arial"/>
              </a:rPr>
              <a:t>rovnoběžnostěn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5" descr="rovnobeznosten_2"/>
          <p:cNvPicPr/>
          <p:nvPr/>
        </p:nvPicPr>
        <p:blipFill>
          <a:blip r:embed="rId1"/>
          <a:stretch/>
        </p:blipFill>
        <p:spPr>
          <a:xfrm>
            <a:off x="971640" y="1484280"/>
            <a:ext cx="57560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Vlastnosti rovnoběžnostěn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Čtyřboký hranol, jehož podstavou je rovnoběžní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tější stěny rovnoběžn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tější stěny shodn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šechny stěny jsou rovnoběžní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rojklonné soustavě odpovídá obecný rovnoběžnostěn – úhly mezi hranami nejsou prav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330066"/>
                </a:solidFill>
                <a:latin typeface="Arial"/>
              </a:rPr>
              <a:t>Spočítejte objem rovnoběžnostěnu</a:t>
            </a:r>
            <a:endParaRPr b="1" lang="en-US" sz="3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7570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áno: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élky hran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hel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zi hranami délek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hel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ý svírá hrana délk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 rovinou podstavy (rovinou hran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7" descr="rovnobeznosten_3"/>
          <p:cNvPicPr/>
          <p:nvPr/>
        </p:nvPicPr>
        <p:blipFill>
          <a:blip r:embed="rId1"/>
          <a:stretch/>
        </p:blipFill>
        <p:spPr>
          <a:xfrm>
            <a:off x="3564000" y="3470400"/>
            <a:ext cx="558000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Cavalieriho princi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ělesa se stejně velkými podstavami a výškami, jejichž řezy rovnoběžné                   s podstavami vedené ve stejné vzdálenosti od podstav mají stejné obsahy, mají stejný obj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Důsledek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: Rovnoběžnostěn má stejný objem jako kolmý hranol s rovnoběžníkovou podstavou a stejnou výšk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Důsledek Cavalieriho princip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ejný obje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4" descr="rovnobeznosten"/>
          <p:cNvPicPr/>
          <p:nvPr/>
        </p:nvPicPr>
        <p:blipFill>
          <a:blip r:embed="rId1"/>
          <a:stretch/>
        </p:blipFill>
        <p:spPr>
          <a:xfrm>
            <a:off x="0" y="2852640"/>
            <a:ext cx="4600440" cy="26481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5" descr="rovnobeznosten_4"/>
          <p:cNvPicPr/>
          <p:nvPr/>
        </p:nvPicPr>
        <p:blipFill>
          <a:blip r:embed="rId2"/>
          <a:stretch/>
        </p:blipFill>
        <p:spPr>
          <a:xfrm>
            <a:off x="5003640" y="2879640"/>
            <a:ext cx="41403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330066"/>
                </a:solidFill>
                <a:latin typeface="Arial"/>
              </a:rPr>
              <a:t>Obsah podstav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669" name="Picture 4" descr="rovnobeznosten_5"/>
          <p:cNvPicPr/>
          <p:nvPr/>
        </p:nvPicPr>
        <p:blipFill>
          <a:blip r:embed="rId1"/>
          <a:stretch/>
        </p:blipFill>
        <p:spPr>
          <a:xfrm>
            <a:off x="1619280" y="1700280"/>
            <a:ext cx="5400720" cy="29876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6" descr="rovnobeznosten_6"/>
          <p:cNvPicPr/>
          <p:nvPr/>
        </p:nvPicPr>
        <p:blipFill>
          <a:blip r:embed="rId2"/>
          <a:stretch/>
        </p:blipFill>
        <p:spPr>
          <a:xfrm>
            <a:off x="1763640" y="4797360"/>
            <a:ext cx="511200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8:17:54Z</dcterms:created>
  <dc:creator>EVIČKA</dc:creator>
  <dc:description/>
  <dc:language>en-US</dc:language>
  <cp:lastModifiedBy>stercl</cp:lastModifiedBy>
  <dcterms:modified xsi:type="dcterms:W3CDTF">2014-09-26T12:29:47Z</dcterms:modified>
  <cp:revision>8</cp:revision>
  <dc:subject/>
  <dc:title>Trojklonná soustava  Objem rovnoběžnostěnu řešený synteticky</dc:title>
</cp:coreProperties>
</file>