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65D3-C884-4D6E-B6A7-3444D48C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FD2-EE94-425F-81C3-E8F3EC76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C120-7BD7-40C7-B298-8E6309D4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6C9E-BC04-47F6-BB4F-2B6A7ADE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C79A-4AE1-409C-B959-ABF99ADA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630A-E683-4DD1-8586-F3A383F0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701-E74B-4697-AB63-DADD1B6D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C657-183E-4A84-8A00-F7CBC571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E807-562A-40CF-BAB9-B97EAB92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EB51-F8D9-4F98-B2AC-527FAE26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0EDB-12B0-4BAC-AB6C-15150755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BD44-278D-49B4-96CF-9BD5D70C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7267-6A4F-45CB-A1DD-28E717ECD4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874960" y="2940120"/>
            <a:ext cx="4827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Praha &amp; EU: Investujeme do vaší budoucnosti</a:t>
            </a:r>
            <a:br>
              <a:rPr sz="1000"/>
            </a:br>
            <a:r>
              <a:rPr b="1" lang="cs-CZ" sz="1000" spc="-1" strike="noStrike">
                <a:solidFill>
                  <a:srgbClr val="000000"/>
                </a:solidFill>
                <a:latin typeface="Times New Roman"/>
              </a:rPr>
              <a:t>    Evropský sociální fo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330720" y="2089080"/>
            <a:ext cx="2411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2268360" y="836640"/>
            <a:ext cx="4607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nerals are Formed b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468360" y="162864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Crystallisation as c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from flowing pore wa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1116000" y="270828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rystal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ery fine grain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lds clasts toget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1547640" y="4149720"/>
            <a:ext cx="5832720" cy="4597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jor minerals – quartz, calci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" descr="http://www.empr.gov.bc.ca/Mining/Geoscience/PublicationsCatalogue/InformationCirculars/PublishingImages/Conglom.jpg"/>
          <p:cNvPicPr/>
          <p:nvPr/>
        </p:nvPicPr>
        <p:blipFill>
          <a:blip r:embed="rId1"/>
          <a:stretch/>
        </p:blipFill>
        <p:spPr>
          <a:xfrm>
            <a:off x="5651640" y="1700280"/>
            <a:ext cx="1873080" cy="2158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ompaction and Cementation"/>
          <p:cNvPicPr/>
          <p:nvPr/>
        </p:nvPicPr>
        <p:blipFill>
          <a:blip r:embed="rId2"/>
          <a:stretch/>
        </p:blipFill>
        <p:spPr>
          <a:xfrm>
            <a:off x="755640" y="4797360"/>
            <a:ext cx="744048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2268360" y="549360"/>
            <a:ext cx="4607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nerals are Formed b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324000" y="1125360"/>
            <a:ext cx="46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Crystallisation from hydrothermal flui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3708360" y="3500280"/>
            <a:ext cx="50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rystal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veins and faul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crystallises out from supersaturated fluids when c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1619280" y="5373720"/>
            <a:ext cx="5832360" cy="8254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jor minerals – gangue, quartz, calcite, ores: haematite, gale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Picture 2" descr="http://www.jewelryjewellerybox.com/wp-content/uploads/2009/07/amethyst-2.jpg"/>
          <p:cNvPicPr/>
          <p:nvPr/>
        </p:nvPicPr>
        <p:blipFill>
          <a:blip r:embed="rId1"/>
          <a:stretch/>
        </p:blipFill>
        <p:spPr>
          <a:xfrm>
            <a:off x="5580000" y="1197000"/>
            <a:ext cx="1612800" cy="1871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414000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256500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This is the end of the presentation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 Black"/>
              </a:rPr>
              <a:t>Thank you for your attention</a:t>
            </a:r>
            <a:r>
              <a:rPr b="0" lang="cs-CZ" sz="40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1476360" y="1413000"/>
            <a:ext cx="6048360" cy="35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ff0000"/>
                </a:solidFill>
                <a:latin typeface="Arial Black"/>
              </a:rPr>
              <a:t>Minerals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 Black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 Black"/>
              </a:rPr>
              <a:t>Martin  Kalivo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 Black"/>
              </a:rPr>
              <a:t>Mensa Gymnázium, o.p.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 Black"/>
              </a:rPr>
              <a:t>Španielova 1111/19, Praha 6 - Řep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13"/>
          <p:cNvSpPr/>
          <p:nvPr/>
        </p:nvSpPr>
        <p:spPr>
          <a:xfrm flipH="1" flipV="1">
            <a:off x="1218960" y="609120"/>
            <a:ext cx="183960" cy="298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3419640" y="2895480"/>
            <a:ext cx="19144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INER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3">
            <a:hlinkClick r:id="rId1" action="ppaction://hlinksldjump"/>
          </p:cNvPr>
          <p:cNvSpPr/>
          <p:nvPr/>
        </p:nvSpPr>
        <p:spPr>
          <a:xfrm>
            <a:off x="684360" y="907920"/>
            <a:ext cx="2438280" cy="70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What are mineral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562720" y="1066680"/>
            <a:ext cx="3047760" cy="70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What types of minerals are there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771640" y="3789360"/>
            <a:ext cx="358164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How are minerals formed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04920" y="228600"/>
            <a:ext cx="20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00"/>
                </a:solidFill>
                <a:uFillTx/>
                <a:latin typeface="Comic Sans MS"/>
              </a:rPr>
              <a:t>Solid/Crystalli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484360" y="152280"/>
            <a:ext cx="254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00"/>
                </a:solidFill>
                <a:uFillTx/>
                <a:latin typeface="Comic Sans MS"/>
              </a:rPr>
              <a:t>Elements or Compound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50920" y="21337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00"/>
                </a:solidFill>
                <a:uFillTx/>
                <a:latin typeface="Comic Sans MS"/>
              </a:rPr>
              <a:t>Naturally Occurr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Line 12"/>
          <p:cNvSpPr/>
          <p:nvPr/>
        </p:nvSpPr>
        <p:spPr>
          <a:xfrm flipH="1" flipV="1">
            <a:off x="2340000" y="1628280"/>
            <a:ext cx="1241280" cy="1266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Line 14"/>
          <p:cNvSpPr/>
          <p:nvPr/>
        </p:nvSpPr>
        <p:spPr>
          <a:xfrm flipV="1">
            <a:off x="2700360" y="549360"/>
            <a:ext cx="792000" cy="358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Line 15"/>
          <p:cNvSpPr/>
          <p:nvPr/>
        </p:nvSpPr>
        <p:spPr>
          <a:xfrm flipH="1">
            <a:off x="971640" y="1628640"/>
            <a:ext cx="45720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5257800" y="-31680"/>
            <a:ext cx="27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00"/>
                </a:solidFill>
                <a:uFillTx/>
                <a:latin typeface="Comic Sans MS"/>
              </a:rPr>
              <a:t>Rock Forming Mineral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5508720" y="2060640"/>
            <a:ext cx="29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00"/>
                </a:solidFill>
                <a:uFillTx/>
                <a:latin typeface="Comic Sans MS"/>
              </a:rPr>
              <a:t>Ore  Mineral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6300720" y="2421000"/>
            <a:ext cx="12542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Haemat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Gale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24"/>
          <p:cNvSpPr/>
          <p:nvPr/>
        </p:nvSpPr>
        <p:spPr>
          <a:xfrm>
            <a:off x="250920" y="3141720"/>
            <a:ext cx="165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Crystallisation</a:t>
            </a:r>
            <a:r>
              <a:rPr b="0" lang="en-GB" sz="1600" spc="-1" strike="noStrike" u="sng">
                <a:solidFill>
                  <a:srgbClr val="ff0000"/>
                </a:solidFill>
                <a:uFillTx/>
                <a:latin typeface="Comic Sans MS"/>
              </a:rPr>
              <a:t> from a Mel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6858000" y="3573360"/>
            <a:ext cx="203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Solution</a:t>
            </a:r>
            <a:r>
              <a:rPr b="0" lang="en-GB" sz="1600" spc="-1" strike="noStrike" u="sng">
                <a:solidFill>
                  <a:srgbClr val="ff0000"/>
                </a:solidFill>
                <a:uFillTx/>
                <a:latin typeface="Comic Sans MS"/>
              </a:rPr>
              <a:t> (Evaporation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Line 26"/>
          <p:cNvSpPr/>
          <p:nvPr/>
        </p:nvSpPr>
        <p:spPr>
          <a:xfrm flipH="1" flipV="1">
            <a:off x="5796000" y="259920"/>
            <a:ext cx="71280" cy="79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Line 27"/>
          <p:cNvSpPr/>
          <p:nvPr/>
        </p:nvSpPr>
        <p:spPr>
          <a:xfrm flipH="1">
            <a:off x="6732360" y="184464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Line 32"/>
          <p:cNvSpPr/>
          <p:nvPr/>
        </p:nvSpPr>
        <p:spPr>
          <a:xfrm flipV="1">
            <a:off x="4343400" y="1523880"/>
            <a:ext cx="114300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Line 35"/>
          <p:cNvSpPr/>
          <p:nvPr/>
        </p:nvSpPr>
        <p:spPr>
          <a:xfrm flipH="1" flipV="1">
            <a:off x="1692360" y="3500280"/>
            <a:ext cx="107928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Line 36"/>
          <p:cNvSpPr/>
          <p:nvPr/>
        </p:nvSpPr>
        <p:spPr>
          <a:xfrm flipV="1">
            <a:off x="6372360" y="3789360"/>
            <a:ext cx="93636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40"/>
          <p:cNvSpPr/>
          <p:nvPr/>
        </p:nvSpPr>
        <p:spPr>
          <a:xfrm>
            <a:off x="7524720" y="4221000"/>
            <a:ext cx="9349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l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yps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lc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41"/>
          <p:cNvSpPr/>
          <p:nvPr/>
        </p:nvSpPr>
        <p:spPr>
          <a:xfrm>
            <a:off x="539640" y="3716280"/>
            <a:ext cx="1008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c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ldspa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45"/>
          <p:cNvSpPr/>
          <p:nvPr/>
        </p:nvSpPr>
        <p:spPr>
          <a:xfrm>
            <a:off x="4356000" y="3429000"/>
            <a:ext cx="4608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6012000" y="333360"/>
            <a:ext cx="936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ldsp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6948360" y="333360"/>
            <a:ext cx="79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c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rn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7885080" y="333360"/>
            <a:ext cx="7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alc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35"/>
          <p:cNvSpPr/>
          <p:nvPr/>
        </p:nvSpPr>
        <p:spPr>
          <a:xfrm>
            <a:off x="5796000" y="4221000"/>
            <a:ext cx="936720" cy="1008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35"/>
          <p:cNvSpPr/>
          <p:nvPr/>
        </p:nvSpPr>
        <p:spPr>
          <a:xfrm flipH="1">
            <a:off x="1835280" y="4221000"/>
            <a:ext cx="1008000" cy="1008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468360" y="5229360"/>
            <a:ext cx="194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Metamorphism</a:t>
            </a:r>
            <a:r>
              <a:rPr b="0" lang="en-GB" sz="1600" spc="-1" strike="noStrike" u="sng">
                <a:solidFill>
                  <a:srgbClr val="ff0000"/>
                </a:solidFill>
                <a:uFillTx/>
                <a:latin typeface="Comic Sans MS"/>
              </a:rPr>
              <a:t> (solid stat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41"/>
          <p:cNvSpPr/>
          <p:nvPr/>
        </p:nvSpPr>
        <p:spPr>
          <a:xfrm>
            <a:off x="971640" y="5877000"/>
            <a:ext cx="100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rne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lc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5580000" y="5229360"/>
            <a:ext cx="23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Crystallisation</a:t>
            </a:r>
            <a:r>
              <a:rPr b="0" lang="en-GB" sz="16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as a cement from flowing </a:t>
            </a:r>
            <a:r>
              <a:rPr b="0" lang="en-GB" sz="1600" spc="-1" strike="noStrike" u="sng">
                <a:solidFill>
                  <a:srgbClr val="ff0000"/>
                </a:solidFill>
                <a:uFillTx/>
                <a:latin typeface="Comic Sans MS"/>
              </a:rPr>
              <a:t>pore wat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40"/>
          <p:cNvSpPr/>
          <p:nvPr/>
        </p:nvSpPr>
        <p:spPr>
          <a:xfrm>
            <a:off x="6659640" y="6027840"/>
            <a:ext cx="936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lc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35"/>
          <p:cNvSpPr/>
          <p:nvPr/>
        </p:nvSpPr>
        <p:spPr>
          <a:xfrm>
            <a:off x="4427640" y="4221000"/>
            <a:ext cx="46080" cy="28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24"/>
          <p:cNvSpPr/>
          <p:nvPr/>
        </p:nvSpPr>
        <p:spPr>
          <a:xfrm>
            <a:off x="3203640" y="4508640"/>
            <a:ext cx="23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Crystallisation</a:t>
            </a:r>
            <a:r>
              <a:rPr b="0" lang="en-GB" sz="16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from Hydrothermal Fluids in </a:t>
            </a:r>
            <a:r>
              <a:rPr b="0" lang="en-GB" sz="1600" spc="-1" strike="noStrike" u="sng">
                <a:solidFill>
                  <a:srgbClr val="ff0000"/>
                </a:solidFill>
                <a:uFillTx/>
                <a:latin typeface="Comic Sans MS"/>
              </a:rPr>
              <a:t>Veins and Faul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41"/>
          <p:cNvSpPr/>
          <p:nvPr/>
        </p:nvSpPr>
        <p:spPr>
          <a:xfrm>
            <a:off x="3348000" y="5445000"/>
            <a:ext cx="1008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ng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lc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41"/>
          <p:cNvSpPr/>
          <p:nvPr/>
        </p:nvSpPr>
        <p:spPr>
          <a:xfrm>
            <a:off x="4284720" y="5445000"/>
            <a:ext cx="10080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emat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le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27"/>
          <p:cNvSpPr/>
          <p:nvPr/>
        </p:nvSpPr>
        <p:spPr>
          <a:xfrm>
            <a:off x="7245360" y="2781360"/>
            <a:ext cx="279360" cy="46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Box 51"/>
          <p:cNvSpPr/>
          <p:nvPr/>
        </p:nvSpPr>
        <p:spPr>
          <a:xfrm>
            <a:off x="7596360" y="2708280"/>
            <a:ext cx="10792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Gang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lc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rtz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7"/>
          <p:cNvSpPr/>
          <p:nvPr/>
        </p:nvSpPr>
        <p:spPr>
          <a:xfrm>
            <a:off x="2195640" y="981000"/>
            <a:ext cx="435600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How can minerals be identified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39"/>
          <p:cNvSpPr/>
          <p:nvPr/>
        </p:nvSpPr>
        <p:spPr>
          <a:xfrm>
            <a:off x="395280" y="1989000"/>
            <a:ext cx="27367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ardn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Strea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eavage/fra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Density/ heft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ust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Colo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ci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39"/>
          <p:cNvSpPr/>
          <p:nvPr/>
        </p:nvSpPr>
        <p:spPr>
          <a:xfrm>
            <a:off x="3203640" y="1989000"/>
            <a:ext cx="576108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oh’s Scale – fingernail, copper coin, steel nai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Powder left on a porcelain tile (colou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lanes of weakness easily brok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How heavy it is (by volum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way a mineral reflects light. Vitreous/Metallic/Glassy/Dull/Transparent/Transluc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Beware – some can show a range of colou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Cl will fizz in the presence of CaC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(calcit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52280" y="76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ner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57200" y="9144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ineral 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black colour, hardness 2.5, one good cleavage pla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57200" y="184464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ineral 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grey colour, scratches streak plate, no cleav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57200" y="283536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ineral 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white in colour, hardness 6, 2 good cleavage planes in some cryst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95360" y="38257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ineral 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dark green/black in colour, hardness 5-6, 2 good cleavage planes at 9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33520" y="48164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Mineral 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white in colour, splits along 3 pla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4067280" y="1341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M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2484360" y="2349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Quart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3924360" y="3284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eldsp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6372360" y="4292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ugi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2484360" y="530064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Halite or Calci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52280" y="76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ner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4" descr="mineral-sketch"/>
          <p:cNvPicPr/>
          <p:nvPr/>
        </p:nvPicPr>
        <p:blipFill>
          <a:blip r:embed="rId1"/>
          <a:stretch/>
        </p:blipFill>
        <p:spPr>
          <a:xfrm>
            <a:off x="2205000" y="868320"/>
            <a:ext cx="4732200" cy="5121360"/>
          </a:xfrm>
          <a:prstGeom prst="rect">
            <a:avLst/>
          </a:prstGeom>
          <a:ln w="0">
            <a:noFill/>
          </a:ln>
        </p:spPr>
      </p:pic>
      <p:sp>
        <p:nvSpPr>
          <p:cNvPr id="99" name="Line 5"/>
          <p:cNvSpPr/>
          <p:nvPr/>
        </p:nvSpPr>
        <p:spPr>
          <a:xfrm flipV="1">
            <a:off x="1981080" y="449568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33520" y="4800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neral 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33520" y="548640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hite colour, hardness 6, 2 cleavage planes, vitreou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9"/>
          <p:cNvSpPr/>
          <p:nvPr/>
        </p:nvSpPr>
        <p:spPr>
          <a:xfrm flipH="1">
            <a:off x="5638680" y="838080"/>
            <a:ext cx="13716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6553080" y="457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neral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858000" y="12193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ink colour, hardness 6, 2 cleavage planes, vitreou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Line 13"/>
          <p:cNvSpPr/>
          <p:nvPr/>
        </p:nvSpPr>
        <p:spPr>
          <a:xfrm flipH="1" flipV="1">
            <a:off x="5866920" y="4495320"/>
            <a:ext cx="8384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6705720" y="5334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neral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5943600" y="58672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olourless, scratches streak plate, no cleavage planes, vitreou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1752480" y="1905120"/>
            <a:ext cx="2133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80880" y="12193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neral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228600" y="205740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Black colour, scratched by finger nail, 1 cleavage plane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2268360" y="836640"/>
            <a:ext cx="4607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nerals are Formed b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324000" y="1773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Crystallisation from a mel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3" name="Picture 2" descr="http://t3.gstatic.com/images?q=tbn:N57T8v60P-MkOM:http://video.ecb.org/badger/download/vlc/images/VLC151_Mineral_formation.jpg"/>
          <p:cNvPicPr/>
          <p:nvPr/>
        </p:nvPicPr>
        <p:blipFill>
          <a:blip r:embed="rId1"/>
          <a:stretch/>
        </p:blipFill>
        <p:spPr>
          <a:xfrm>
            <a:off x="4788000" y="1628640"/>
            <a:ext cx="3168720" cy="23828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324000" y="249228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rystalline interlocking tex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rarely euhedr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1619280" y="5950080"/>
            <a:ext cx="5832360" cy="4597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jor minerals – quartz, feldspar, m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6" descr="http://www.earth.ox.ac.uk/~oesis/micro/medium/gabbro_pm18-33.jpg"/>
          <p:cNvPicPr/>
          <p:nvPr/>
        </p:nvPicPr>
        <p:blipFill>
          <a:blip r:embed="rId2"/>
          <a:stretch/>
        </p:blipFill>
        <p:spPr>
          <a:xfrm>
            <a:off x="900000" y="3789360"/>
            <a:ext cx="2951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2268360" y="836640"/>
            <a:ext cx="4607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nerals are Formed b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324000" y="177336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Metamorphic Recrystallis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4643280" y="3789360"/>
            <a:ext cx="37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rystal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terlocking tex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ften with overgrowth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1619280" y="5373720"/>
            <a:ext cx="5832360" cy="4597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jor minerals – calcite, ga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Picture 4" descr="http://www.geolab.unc.edu/Petunia/IgMetAtlas/minerals/staurolite.UX.jpg"/>
          <p:cNvPicPr/>
          <p:nvPr/>
        </p:nvPicPr>
        <p:blipFill>
          <a:blip r:embed="rId1"/>
          <a:stretch/>
        </p:blipFill>
        <p:spPr>
          <a:xfrm>
            <a:off x="5435640" y="2060640"/>
            <a:ext cx="2305080" cy="1511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http://www.earth.ox.ac.uk/~oesis/micro/medium/schist_pm19-13.jpg"/>
          <p:cNvPicPr/>
          <p:nvPr/>
        </p:nvPicPr>
        <p:blipFill>
          <a:blip r:embed="rId2"/>
          <a:stretch/>
        </p:blipFill>
        <p:spPr>
          <a:xfrm>
            <a:off x="611280" y="2637000"/>
            <a:ext cx="3024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2268360" y="836640"/>
            <a:ext cx="4607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nerals are Formed b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324000" y="170028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omic Sans MS"/>
              </a:rPr>
              <a:t>Evapo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324000" y="2349360"/>
            <a:ext cx="37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rystal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sually euhedr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1619280" y="6021360"/>
            <a:ext cx="5832360" cy="4597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jor minerals – hali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7" name="Picture 2" descr="http://homepage.ufp.pt/biblioteca/GlossarySaltTectonics/PlatesJPG/Fig.E013-Evaporite.jpg"/>
          <p:cNvPicPr/>
          <p:nvPr/>
        </p:nvPicPr>
        <p:blipFill>
          <a:blip r:embed="rId1"/>
          <a:srcRect l="0" t="10637" r="0" b="0"/>
          <a:stretch/>
        </p:blipFill>
        <p:spPr>
          <a:xfrm>
            <a:off x="4284720" y="1773360"/>
            <a:ext cx="4235400" cy="30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http://www.rutaverdebolivia.com/Uyuni%20Salt%20Lake%202.jpg"/>
          <p:cNvPicPr/>
          <p:nvPr/>
        </p:nvPicPr>
        <p:blipFill>
          <a:blip r:embed="rId2"/>
          <a:stretch/>
        </p:blipFill>
        <p:spPr>
          <a:xfrm>
            <a:off x="539640" y="3213000"/>
            <a:ext cx="331308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12:33:39Z</dcterms:created>
  <dc:creator>Martin Kalivoda</dc:creator>
  <dc:description/>
  <dc:language>en-US</dc:language>
  <cp:lastModifiedBy>stercl</cp:lastModifiedBy>
  <dcterms:modified xsi:type="dcterms:W3CDTF">2015-04-25T12:07:28Z</dcterms:modified>
  <cp:revision>29</cp:revision>
  <dc:subject/>
  <dc:title>Prezentace aplikace PowerPoint</dc:title>
</cp:coreProperties>
</file>