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334-54F3-4AE9-B2A8-1C066A3D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5A1-25DA-492F-8A39-DE783FAA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B1C-7F0A-4331-8C11-097B4B79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58A-A98E-4CE8-8D27-76B2300E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323-C3C4-4237-83DD-0CFEA073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D8EC-EBFC-46EA-A66F-CE9905BD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754-52AF-4997-BF25-2A1BD05E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51E-5799-401E-95E4-1AD9832B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5EB3-7E54-4932-A6C5-FC4373EC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3E8-737C-4B4F-A800-6517AF22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741F-A64E-4553-809C-E784A4BD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36A-EB26-4CE9-8713-AA11921B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C4C9-3356-4074-9F4D-87CEB68773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3" descr="C:\Users\Tomáš\Desktop\upr_3_loga_nadpisy_text.JPG"/>
          <p:cNvPicPr/>
          <p:nvPr/>
        </p:nvPicPr>
        <p:blipFill>
          <a:blip r:embed="rId2"/>
          <a:stretch/>
        </p:blipFill>
        <p:spPr>
          <a:xfrm>
            <a:off x="3414600" y="2905200"/>
            <a:ext cx="2314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Ledvinové kamen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:\Documents and Settings\Zofcz\Plocha\Nemoci ledvin\kameny.jpg"/>
          <p:cNvPicPr/>
          <p:nvPr/>
        </p:nvPicPr>
        <p:blipFill>
          <a:blip r:embed="rId1"/>
          <a:stretch/>
        </p:blipFill>
        <p:spPr>
          <a:xfrm>
            <a:off x="785880" y="1357200"/>
            <a:ext cx="3174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Picture 6" descr="C:\Documents and Settings\Zofcz\Plocha\Nemoci ledvin\kaminky.jpg"/>
          <p:cNvPicPr/>
          <p:nvPr/>
        </p:nvPicPr>
        <p:blipFill>
          <a:blip r:embed="rId2"/>
          <a:stretch/>
        </p:blipFill>
        <p:spPr>
          <a:xfrm>
            <a:off x="357120" y="3500280"/>
            <a:ext cx="40719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Picture 7" descr="C:\Documents and Settings\Zofcz\Plocha\Nemoci ledvin\kameny kameny.jpg"/>
          <p:cNvPicPr/>
          <p:nvPr/>
        </p:nvPicPr>
        <p:blipFill>
          <a:blip r:embed="rId3"/>
          <a:stretch/>
        </p:blipFill>
        <p:spPr>
          <a:xfrm>
            <a:off x="5214960" y="1714680"/>
            <a:ext cx="3214800" cy="481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elhání ledv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Ledviny přestanou plnit svou funkci a zkolabuj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ejčastější vznik je z poruchy krevního oběh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en je zapříčiněn šokem, otravou (nejčastěji houbami), obstrukcí vývodových močových cest (např. kamenem), nebo zánětem ledv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Akutní selhání ledvin je někdy přechodné a po určité době dojde k úplné nebo částečné úpravě funkce ledvin, jindy je poškození již nezvratn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i chronickém selhání ledvin přichází následuje kompletní ztráta ledvinové tká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Účinnou léčbou je 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hemodialýz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(nasazení umělé ledviny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Umělá ledvin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 i selhání ledvin tělo zadržuje tekutiny, krevní tlak roste, nebezpečné zplodiny látkové výměny se hromadí v těle a tělo produkuje nedostatečné množství červených krvinek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jde tedy čas na hemodialyzační léčbu – umělou ledvin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emodialýza nahrazuje vylučovací funkci ledv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S pomocí hemodialýzy se musí látky z těla odstraňovat 3x týdně, po dobu 4- 5 hod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edlejší účinky mohou být způsobeny rychlými změnami v tělesných tekutinách a v chemické rovnováze během procedur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ejčastější jsou svalové křeče a hypotenze (pokles TK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ůležitá je dieta spojená s hemodialýzo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Umělá ledvin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incip založený na fyzikálním procesu – dialýze, při kerém ve směru spádu přecházejí látky propustnou dialyzační membránou z jednoho oddílu do druhéh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rev nemocného se vede z pažní tepny do přístroje a zpět do žíly v blízkosti pažní tepn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adička vedoucí z těla musí být zahřáta na teplotu lidského tě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chéma hemodialýz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C:\Documents and Settings\Zofcz\Plocha\Nemoci ledvin\shema dialyzy.gif"/>
          <p:cNvPicPr/>
          <p:nvPr/>
        </p:nvPicPr>
        <p:blipFill>
          <a:blip r:embed="rId1"/>
          <a:stretch/>
        </p:blipFill>
        <p:spPr>
          <a:xfrm>
            <a:off x="857160" y="1214280"/>
            <a:ext cx="6929640" cy="50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Schéma hemodialýz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Zofcz\Plocha\Nemoci ledvin\schema dialyzy 2.jpg"/>
          <p:cNvPicPr/>
          <p:nvPr/>
        </p:nvPicPr>
        <p:blipFill>
          <a:blip r:embed="rId1"/>
          <a:stretch/>
        </p:blipFill>
        <p:spPr>
          <a:xfrm>
            <a:off x="2571840" y="1285920"/>
            <a:ext cx="3857400" cy="528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RNDr. Ivan Novotný DrSC., RNDr. Michal Hruška: „BIOLOGIE ČLOVĚKA“. Nakl. Fortuna, Sezemnice, 2007, 4. vydá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ttp://www.ordinace.cz/clanek/nemoci-ledvin-a-mocovych-cest-prehled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ttp://www.ordinace.cz/clanek/jak-zit-s-umelou-ledvinou/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ttps://www.zdravcentra.cz/cps/rde/xchg/zc/xsl/5225_3915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ttp://www.nefrologie.eu/cgi-bin/main/read.cgi?page=onemocneni_ledv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http://www.ledviny.cz/hd.htm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518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EMOCI LEDV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1835280" y="4437000"/>
            <a:ext cx="5257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Calibri"/>
              </a:rPr>
              <a:t>zánět ledvin, ledvinové kameny, selhání ledvin, dialýz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:\Documents and Settings\Zofcz\Plocha\Nemoci ledvin\kaminky.jpg"/>
          <p:cNvPicPr/>
          <p:nvPr/>
        </p:nvPicPr>
        <p:blipFill>
          <a:blip r:embed="rId1"/>
          <a:stretch/>
        </p:blipFill>
        <p:spPr>
          <a:xfrm>
            <a:off x="2805120" y="1909800"/>
            <a:ext cx="307980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Dělení nemocí ledv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nemocnění ledvin se dělí podle různých kritérií. Napříkla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rozená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- tj. taková onemocnění, s nimiž se člověk narodí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Dědičná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- tj. nemoc vzniká na základě chybné genetické informac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Získan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Nebo podle souvislostí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rimární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- tj. onemocnění, která se týkají jen ledvi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Sekundární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- kdy onemocnění ledvin je jen jedním z projevů jiného, většinou komplexního onemocně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nět ledv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ělíme na akutní (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akutní glomerulonefritid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) a chronické (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chronická glomerulonefritid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utní glomerulonefritida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vzniká ze streptokokové infekce, vzniku nemoci předchází 14 dnů infekc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Imunitní systém přijme ledvinu jako cizorodý orgán a napadá jí, resp. napadá 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glomeruly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(drobné filtrační jednotky v ledvinách, v nichž dochází k filtraci krve a vzniku primární moči, „ledvinná klubíčka“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ůtok krve ledvinami se snižuje a krevní tlak stoupá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Lékař nemoc indikuje pomocí obsahu krevních buněk a plasmy v moči, a oteklých postižených kapilá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Moč připomíná vodu, v níž bylo práno mas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nět ledv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568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Léčba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ortikoidy (prednison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elmi důležitý je přísný klid na lůžku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Dieta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: názory se rozcházejí. Někteří lékaři doporučují první tři dny hladovku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ětšinou se doporučuje v akutním stadiu příjem bílkovin potravou na 0,5g/kg tělesné hmotnosti na 24 hodi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Při 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chronické glomerulonefritidě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 může dojít až k selhání ledvi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Onemocnění může dlouho probíhat skrytě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Příznaky jako akutní glomerulonefritida, u nemocného se objevuje i nevolnost, zvracení, dýchací potíž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Někdy v popředí hypertenze (vysoký krevní tlak), jindy postupný zánik renálních funkcí až do stadia chronického stadia chronického selhání ledvin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nět ledv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ěkdy v popředí hypertenze (vysoký krevní tlak), jindy postupný zánik renálních funkcí až do stadia chronického stadia chronického selhání ledv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 těžkých případech je třeba zavést umělou ledvin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Léčba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Kortikoidy (prednison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Nemocný má volný pohyb, pouze omezená nadměrná fyzická aktivit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Ochrana před infekcí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alibri"/>
              </a:rPr>
              <a:t>Podle potíží (vysoký tlak, nebo oslabená glomerulární filtrace) je nařízena diet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Ledvinové kameny (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urolitiáza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Jedná se o malé kamínky lišící se složením i velikostí usazující se v ledvinové pánvičc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znik vysrážením solí vápníku (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kalciumoxalát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kalciumfosfát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), a jejich usazením v ledvinách. Ty pak brání průchodu moč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Často jsou následované infekcí a tzv. 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ledvinovou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kolikou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 – záchvaty té nejpekelnější bolesti co si dokážete představ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Kameny se tvoří porušením některých mechanismů v těle. Např. přílišné vylučování látek proti tvorbě kamenů apo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Jsou ještě umocněny např. Špatným pitným režimem, či nadměrným příjímáním vitamínu D, nebo vápníku (Ca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vorbu některých kamenů lze ovlivnit, některých n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Ledvinové kameny (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urolitiáza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znakem nemoci je vysoká bolest v postižené oblasti, provázená nevolností od žaludku, u mužů někdy bolestivost varla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Bolest vzniká z podráždění bloudivého nervu (</a:t>
            </a:r>
            <a:r>
              <a:rPr b="0" i="1" lang="cs-CZ" sz="2500" spc="-1" strike="noStrike">
                <a:solidFill>
                  <a:srgbClr val="000000"/>
                </a:solidFill>
                <a:latin typeface="Calibri"/>
              </a:rPr>
              <a:t>vagus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, X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Lékař nasadí léky proti bolesti a sérii infuzí spojených s dietou. Provede také vyšetření pomocí urografie (kontrastní látka viditelná na RTG), nebo ultrazvu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V závislosti na velikost kamenů se buď provede chirurgické odstranění kamenů, nebo jejich přirozené vyloučení ven z těla (očistec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ípadně je možnost LERVu. S pomocí ultrazvuku se kámen fyzicky rozdrtí na prach. Je třeba 3500 „zásahů“ LERV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Ledvinové kameny (</a:t>
            </a:r>
            <a:r>
              <a:rPr b="1" i="1" lang="cs-CZ" sz="4400" spc="-1" strike="noStrike">
                <a:solidFill>
                  <a:srgbClr val="000000"/>
                </a:solidFill>
                <a:latin typeface="Calibri"/>
              </a:rPr>
              <a:t>urolitiáza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o vyléčení je padesátiprocentní šance návratnosti nemoci. Můhou následovat chronická onemocnění, záněty a v extrémních případech ledvinné selhá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Jako prevence se doporučuje vypít 3 – 4l vody denně a konzumovat málo sol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o prodělané nemoci v případě vápenných kamenů se doporučuje omezit konzumace masa, špenátu, oříšků, čaje a káv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ři výskytu nemoci v rodině se zvyšuje riziko onemocně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8:18:04Z</dcterms:created>
  <dc:creator>Zofcz</dc:creator>
  <dc:description/>
  <dc:language>en-US</dc:language>
  <cp:lastModifiedBy>stercl</cp:lastModifiedBy>
  <dcterms:modified xsi:type="dcterms:W3CDTF">2015-04-26T16:39:49Z</dcterms:modified>
  <cp:revision>27</cp:revision>
  <dc:subject/>
  <dc:title>NEMOCI LEDVIN</dc:title>
</cp:coreProperties>
</file>