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B7FB-4435-44A7-A396-3BDF565C06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6DDA-A432-45A2-839E-A2E7E15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4B5EE-9939-4A7D-A0E9-B6714E17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1145FA-B674-426F-8A00-039E3A26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50AC03-E224-4940-884C-CF0CC3E9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C28B2E-2D3A-4539-B31D-F2A08066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5E0499-F38A-46E0-8E7C-85F26FE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817F1-C77B-4F92-9765-AF8A3FDF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117761-FF1B-48BC-A054-1F91A392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C8A4A1-8558-4CD2-A706-E4D58A24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AC6D4E-CC10-4375-B25A-198EAD7A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D51563-2B8B-4F14-94A1-F1680A54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D8F0-2BEA-4CAD-A24B-28BFD0E3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7546B1-DD39-4E5B-A14F-65F3F1B5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EB8A69-B78D-4A3B-A034-0AE72908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E0B125-D2BB-4491-9944-8D75AE94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E7762D-6B4A-4AE1-8EFE-ECAD086D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A19D99-5F22-4D90-AFEC-4D265C73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C26571-5FFC-4102-81DE-8EEC2150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26E5B4-5099-41A4-817D-D03AEFF7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26A605-D32A-44E2-B9A4-563B3F98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9536E0-3A0B-4F06-8E6F-801BA73D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2C0149-FFDA-45E9-9622-61E5CBBD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2269-18A6-4999-9C5A-A32212399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13978B-52DA-45AF-94EF-20C52422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F75B0C-AB2F-43FC-A7A7-010A9E78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A03FC6-07A1-4447-831B-E6EED848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7F4DEE-F6D8-4F43-9D07-624A110B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318FFD-EFFA-4F3F-951B-E19C1F36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C28FCE-69D0-4DCC-80EB-EE2978E1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79EC05-309B-4BC8-BAEA-4CE34C6D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F3C25E-5099-4462-8E39-EF740308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50FE24-6CD2-44A8-9B50-04534DC6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DD1467-BC15-4AD6-AC65-4EAFC33C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AA59E-F929-4549-A1BE-DCD89E63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E75D18-D6E2-40A5-8A83-D801118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B66213-596C-40B9-894F-194107BF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16A2BB-4157-42EA-B2EA-F4105240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05AD61-A1A6-4CE7-8F83-C98B64DA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F93DA0-7EC6-498C-87F6-025BB5D5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A2C736-9F7D-474E-A479-690D49E4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6BC0B7-5DD5-48BD-B25D-D0E9AC41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60A561-029C-4343-AD6B-D4560425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F25A79-66FC-472A-986A-D148765E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CA4E90-5962-44F2-8B47-0945474A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E0785-1CA2-4F0A-970F-F8AE015D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1A8597-BCCD-4050-A5D7-2CD4B06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70B12B-6D76-4CD5-8249-F0BD7B76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B9EC10-2826-4726-A137-041E100B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4DEBEF-BABC-49F3-9179-DF5DEA71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E0F4EB-4805-4FC8-84BE-80A085E7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93901E-1CBD-46C1-ADAB-46A99733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EA1EA4-21C0-4EE7-9BD0-B18AC23C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3C6813-FA0B-4DEF-ABD8-9C51656B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A2B7C3-A276-44B0-B7A5-5DE4C410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F6693F-25BB-4C2D-8286-7B9FEC61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CEB0F-5D44-432B-B367-D7E2E48D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0A7FFF-787E-4E8D-BCC8-76B70B6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BFD58A-AC93-4A84-B097-C1177DA4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401373-D0E3-4097-B115-D8FF13F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487B8D-A6D7-48BD-8A86-D0C7B6E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7A1845-9F93-4521-A01F-7346078B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FB6F4B-4C3D-47D5-9D03-06174B20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DDB4BB-616B-43CC-81A0-D23818B8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41901-F878-4F91-81F1-49CAB8D6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3FA42-74B8-45E8-A9D7-54177103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01BF7-1FE0-4F01-89E7-0F617291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E1183-7725-40C6-A7BE-1062BB07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4C1F-2A22-4D45-9F01-7469313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A741A-9F3B-4030-AD1E-A3A00CB5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9A82F-F03F-47A7-9645-3ABEF573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3885F-83FA-4F41-A5F7-2A050AAF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775DF-264A-405E-9D25-48A64A10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27820-777F-4BC2-B8D4-D7FA615A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031A5-6EB3-4A10-A26D-6B6C5A67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3B1198-BB45-4C03-B719-14A9E1C8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7D8F1-1A4F-48A1-906F-A34F3A33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90763-92B2-4FD8-A378-2CE76284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5CC67-EE9C-48C6-832D-12618BB9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1BFD-199C-4F3B-A5D3-745A8BA8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D633F-CC08-43BA-8A07-B96C4942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7CCD7-AC56-4C62-A5E6-0563FCF7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19F08-9FE4-4B98-8ADD-27C21DF3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912F5-7DCD-4C18-9C5B-C2FDF59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9B512-5755-4EAA-BE26-88C3D071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6C027-98CD-448C-91C5-D7C1E5C6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B755B-4425-4CA6-9564-A0C20846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9E376-7BB2-4EA6-89F8-4FC1F8CC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E595B5-9018-4E34-9ADC-C3A2394D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2C6DA-6365-4C9C-849A-97463584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5DB0-766C-4A06-B0C8-43666396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E4D84-F2ED-4185-A662-9E630EA6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89D1A-298C-455F-A349-32FCEBBC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6F33C-F5FE-48B2-89DE-C48E26E0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045EF-A1EB-434C-993C-E369036A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9E06C-DE48-40D2-8BDD-B93B40D1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C8539-BB72-4A0E-B0D4-32EE39F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CD204E-F2D8-47CD-B9F3-1A6663F7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AF77A-043E-4CA3-B4A3-95CEC517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5F595-AD2A-49CB-AB42-8F7B525D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8BE3C-1B2C-4AC9-91A9-7ECD0B47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E53FE-133C-4FED-87AF-98C16913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06ADA-CBEA-41B7-86CE-EC0774EB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0062E-D3AF-4869-A040-69551D70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0A1C33-3108-44D6-B46D-091E7075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40562-1100-41A0-B7B1-82113212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9897C-0582-4632-9307-EE8FEBA8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62F2D-00F5-49A6-9DCC-195DB28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016BE-B860-4FDC-A1BA-E7F64D5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A125D2-7DF8-41E1-8F29-E45F75CC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589A1-BFC4-4602-A75B-F64D5345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61E5A3-9A00-4211-AB59-A6A92972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496B-D1BB-48B1-BAAE-BC4E86DA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395D2-927B-4DB8-99D9-383DA9BD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C7C2B-8046-4FDC-8A9A-F6416338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9894D6-4C67-47E7-9BE1-CCEDE5A3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F2C38-71C0-4409-B3A0-3C12A758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3C515D-5C48-4569-B4D1-4D26EAF7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0D3E20-6E3F-4B36-84A9-5BAEA376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F65A39-A0C9-4A04-BD0C-85272776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35712-1617-425A-8AEA-9F2B4557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CDBC0-1977-4010-80F2-3A0898AE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A560F-FE2C-45EA-9E87-BBBA098B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7F17-6477-4BD9-9974-A09BAB69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41E89-4F1C-4943-A820-A7C2F753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3EBBAB-4501-47EB-A2FE-68BE1274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B962D-F9B9-4FE6-8865-AE1CBA0F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E2F40-F607-4AB9-B70A-70CAFA90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BDEEDA-00FC-4E67-B7FA-7CAC2893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6EC68-84AD-425E-8C1D-87A6BF18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89078-5B80-49F9-9A5F-6BF0E00B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646BE-B9E1-45CB-B1CC-F34DFBF6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E308B4-E1B1-47DD-9457-8A038D08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55B367-FE54-4716-BB28-19C5BCAE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6014C-1914-44A0-AC17-45B58A59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347D22-28E0-4D70-B553-B9BEA6F0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3F8D1-55C2-4AE1-9C0B-DFDA5AD1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80D54-6ECA-4647-8084-BCF91DAE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DE622-B6D4-465C-9563-BF548653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D5273-1D2E-4C9A-B31D-E371A584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70F39-3271-410E-90E6-6D68CA5A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2B974-7DEA-4304-A511-F3420344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AC86BC-74D7-4F2E-A537-2EDE556A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CDD32C-DE0D-4667-9C71-41448BA0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935CAE-724C-4D11-B088-FCA83824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4903-AE6C-4988-9E9A-5D1D870A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32FCAF-85A1-47CE-AC98-0AAEFB4B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CAB031-8CD3-4D31-A03F-6EC5BDD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8EA2F3-7D11-45A9-B38A-8CA4B8C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176F26-A469-44FF-9B34-7431E54D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F404D2-819B-4D64-B2C8-BEA1137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BD1263-2068-42D6-803D-D0D564DA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C4D70-6853-4C62-A7F3-B49223B7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EE943-BD30-4054-A8FC-1B99B0EC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7BE5C-0303-4355-828D-A67E5BA4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F83EE8-6AC3-4A70-8BE7-0879E854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296360"/>
                <a:tab algn="l" pos="10744200"/>
              </a:tabLst>
            </a:pPr>
            <a:fld id="{BA35E15E-7E4B-4EB5-8502-B29076AFEAB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7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1FBE7C4-DE94-48D7-A06C-38DA0F5A111E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0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2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15646A3-4F32-4CCE-BE56-2B59A206530B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3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A3B7B07-0CB4-4D78-ADF0-13549F545275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6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7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8D0F536-05AF-4142-AC3F-9A879E374D40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  <a:def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B837F5AB-8BFD-4D76-A713-E0EDE0427EB9}" type="slidenum"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7F5AD73-A031-4B52-8A37-D347932B9DBA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9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0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1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CAF79C2-2CCD-4CEA-89B9-468B80539FF3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2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3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4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97607E9-4284-4A90-8678-A6F49B55FA87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635FD43-E7C7-4861-85F1-D66BA93A71DA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8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9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0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819E6920-DC68-4FDC-953E-F8D7D966D53B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1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8A9AED2-023A-4595-BC31-40A594288AB0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4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347A68A-4630-4A12-9443-992F23B5D523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zp.cz/" TargetMode="External"/><Relationship Id="rId2" Type="http://schemas.openxmlformats.org/officeDocument/2006/relationships/hyperlink" Target="http://www.vitejtenazemi.cz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2873520" y="2952720"/>
            <a:ext cx="48290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"/>
          <p:cNvPicPr/>
          <p:nvPr/>
        </p:nvPicPr>
        <p:blipFill>
          <a:blip r:embed="rId1"/>
          <a:stretch/>
        </p:blipFill>
        <p:spPr>
          <a:xfrm>
            <a:off x="3330720" y="2089080"/>
            <a:ext cx="24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dravotní stav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louhodobé zhoršení životního prostředí, pasivní životní styl i sociální nezakotvenost vedly k prudkému zhoršení zdravotního stavu místních lidí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y jsou neúprosné a vykazují trvale smutný primát tohoto regionu v závažných onemocněních všech věkových skup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kazujeme nejnižší věk dožití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Pověst regionu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Ústecký kraj má pověst „černé díry“ republiky, regionu, kterému je lepší se obloukem vyhnout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Narušená krajina a nejistota z budoucnosti limituje cestovní ruch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Podnikatelské prostředí je deformováno a neumožňuje odpovídající a potřebný rozvoj především v oblasti služeb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Noví investoři váhají s umístěním svých aktivit do regionu s nízkou a jednostrannou kvalifikační úrovní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Calibri"/>
              </a:rPr>
              <a:t>Potencionální ohrožení těžbou znehodnocuje ceny nemovitostí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1611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3575160" y="272880"/>
            <a:ext cx="511164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457200" y="1434960"/>
            <a:ext cx="300816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48880"/>
                <a:tab algn="l" pos="10296360"/>
                <a:tab algn="l" pos="10744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www.wikipedia.or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48880"/>
                <a:tab algn="l" pos="10296360"/>
                <a:tab algn="l" pos="10744200"/>
              </a:tabLst>
            </a:pPr>
            <a:r>
              <a:rPr b="0" lang="cs-CZ" sz="14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mzp.c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48880"/>
                <a:tab algn="l" pos="10296360"/>
                <a:tab algn="l" pos="10744200"/>
              </a:tabLst>
            </a:pPr>
            <a:r>
              <a:rPr b="0" lang="cs-CZ" sz="1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vitejtenazemi.c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48880"/>
                <a:tab algn="l" pos="10296360"/>
                <a:tab algn="l" pos="10744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Mgr. Milana Šťovíčka v Horním Jiřetíně (17.5.2011 – veřejný seminář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48880"/>
                <a:tab algn="l" pos="10296360"/>
                <a:tab algn="l" pos="107442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48880"/>
                <a:tab algn="l" pos="10296360"/>
                <a:tab algn="l" pos="107442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685800" y="18144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liv těžby na zaměstnanost, vzdělanost a sociální vzta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městnano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Jednostranné zaměření Ústeckého kraje na energetiku se negativně projevuje na vysokém procentu nezaměstnaný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elcí zaměstnavatelé začali racionalizovat své podnikatelské aktivity a uvolňují zaměstnance s velmi nízkou schopností přeškolit se na jinou prác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620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aměstnano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 těžebních společnostech je velké procento zaměstnanců s jednostrannou kvalifikací, kteří se obtížně vyrovnávají se změnami svého profesního uplatnění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 těžebních společnostech až na výjimky nevznikají nové podnikatelské záměry, které by umožnily zaměstnání pro uvolňované pracovník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zdělanostní úroveň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 úrovni vzdělání na středoškolském i vysokoškolském stupni je Ústecký kraj na samém konci v rámci České republik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ladí a vzdělaní lidé opouštějí region nebo se nevracejí po dostudování zpět, protože zde nenacházejí přirozené hodnoty a vazby, na nichž by chtěli postavit svou perspektiv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ociální dopad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ystěhováním obcí došlo ke zpřetrhání dlouholetých sociálních vazeb v tradičních sídlech bez jejich náhrad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aprostá většina vystěhovaných obyvatel byla nuceně přestěhována do panelových domů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šlo ke ztrátě přirozené vazby na „své“ bydliště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5089320" cy="36003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38156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96360"/>
                <a:tab algn="l" pos="107442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ociální dopad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ýrazně se zvýšil pocit i faktická anonymita obyvat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 panelákových sídlištích se začaly tvořit sociálně vyloučené lok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onymita, ztráta základních hodnot a neschopnost pozitivní identifikace se „svým“ bydlištěm, to všechno vedlo k nárůstu sociopatologických jevů – kriminalita, drogy, vandalství, pasivní životní styl, extremism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296360"/>
                <a:tab algn="l" pos="107442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1:23:13Z</dcterms:created>
  <dc:creator>albert</dc:creator>
  <dc:description/>
  <dc:language>en-US</dc:language>
  <cp:lastModifiedBy>stercl</cp:lastModifiedBy>
  <dcterms:modified xsi:type="dcterms:W3CDTF">2014-09-26T12:28:10Z</dcterms:modified>
  <cp:revision>4</cp:revision>
  <dc:subject/>
  <dc:title>Vliv těžby na zaměstnanost, vzdělanost a sociální vztahy</dc:title>
</cp:coreProperties>
</file>