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7775-1B1A-448B-979F-BBAA98567A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5E66-819E-4855-9835-8985DE6798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9F1C-7B6A-4144-8FE1-3487C708F0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56CB-1E6B-484F-A8FB-0D26C7D552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4D4-2799-4868-88CB-F46BDFA1C6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CDF-9446-419A-83BE-2CC0B22222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B6DA-89DF-4905-B5F2-5329D215103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84BC-48C3-4030-A362-F417DEE2C0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2637-4630-4865-9493-263AA8C2BF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2576-CDF1-4AE4-AE6C-67EF0F7E430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FA5B-0F4A-4B58-A52F-E016366CB1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C20-82D0-4180-BEEF-F5F65A39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B8C-6A68-4E88-B166-81DCF1BA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80A82-3DD6-4892-A79F-E18C0D7D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04899-E553-453F-8371-8086E8D5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FA313-5A91-4060-ABBD-0981D10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1D31F-A877-4FC4-9A8E-A8FA04B4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EF33A-51A4-4341-930A-C5848D18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0A665-786A-42FC-A3C7-5759ABC8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A0735-E5B9-4C40-B0B7-F18F35FF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ACB37-C482-4D6B-BC76-A75E359B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C121A-C7BE-45FA-B24E-3D6D6A7F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F0777-DCF2-4B70-A8A5-204B48C1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BB4-9F5F-454D-8F2C-0A6361A1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E25B4-8579-4CA5-8580-ABA07713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46B3F-CFF6-462F-8746-E3A3D91F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D1D3AC-FE29-41EA-BF63-E45A5D75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DDDAB-65ED-471A-BAC3-94F9CC62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660A2-570B-432E-9738-87541CF3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CA75F-610F-4384-AA2B-898059EF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D4E6B-B6DE-4686-AC48-0BA14951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B8D2E-2645-4B07-AAC5-06D19FE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0231B-E1B2-4C73-A5F2-76CAFA19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B44E8-1DC8-4EF5-AB9A-F26FBE4F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2EA-C206-4A30-88D9-1DBC26E1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FD9E1-2226-4FBB-8133-20846918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C8B0-8AA7-4736-9BA3-F79D63CF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4CD87-DAFE-416B-BC83-B3B42DF6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FBFEB-EBA1-4B3E-AFBA-C19943DC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1809F-ED48-4539-A023-C40F63BE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210F7-5F5B-466B-9D23-20860DE8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AF6C7-AADE-4F1D-8674-7D7BA31F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D077E-D229-4652-8DE3-E7870D79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04CFA-ACBF-4738-A34F-ED833687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A2B3E-0E02-4462-AD70-4258F297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67BB-2236-42B5-A4A3-B922B91A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32901-241C-41E0-85F8-26ABDA6B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48F58-8F6F-4173-B541-1EB0FD1F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573EC-F37B-47E2-BF18-35110D33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D8C6A-C224-4E3B-9622-3F31C281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CAF1B-3D13-4581-9BFA-D6DE7F16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8A7E8-B63B-4E3A-AB59-2E77A081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98127-BE78-4E20-9E32-446956D0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0E224B-49FF-4E11-BD7E-8C54F118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7814D-CE1E-4F97-95DA-4A8581C2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D2F93-3061-4047-996E-41E60C8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9150-E910-4824-B021-C06527C1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0AC51-9666-44ED-A218-9A4950AC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F3252-1DC8-456B-8978-32E9753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CC5D2-28BC-44AA-8F4C-CB5EE7E8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FDA49-3792-44C8-AA09-7EAB67E7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35DD3-C659-4A25-AA6C-748BC636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13AA5-9BDC-447C-95BF-776F630A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C7FF9-0A2C-4222-B8CA-6F885FD8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1EFB6C-E8DA-452F-8E9B-923BF00E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AD741-C0C1-4707-AD64-87999CE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A734E-255D-4C85-904F-9344CB31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94F1-B507-4DF3-A839-3B6811AA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43292-185C-4B02-B424-930A358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A0617-14E0-47CD-89C3-E0A7127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27A76-D8CF-4D99-B06A-710B28F3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5AAC6-18DC-4FE5-93A9-9B4E3B3D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8F16F-68C5-4296-BF43-445AD77C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C77D7-4654-4F70-897B-21EA87E7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6864C-0C4A-4015-A4F2-044F30EB2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87A97-CB58-4126-9713-BE0B5D4A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2F066-7E9B-495C-B2C5-19AD8DE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3474A-FAF3-45AF-B419-FDE45D2D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5535-773C-4ACC-B317-8D817DB3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5D8F68-2825-4DE2-9DCD-C780BAFF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7BF4A-FC04-4CC3-9FED-10B1EDDF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88978-ACE0-46D2-80B6-0C5CA2C0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EEDF0-E17F-4E08-BD68-50BE74E2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5E8E2-6D18-4C38-9175-860D2DA0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5DA0A2-164C-4197-ABB7-181ED4F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B5612-64D4-4604-A1B1-F5A23F0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D49E9-B856-4DCC-A3BB-AE3CD816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ACDF7-00E5-40AC-9C79-4376D15A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CCE5-889A-443D-B7DC-527E7313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5F6E-214E-4874-BFB1-B7029B46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D294-73D8-419E-A856-58F969C8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B7A-3031-4C4F-BA37-44D64A65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6F62-2CC7-4456-BDDB-28FC1EEE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DF9C-D684-44B5-B1A7-436DF144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9CE4-8D32-4DE7-A578-54B1343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57DC-E71A-4044-8DAD-8FC06CD0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373C-546D-4F6C-80E5-121CD210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FE65-B5C1-4BA8-B1FC-A3E6BA0F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B258-5B94-4E22-A5BF-0FBFA815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F302-8A0E-419B-8D64-B02416CC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88FE-03F7-43D4-8197-1040305C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1BF9-60F8-4255-BDA1-49F44804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1B9-9006-43C1-B4ED-CBB0C3FF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6D50F-9B00-469C-8CFD-748D0E18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B96E-4C22-4826-A4C4-26E06F73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4F0B3-D362-43D2-8F01-30B7905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E953-D303-4D45-9F53-B1B7F492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A093-C27C-445D-BEFA-C4C0E1D6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3356-C93C-4041-B446-053132D3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23AA-AC4A-4C07-8240-3C01A4B6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E2885-65C1-42BE-98A5-D66C41B50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5789F-F8E1-4C42-9505-6B50B774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58CB-B5A1-49CB-9A12-9331BE9E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94C-5F50-4299-9F0C-FCE59AD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3915-BF9E-450F-8FB4-B7945595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F6A9-71B2-4872-A0AB-CB3CE7E6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E98E6-552F-41E6-AFB5-E8FAC7A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05DC-BE38-4C58-B240-37AF2470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8737-5D36-4F3B-A374-CBBD04B3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04DD8-D3AA-4196-8BC7-5437DC4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8B31-8EDB-4D38-AE92-072BB142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C472-E8C6-4FBC-9DEC-98133DE9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18980-7FC7-4E4B-AC6B-4BB4AC18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E10D2-27A1-4B75-BEE4-64BA7D2E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9E60-E28A-445D-8812-E65F74E3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BCC04-9EE4-40DD-A754-9756F0D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CF012-00B1-40B9-B3BA-8E53512B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9D309-4E0E-4583-A3FA-C1021C92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2BCD-1D07-4D8E-A623-5E7F1BDC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4218-58E2-455E-979E-7AB4984A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F375-7133-45BD-A2E5-B1578031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0D0C5-D8D4-492B-8B48-9A0EFA0A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8236-DE90-43DB-93D1-98B381B2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D7DB0-76B2-42AD-B605-03C89A21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90A59-B328-4CEA-B2FE-B1C76CA6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FCC-94BE-4CF2-AAA0-880CD0A5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B39A-0C54-4784-BAD4-038D162D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88910-4E6E-4AC5-8787-DAF1EA2F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1283F-EB2A-4D34-B83C-355E4484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3501B-7634-40C3-9639-55F43AD5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E76EE-6328-4AC0-A172-1EA20ED9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BD581-1B54-4A9A-90AC-7DFFD28F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B3399-6CC4-4A8E-B9FA-09748B13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99BBB-26F1-4E89-B4FF-D419F7BE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465A6-1EBD-4615-A42E-F9EC4399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49F91-ED8C-4B45-8C13-F949E98E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0A5-BBBE-499A-B6C7-0ADF795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B56C-F733-42B3-AC12-641C97CD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E7486-EC0F-4E07-B0D1-35CB3D92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A7FBB-11C9-436B-A300-D8277E10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5205E-E9FE-40C4-AFE2-FD4A3788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D8F86-3160-47BA-B75C-07B31017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B794-AC0E-4113-8200-7D923411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A394A-DD27-4DF2-8845-B8DEE8CC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CA950-0F61-49EF-8524-95D08C91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4CCC-4B7B-487C-BAA8-E9AD6E9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C7267-B4F6-454B-B092-AC88EB2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F51-BDFD-4A59-BFBD-732BC04E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3AF1-0CA1-47DA-B4CF-40624C76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E8533-EC54-46E3-82A1-3F900606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0DA43-1270-447B-AA7D-BE95557E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66AC8-1A3B-4B4A-A804-A08DD80E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06A0F-8395-466C-8DEC-E966D123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F93B-9B75-4EC3-AB07-0B15ED4E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0DEDE-88AE-4B63-9354-70C081CC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DE571-B979-47C8-89AF-AE5DB811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7B814-BBF2-4D38-9E57-B0469F6C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4757A-76E4-45F2-88AA-C2850A1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3C1-A70A-48F1-8A8F-905EC88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129E2-5983-417A-983F-93CCB102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C7EA6-2709-4C9C-A1A9-C5CEE2AD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EB31C-3145-4648-B074-E94FAAC6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7A87A-6571-4CE9-AD1A-C2E52F0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6465A-36FF-4454-ADE4-5E572103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1D378-EA6B-4542-B8D2-1B58D6B7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321D2-D73C-4FF0-9983-F78A4055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038E0-5527-4FF3-8BFE-554DF754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48CB7-22F5-4F4B-9C11-D3DE236C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7C801-A6E8-4341-97FB-A95CD4AC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4C22-68BD-4FFB-8222-000ECD8BE9B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8505FE7D-1306-4803-8092-21BB5245A764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4A39E82D-D813-4D1A-B608-64B721D5F0FD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D3D40394-DE8B-4236-A669-1DACBA4CC0E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12DF1329-C8D3-4B72-8F63-2C18DB0FB48E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B2432EAB-782B-48C7-ABEE-6923A1E06228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CBF8BFAF-9AB6-4CA1-994D-847418A178FA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4B5D-CBCB-49E6-BA41-45E51BAFC98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9FBA9ED5-DF48-425B-BFEC-D9F921FA5210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4A22D8A5-D240-42BF-9C39-745D1AB6A220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C5CAA8CD-C851-408B-9FE8-C34D341C2CB2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8EF93138-0795-4C01-B5A5-5DC9AC933A15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EE9DA2F7-9EF6-47D8-A83A-1289CB8B538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701EEC88-7AD6-42B6-A696-82AA9919FB6C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2873520" y="2952720"/>
            <a:ext cx="48290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0066"/>
                </a:solidFill>
                <a:latin typeface="Arial"/>
              </a:rPr>
              <a:t>C. Mezivýsledk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Object 4"/>
              <p:cNvSpPr txBox="1"/>
              <p:nvPr/>
            </p:nvSpPr>
            <p:spPr>
              <a:xfrm>
                <a:off x="987480" y="5548320"/>
                <a:ext cx="72406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,0,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MNOPQ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74" name="Picture 6" descr="rovnobeznosten_a3"/>
          <p:cNvPicPr/>
          <p:nvPr/>
        </p:nvPicPr>
        <p:blipFill>
          <a:blip r:embed="rId1"/>
          <a:stretch/>
        </p:blipFill>
        <p:spPr>
          <a:xfrm>
            <a:off x="611280" y="1989000"/>
            <a:ext cx="5153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Zdro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formace o trojklonné soustavě: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http://minerals.webgarden.cz/temata/krystalove-sousta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62708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0066"/>
                </a:solidFill>
                <a:latin typeface="Arial"/>
              </a:rPr>
              <a:t>Trojklonná soustava</a:t>
            </a:r>
            <a:br>
              <a:rPr sz="4400"/>
            </a:br>
            <a:r>
              <a:rPr b="1" lang="cs-CZ" sz="4400" spc="-1" strike="noStrike">
                <a:solidFill>
                  <a:srgbClr val="330066"/>
                </a:solidFill>
                <a:latin typeface="Arial"/>
              </a:rPr>
              <a:t>… </a:t>
            </a:r>
            <a:r>
              <a:rPr b="1" i="1" lang="cs-CZ" sz="3200" spc="-1" strike="noStrike">
                <a:solidFill>
                  <a:srgbClr val="330066"/>
                </a:solidFill>
                <a:latin typeface="Arial"/>
              </a:rPr>
              <a:t>a objem rovnoběžnostěnu řešený analytick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hDr. Eva Pat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nsa gymnáz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Trojklonná soust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šechny osy osového kříže jsou různě dlouhé a svírají libovolný kosý úhel (nikoli pravý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inerály: albit, chalkantit (modrá skalice), kaolinit, plagioklas,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donit, inesit, proust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 struktur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vnoběžnostě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rovnobeznosten_2"/>
          <p:cNvPicPr/>
          <p:nvPr/>
        </p:nvPicPr>
        <p:blipFill>
          <a:blip r:embed="rId1"/>
          <a:stretch/>
        </p:blipFill>
        <p:spPr>
          <a:xfrm>
            <a:off x="4543560" y="4210200"/>
            <a:ext cx="460044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330066"/>
                </a:solidFill>
                <a:latin typeface="Arial"/>
              </a:rPr>
              <a:t>Spočítejte objem rovnoběžnostěnu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757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áno: vektory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očítejte pro konkrétní hodnoty: (1,0,1), (1,1,1), (1,2,3)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7" name="Object 8"/>
              <p:cNvSpPr txBox="1"/>
              <p:nvPr/>
            </p:nvSpPr>
            <p:spPr>
              <a:xfrm>
                <a:off x="2268360" y="1197000"/>
                <a:ext cx="1063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58" name="Picture 10" descr="rovnobeznosten_a1"/>
          <p:cNvPicPr/>
          <p:nvPr/>
        </p:nvPicPr>
        <p:blipFill>
          <a:blip r:embed="rId1"/>
          <a:stretch/>
        </p:blipFill>
        <p:spPr>
          <a:xfrm>
            <a:off x="3635280" y="3513240"/>
            <a:ext cx="550872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A. Pomocí jednoduchých vztahů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místíme rovnoběžnostěn do soustavy souřadn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íme </a:t>
            </a:r>
            <a:r>
              <a:rPr b="0" i="1" lang="cs-CZ" sz="3000" spc="-1" strike="noStrike">
                <a:solidFill>
                  <a:srgbClr val="330066"/>
                </a:solidFill>
                <a:latin typeface="Arial"/>
              </a:rPr>
              <a:t>vzdálenost bod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330066"/>
                </a:solidFill>
                <a:latin typeface="Arial"/>
              </a:rPr>
              <a:t>od přímk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L (výška v rovnoběžníku KLM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íme obsah podsta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íme </a:t>
            </a:r>
            <a:r>
              <a:rPr b="0" i="1" lang="cs-CZ" sz="3000" spc="-1" strike="noStrike">
                <a:solidFill>
                  <a:srgbClr val="330066"/>
                </a:solidFill>
                <a:latin typeface="Arial"/>
              </a:rPr>
              <a:t>vzdálenost bod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330066"/>
                </a:solidFill>
                <a:latin typeface="Arial"/>
              </a:rPr>
              <a:t>od rovin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KLM (výška těles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íme obj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0066"/>
                </a:solidFill>
                <a:latin typeface="Arial"/>
              </a:rPr>
              <a:t>A. Mezivýsledk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Object 4"/>
              <p:cNvSpPr txBox="1"/>
              <p:nvPr/>
            </p:nvSpPr>
            <p:spPr>
              <a:xfrm>
                <a:off x="324000" y="4933800"/>
                <a:ext cx="84960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M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KL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MNOPQ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3" name="Picture 6" descr="rovnobeznosten_a3"/>
          <p:cNvPicPr/>
          <p:nvPr/>
        </p:nvPicPr>
        <p:blipFill>
          <a:blip r:embed="rId1"/>
          <a:stretch/>
        </p:blipFill>
        <p:spPr>
          <a:xfrm>
            <a:off x="395280" y="1628640"/>
            <a:ext cx="56894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B. Užitím vektorového součin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říve popsaný postup zjednoušíme tím, že si uvědomíme, že </a:t>
            </a:r>
            <a:r>
              <a:rPr b="0" i="1" lang="cs-CZ" sz="3000" spc="-1" strike="noStrike">
                <a:solidFill>
                  <a:srgbClr val="330066"/>
                </a:solidFill>
                <a:latin typeface="Arial"/>
              </a:rPr>
              <a:t>obsah rovnoběžník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(podstavy) je číselně roven </a:t>
            </a:r>
            <a:r>
              <a:rPr b="0" i="1" lang="cs-CZ" sz="3000" spc="-1" strike="noStrike">
                <a:solidFill>
                  <a:srgbClr val="330066"/>
                </a:solidFill>
                <a:latin typeface="Arial"/>
              </a:rPr>
              <a:t>velikosti vektorového součin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ektorů tvořících strany rovnoběžník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ále – viz 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0066"/>
                </a:solidFill>
                <a:latin typeface="Arial"/>
              </a:rPr>
              <a:t>B. Mezivýsledk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4"/>
              <p:cNvSpPr txBox="1"/>
              <p:nvPr/>
            </p:nvSpPr>
            <p:spPr>
              <a:xfrm>
                <a:off x="468360" y="4627440"/>
                <a:ext cx="806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,0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MN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,</m:t>
                        </m:r>
                        <m:r>
                          <m:t xml:space="preserve">↔</m:t>
                        </m:r>
                        <m:r>
                          <m:rPr>
                            <m:lit/>
                            <m:nor/>
                          </m:rPr>
                          <m:t xml:space="preserve">KLM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LMNOPQR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8" name="Picture 6" descr="rovnobeznosten_a3"/>
          <p:cNvPicPr/>
          <p:nvPr/>
        </p:nvPicPr>
        <p:blipFill>
          <a:blip r:embed="rId1"/>
          <a:stretch/>
        </p:blipFill>
        <p:spPr>
          <a:xfrm>
            <a:off x="395280" y="1700280"/>
            <a:ext cx="51530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. Užitím smíšeného součin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330066"/>
                </a:solidFill>
                <a:latin typeface="Arial"/>
              </a:rPr>
              <a:t>Absolutní hodnota ze smíšeného součin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vektorů je číselně rovna objemu rovnoběžnostěnu, jehož hrany jsou vymezeny těmito vekt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míšený souč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ktorový součin dvou vektorů vynásobíme skalárně se třetím vektor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332000" y="5300640"/>
                <a:ext cx="237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  <m:r>
                              <m:t xml:space="preserve">×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8:17:54Z</dcterms:created>
  <dc:creator>EVIČKA</dc:creator>
  <dc:description/>
  <dc:language>en-US</dc:language>
  <cp:lastModifiedBy>stercl</cp:lastModifiedBy>
  <dcterms:modified xsi:type="dcterms:W3CDTF">2014-09-26T12:27:41Z</dcterms:modified>
  <cp:revision>10</cp:revision>
  <dc:subject/>
  <dc:title>Trojklonná soustava  Objem rovnoběžnostěnu řešený synteticky</dc:title>
</cp:coreProperties>
</file>