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230F-5B33-4582-A32F-95FB9C36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189-FDCB-4C71-AFB0-1783AAE6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7BDA9-A596-4369-86AA-4088791F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A473D-3DB2-4382-83DA-10504766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8EC82-32CE-42AD-8690-FB0E01B3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D06E8-BCB9-4788-B167-9C3E914B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2F85C-11B5-42A3-A8B4-25E066B8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9F942-5265-4C7E-A3BC-8E09050E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5CF7C-448D-4840-B613-52EECD06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96241-6C5D-418F-A355-638868A0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7279F-DCA5-4095-B848-257D2453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12C3F-EB7B-41F8-B348-C3E83BC1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0946-0A5D-4CB9-9943-BD671989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74569-C1BF-44DC-865D-B4D502E5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2D867-870D-4A04-A9D7-C40774E1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EFB75-3934-4B8D-9DAD-C6219F3A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73421-D3DD-40BB-85B6-099FBA0D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72692-804E-44A8-B418-25343670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0E9A5-D6B6-4F2E-BC18-A6E9A083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1F3E0-BEB3-489B-A710-CB225234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6E8D4-8022-4B0A-8F57-1EAA3158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7730A-68AC-446F-AA6C-4FC7C095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67E73-1710-449B-AC7F-3C0E5D83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5BE-750C-4A9E-900D-55E5770B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11A95-4294-432C-9A26-0D0F916C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942D2-4A80-4D89-930A-3AEB5286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8F464-7081-47ED-868C-11ED9742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CDCFF-F160-4614-8B5F-F7CAB00A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7A6FA-0A45-4A64-8A77-EAACC2FD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4D45B-12A2-4937-B373-A43B2D1C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DDC8B-EA69-4B65-AB97-9703A1A2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1591A-24FA-4324-BCC5-81FE2B8F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CF2E0-906B-4A69-9E22-365645B9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F6DFD-A117-4049-99F3-DCFAC498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2313-E94E-45DE-AC72-79FE7A19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182A0-B1ED-4E11-AC24-4832AE72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FF2B3-4027-479F-B205-73D6ED9B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1B18F-C9C5-42EA-9296-BDFEB9E0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C1E55-D339-4B18-80D7-932E46CB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F2CEE-E575-45E4-9EE4-86790B91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756B3-CF85-4D6B-AF80-4874C103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4F137-05F0-480A-8207-80EA6A49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C7537-8F4A-4DE2-8CAF-1C24C8D1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7187F-B9EF-4AAE-B68D-D5FDBEAA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BE860-0063-4175-8565-CEEF0870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E285-0708-4CDD-AE56-1C096E65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9059D-2586-4DF4-9424-A3D93F33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FE073-981C-4395-A77C-08D2C116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D7EE2-4FCA-401B-A2CE-5A065374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1BBCF-3DF2-4697-825C-B12D61C7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FEBD8-250B-4E37-9A72-888B2210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8372C7-36AE-4BB5-916E-C6C33051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1491E-B59D-4C5A-AEC9-520D155E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AC4607-CC13-4A5D-8727-F342D9FC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D9468-8B5A-44B6-8374-B9D2FA3B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B8924-AFED-40ED-992F-D7765701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6544-2EBD-444B-AF27-09B0C305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5FEAFA-083D-445B-8EB5-EC749C9D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5FD49-0492-4BE1-8F1E-1C725406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946FF9-AA97-434D-AADE-9A374A8F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2548A6-ECCE-4F3B-BE94-EB0ABFD6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E90C1-0FFB-4BD2-A277-27225E83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016442-97C0-47EC-9683-73CFB8F8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736C0-7695-46EA-A713-523CC94D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0B47-BBE0-4BD4-9677-7D911EF9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465E-E5B2-4EDF-843B-5475EACF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3B86-E8F3-4994-9183-98BCD634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E99A-85C4-4085-A6E2-E490E90E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37B-25E2-47DB-89CE-FAB0948F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0394-7C64-4A48-85C7-ACD72E13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5838-AE09-4C3F-8729-6B12249E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B552-0C76-48F0-88BB-64E33063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F93C-662D-4333-8CF7-A9111457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1275-43E5-40CC-9007-C26755C6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85C08-646F-40E1-9136-EEEE3AA6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38BD0-BB8E-45AD-B916-D4FB1304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65F39-8203-4A9B-B260-B26E805F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15C9D-A441-4F6B-BAB6-594F014E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7D7A5-CDD7-4CB3-B91C-1E059363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9CB9-021F-4C9B-BF1A-6CA440B8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9381E-D837-4130-90BF-6CFE4AAD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B30B9-0DA2-4378-874E-C8913D91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8BD89-977C-44F5-AA37-1710D3CF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97B48-F2B2-427B-AD75-7128BDCD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CF815-2738-411C-93DB-440AC77B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3A3F0-6C81-4ABF-B8A2-CDC27CEF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A4FFB-32ED-44F0-B023-C8408BC1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32D09-02DF-4E95-B623-E36C7FE8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8A1E0-FD48-484C-94D1-0F6E17C1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BA405-DEF1-405D-BE1A-5F85DD29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5439-AA7C-4C50-8C4D-66E19766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72633-CC2F-4207-B824-F794A186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FA4BA-D995-482E-9DD5-41351072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C4B87-3D71-4795-84E5-513D99F8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869AF-EA0B-4C52-85C7-2B19230C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1418B-AF3B-4113-B72C-DC4E1396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6863E-2195-47E5-A61D-9F056A8A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7D037-7C8B-4FAB-94A5-62721A9D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657D6-3BF3-4485-9616-6851D306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01731-FA71-424A-9760-04AD5FB4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E4E77-83F8-4051-B334-1798C067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1EB-4693-4458-AB6D-E88302F5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627D0-46EC-4D9C-9F4D-E99AEC83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06E51-5548-4540-8FF1-21199DBD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784B3-E302-4B4C-A000-5046CA56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EEFCD-8912-4991-BE78-5F6057B7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DEACB-93C8-4343-B254-2175F047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DBFFF-2710-492F-98A7-65C1E9A5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5A3B9-FEE0-454D-8F2E-D1193148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96C97-D8F8-41B0-8C8C-184C9283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205CA-631E-4BC4-BC5A-93F50F6B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6B663-F977-48DB-8375-5468B2CF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737-31B1-443E-8710-CE0353D2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769EA-73F3-43C5-87A7-857D5E12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18559-52A8-4FDE-A9D9-31EB6D2F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0361A-97BC-4137-A372-E3D03B63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8BC6D-0427-4557-8FF2-FE76116E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33045-7A63-46F8-8D80-BAB76159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1083D-FCB7-4376-9408-1115181F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18EAB-7B0A-4F8D-BE51-0C783F7A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B27D8-CBEB-41E0-B7D2-965DEF55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2D3D2-27CC-4807-9099-8AAA89C4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08DFC-E06A-4AC0-BBF9-5928144B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87CC-AC55-4388-A166-D591CF1C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69569-6FE7-4F1F-88A2-5DACE198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E2F42-84AD-4869-8E8F-9F2BB08F3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CFEB5-C523-4421-906B-5462C75A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D1F17-5F17-4998-B012-A21F76CB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F423A-BBF7-4FCB-A8E8-9CC729D5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9B531-C5A4-4842-80D0-A347433D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74BC4-FD51-4000-A6E7-F142D7A8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DA5EA-5F98-4CF7-B91A-19C2879D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12D25-D85B-47B0-8DDB-6E54F510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AF262-5033-44BD-9FD7-C3D87D85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DDC-6843-4FF7-AC16-E0C163FF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F9C4B-6F05-49EA-8019-9A75BDE8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A85CF-D789-40B2-B637-920554FC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707F3-8E89-4A06-BE2B-77AA4196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A3F6A-14F7-4478-8950-BE0D189E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B2DE4-47AE-42D1-962E-ACE935EB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5C346-FF2B-4C5D-85A0-E708FA22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A70E2-7CC4-43E1-BFFD-CA2EA388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688F3-C82B-44B4-BBD3-2A35DC4D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E92FB-CDBA-4C35-8D79-86820C7F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80358-DCCB-4B9A-9F4F-399CEC33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8BAB-453C-4FF3-9FD8-2E644865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56E81-8FAA-4157-B087-73D7A9EB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A1C67-9CA2-4FD5-85EF-8DADDBDF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0AFF3-4325-42B2-84C1-C8B77B13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D9FC0-8233-4D33-A452-3E5B3669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DDFCE-AE08-4297-9235-EA225BE7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83F27-C469-4212-84C8-E15B8DEF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6B56E-2225-4517-9A87-C3D3C786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11B5E-FCAF-4C98-9352-2D4C5DB0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637D7-805F-489C-BEAE-A3F9DE6C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A58F7-64F7-4360-91C9-428EB293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59A8-5E79-4D75-AED9-DB4C7594259C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D8134DBB-8014-45D0-9EA1-97D2AC11A5A7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EF27FEEF-66CA-4182-8DC3-3030DC30A877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F6E75C6F-A396-4C6B-AA56-184849998D5E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E080AD0D-3AC8-46CC-90A4-E0217C12E2FE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  <a:def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125C0D3F-EF44-4E8F-806E-8920AE2032CB}" type="slidenum"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0A942578-C8B1-4B3B-92A7-E2D1CB22805A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37B1BE8D-2CEA-4D4B-AF8D-B86846A02F31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AF1B7AB8-2BE0-434B-A935-FE8F2CC6B79B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3997C598-F6D6-4530-83F7-9A2C1DCA936F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343BCB2E-EF73-40F1-B05D-52F0F2E8EB45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367355DA-2A62-401E-81B7-63CB1C81E9E4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E984F383-2F16-4316-ADC4-6807FF45F787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2874960" y="2940120"/>
            <a:ext cx="482760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Praha &amp; EU: Investujeme do vaší budoucnosti</a:t>
            </a:r>
            <a:br>
              <a:rPr sz="1000"/>
            </a:b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Evropský sociální f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3330720" y="2089080"/>
            <a:ext cx="2411280" cy="863640"/>
          </a:xfrm>
          <a:prstGeom prst="rect">
            <a:avLst/>
          </a:prstGeom>
          <a:ln w="0">
            <a:noFill/>
          </a:ln>
        </p:spPr>
      </p:pic>
      <p:sp>
        <p:nvSpPr>
          <p:cNvPr id="535" name="Obdélník 1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Evropský sociální fo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h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amp;EU: Investujeme do Vaší budouc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řemačo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Křemačov (něm. Kremetschau) dnes patří k městu Mohelnice  a existuje několik teorií výkladu tohoto jména: z českého osobního jména Kříma nebo komponenty německého osobního jména Grim-; z českého příjmení Křemen; z obecného jména křemen, odkazující na výskyt křemenů; z obecného jména křemenáč, které bylo vlivem jazykově ekonomického procesu zkráceno na křemáč (srov. 1885 Křemáčov) nebo ze zkrácené formy přemač k českému obecnému jménu přemahač ve významu přemožitel (srov. 1320 Premaczow, 1881 Přemačov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aco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acov  (něm. Putzendorf) dnes patří k Městečku Trnávce a jeho původ jest pravděpodobně v německém jazyce. Vykládá se z německého obecného jména Batzen - „hrouda bláta, hlíny“, které má odkazovat ke kalnému potoku protékajícímu obcí nebo k špatně obhospodařovatelné jílovité půd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2" descr="C:\Users\albert\Desktop\pacovBarevny.png"/>
          <p:cNvPicPr/>
          <p:nvPr/>
        </p:nvPicPr>
        <p:blipFill>
          <a:blip r:embed="rId1"/>
          <a:stretch/>
        </p:blipFill>
        <p:spPr>
          <a:xfrm>
            <a:off x="4932360" y="1628640"/>
            <a:ext cx="3600360" cy="42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avířo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Havířov - Nejstarší zprávy o původních obcích na území Havířova se dochovaly z konce 13. a 1. poloviny 14. století. Počátky města souvisejí s výstavbou hornických sídlišť. Havířov vznikl 4. prosince 1955 na základě usnesení vlády ČSR z roku 1955 a usnesení krajského národního výboru v Ostravě ze dne 28. ledna 1955[2]  z okrajových částí katastrálních území obcí Dolní Bludovice, Šenov a Šumbark, přičemž se okamžitě stal městem. Jedná se o nejmladší město České republiky. Jméno města bylo vybráno ve veřejné soutěži z 2350 zaslaných návrhů jako např. Horníkov, Bezručov, Čurdov, Faratín, Všemírov, Čestprácov, Čechurov, Nový Gottwaldov at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tivovaná pojmenování mí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Etymologie názvů míst, obcí či měst souvisejících s nerosty, horninami či jejich těžb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Etymolog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tymologie je obor lingvistiky zkoumající původ a vývoj slov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vláštním, převážně etymologickým oborem je onomastika, zabývající se původem vlastních j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tymologická příbuznost slov se nazývá fili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utná H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lovo pochází z latinského Mons Cutna, tedy česky Kutná Hora. Původ slova „kutná“ není zcela vyjasněn. Může se jednat o německé kutten – dolovati, kopati, kutati; či se odvozovat z německého Kutte – kápě, kutna, či českého kutati. „Hora“ pak neznamená horu v dnešním slova smyslu, ale spíše stav hornický, neb dříve mělo toto slovo význam, kterým se označoval dů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Picture 2" descr="C:\Users\albert\Desktop\78b.jpg"/>
          <p:cNvPicPr/>
          <p:nvPr/>
        </p:nvPicPr>
        <p:blipFill>
          <a:blip r:embed="rId1"/>
          <a:stretch/>
        </p:blipFill>
        <p:spPr>
          <a:xfrm>
            <a:off x="4643280" y="1628640"/>
            <a:ext cx="4257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Železná Ru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voje jméno Železná Ruda získala díky těžbě stejnojmenné suroviny v první polovině 16. století, díky které také byla založena na mnohem starší cestě přes Šumavu z Čech do Bavors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2" descr="C:\Users\albert\Desktop\Jindrich_Eckert_-_Zelezna_Ruda,_kostel_Panny_Marie_Pomocne_(1880-2).jpg"/>
          <p:cNvPicPr/>
          <p:nvPr/>
        </p:nvPicPr>
        <p:blipFill>
          <a:blip r:embed="rId1"/>
          <a:stretch/>
        </p:blipFill>
        <p:spPr>
          <a:xfrm>
            <a:off x="179280" y="2133720"/>
            <a:ext cx="43848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iber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362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ůvodní název města byl Reichenberg, což v překladu z němčiny znamená "bohaté hory" (pokud ovšem nebyl přenesen do Čech již hotový saskými kolonisty, jimž by mělo připomínat domovský Reichenberg v drážďanském kraji). V nářečné výslovnosti se toto jméno zkracovalo na Rl´berk, z něhož si v 18. století Češi vytvořili podobu Liberk. Dnešní podoba je pouze zkomoleninou tohoto názv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648320" y="3645000"/>
            <a:ext cx="403848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2" descr="C:\Users\albert\Desktop\0508CR_MUZEA_ARCHITEKTURA_JESTED_LIBEREC_850.jpg"/>
          <p:cNvPicPr/>
          <p:nvPr/>
        </p:nvPicPr>
        <p:blipFill>
          <a:blip r:embed="rId1"/>
          <a:stretch/>
        </p:blipFill>
        <p:spPr>
          <a:xfrm>
            <a:off x="1835280" y="3405240"/>
            <a:ext cx="56894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r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95280" y="1557360"/>
            <a:ext cx="4100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jstarší doklady se týkají bývalého brněnského hradu, o kterém se dodnes s určitostí neví, kde přesně stá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méno Brno bývá nesprávně vykládáno z keltského Eburodunom, nebo germánského brunno (studně). Skutečným základem je slovo brnie (kal, špína). Slovo brnno tedy značí blátivé místo. Dvojité "n' dodnes zachovává německá verze názvu Brün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Picture 2" descr="C:\Users\albert\Desktop\brno-01.jpg"/>
          <p:cNvPicPr/>
          <p:nvPr/>
        </p:nvPicPr>
        <p:blipFill>
          <a:blip r:embed="rId1"/>
          <a:stretch/>
        </p:blipFill>
        <p:spPr>
          <a:xfrm>
            <a:off x="179280" y="2997360"/>
            <a:ext cx="47642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C:\Users\albert\Desktop\beskydy_malafatra_1.jpg"/>
          <p:cNvPicPr/>
          <p:nvPr/>
        </p:nvPicPr>
        <p:blipFill>
          <a:blip r:embed="rId1"/>
          <a:stretch/>
        </p:blipFill>
        <p:spPr>
          <a:xfrm>
            <a:off x="755640" y="476280"/>
            <a:ext cx="7704000" cy="56754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esky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méno Beskydy je neslovanského, patrně tráckého původu. Je rozšířeno v celých Karpatech a v přilehlých částech Balkánu, a to nejen jako název hor či vrchů, ale i jako obecné slovo s významem "horský" nebo "sedlo". Patří do okruhu slov, která k nám byla přinesena takzvanou valašskou kolonizac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an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méno Haná je odvozeno od starobylého neslovanského základu ganna, který je znám z názvů hor a řek z jižní Francie a severní Itálie. Všude označuje kamenitou a neúrodnou půdu. To neznamená, že by Haná byla v minulosti neúrodnou pustinou, šlo o pojmenování řeky, která přináší kameny z h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1" name="Picture 2" descr="C:\Users\albert\Desktop\regionhana_header3.jpg"/>
          <p:cNvPicPr/>
          <p:nvPr/>
        </p:nvPicPr>
        <p:blipFill>
          <a:blip r:embed="rId1"/>
          <a:srcRect l="1184" t="12450" r="0" b="16102"/>
          <a:stretch/>
        </p:blipFill>
        <p:spPr>
          <a:xfrm>
            <a:off x="1692360" y="1125360"/>
            <a:ext cx="590544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4T12:33:12Z</dcterms:created>
  <dc:creator>albert</dc:creator>
  <dc:description/>
  <dc:language>en-US</dc:language>
  <cp:lastModifiedBy>stercl</cp:lastModifiedBy>
  <dcterms:modified xsi:type="dcterms:W3CDTF">2014-09-29T16:17:40Z</dcterms:modified>
  <cp:revision>12</cp:revision>
  <dc:subject/>
  <dc:title>Motivovaná pojmenování obcí</dc:title>
</cp:coreProperties>
</file>