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488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01760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1760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6356FCD7-49D6-4F60-993B-FF5EFBECF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017960" y="972180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26960"/>
                <a:tab algn="l" pos="853920"/>
                <a:tab algn="l" pos="1279440"/>
                <a:tab algn="l" pos="1706400"/>
                <a:tab algn="l" pos="2133720"/>
                <a:tab algn="l" pos="2560680"/>
                <a:tab algn="l" pos="298620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fld id="{170F9FF8-A22E-420C-AA80-8539A618C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16680" cy="3836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8A2-8E25-477A-933C-84BDB2B8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92A0-803F-4A6A-9B37-379D2EA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948-7BB6-4731-90EC-0CB97E78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98D-1117-49FA-A378-8424F755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B68-4131-40C0-9293-0405718F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CEE9-2B77-4F8F-BCA0-FECD5C41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5C36-C214-4372-8BCE-070CA332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7255-3A3A-4E96-98FF-71B4C8E7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0AF-5379-42CB-9981-A3DA7BD8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137-A192-4554-A7AB-7740DCC2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B8DC-1677-4DD7-B55F-D61EACE0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4E0-B709-455D-9DCA-1CED2B94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B635-B4A0-4FFE-8F82-48A3014E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D68D-7F69-4084-9E0B-FB3CDCCD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F37A-EAF6-44E6-B3FD-4F36CE9C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F329-5570-43B3-8341-270A2F1B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808F-C5C4-4683-B916-69E9D7F3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513-BF5B-4125-959F-073FB70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CB4-B374-4B96-ACE2-22699B26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319-0462-4922-BC60-E4AACD68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511-22CA-4679-9031-3046C1CB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F35-5AD1-4050-B374-7708C032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959D-91FA-412E-9BC4-0B3758C8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277-F034-429F-A8BA-90E735B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B8224-A317-4A7A-8F5E-943BD52A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BA574-C159-46DC-910F-F808F002A35C}" type="slidenum">
              <a:rPr b="0" lang="cs-CZ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ien_Friedrich_Moh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168720" y="3254040"/>
            <a:ext cx="53229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100"/>
            </a:b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3672000" y="2303640"/>
            <a:ext cx="26575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L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Nekovově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leskl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hledné nebo průsvi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ý diamantový lesk (vysoký index lo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bší skelný l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stný l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ný l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okovový lesk (krystaly téměř kovové, ale stále ještě průsvit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1280" y="1763640"/>
            <a:ext cx="44593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Kovově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leskl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růhledné (opakt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ystalové plochy se často silně zrcadl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660066"/>
                </a:solidFill>
                <a:latin typeface="Arial"/>
              </a:rPr>
              <a:t>Lesk je u nerostů typická druhová vlastn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Zvláštní druhy le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dvábný l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rleťový l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10080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Propustnost světla, lumini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pustnost svět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hle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svit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růhledné (opakt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m svět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index lom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ptická kons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vojl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př. u kalcitu): v anizotropním krystalu se paprsek rozdělí na dva, kolmo polarizované paprsky – písmo dvakrát: 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obrázek: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commons.wikimedia.org/wiki/File:Calcite.jpg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1280" y="1763280"/>
            <a:ext cx="445932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uminiscence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větélkování, které může vycházet z krysta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luorescenc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élkování vyvolané ultrafialovými papr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sforescence: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élkování doznívá po skončeném ozař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calcite"/>
          <p:cNvPicPr/>
          <p:nvPr/>
        </p:nvPicPr>
        <p:blipFill>
          <a:blip r:embed="rId1"/>
          <a:stretch/>
        </p:blipFill>
        <p:spPr>
          <a:xfrm>
            <a:off x="5184720" y="5724360"/>
            <a:ext cx="34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Husto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mineralogii se místo základní jednotky SI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užívá častěji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cs-CZ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1 g/cm</a:t>
            </a:r>
            <a:r>
              <a:rPr b="1" lang="cs-CZ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 = 1000 kg/m</a:t>
            </a:r>
            <a:r>
              <a:rPr b="1" lang="cs-CZ" sz="2800" spc="-1" strike="noStrike" baseline="30000">
                <a:solidFill>
                  <a:srgbClr val="66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l-GR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ρ</a:t>
            </a:r>
            <a:r>
              <a:rPr b="1" lang="cs-CZ" sz="2800" spc="-1" strike="noStrike">
                <a:solidFill>
                  <a:srgbClr val="660066"/>
                </a:solidFill>
                <a:latin typeface="Times New Roman"/>
                <a:ea typeface="Arial"/>
              </a:rPr>
              <a:t> = m/V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hmotnost/obj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terénu lze hustotu určit i odhadem (kolikrát je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zore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ší než stejný objem vo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27280" y="1763280"/>
            <a:ext cx="42433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osty dle husto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hké  (1 – 2 g/c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ě těžké  (2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ké  (4 –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mi těžké  (&gt;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tšina minerálů má hustotu 2 až 4 g/cm</a:t>
            </a:r>
            <a:r>
              <a:rPr b="0" lang="cs-CZ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ětší hustotu mají ryzí kovy: platina, zl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Další vlast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410508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ektrická vodiv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i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ovodi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zola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ezoelektrické vlast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netické vlast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amagne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amagne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erromagne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errimagnet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11280" y="1763280"/>
            <a:ext cx="46818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epelná vodiv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lze rozeznat drahokamy od skleněných imita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yziologické vlastn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uť (u rozpustných ve vodě) zápach (např. sí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kupenstv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vidla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ev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ý tekutý minerál je rtuť (vyskytuje se vzác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03280" y="301680"/>
            <a:ext cx="90709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Arial"/>
              </a:rPr>
              <a:t>-----------------------------------------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Nerostné bohatství a fyz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660066"/>
                </a:solidFill>
                <a:latin typeface="Arial"/>
              </a:rPr>
              <a:t>----------------------------------------------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yzikální vlastnosti minerál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000" y="301320"/>
            <a:ext cx="9649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Fyzikální vlastnosti minerá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ější vzhled neros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rystalografické soust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ary agregá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rdost (vrypov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ěpnost a 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drž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r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ryp (barva vr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ustnost svět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minis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ust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012000"/>
            <a:ext cx="10080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3200" spc="-1" strike="noStrike">
                <a:solidFill>
                  <a:srgbClr val="660066"/>
                </a:solidFill>
                <a:latin typeface="Arial Unicode MS"/>
              </a:rPr>
              <a:t>Znalost fyzikálních vlastností se využívá</a:t>
            </a:r>
            <a:br>
              <a:rPr sz="3200"/>
            </a:br>
            <a:r>
              <a:rPr b="1" i="1" lang="cs-CZ" sz="3200" spc="-1" strike="noStrike">
                <a:solidFill>
                  <a:srgbClr val="660066"/>
                </a:solidFill>
                <a:latin typeface="Arial Unicode MS"/>
              </a:rPr>
              <a:t>v technické praxi a při určování neros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864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Vnější vzhled neros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89744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Krystalový tv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nápadnější zn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ří pravidelná tělesa (kde mohou krystaly volně rů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eznáváme  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sedm</a:t>
            </a:r>
            <a:r>
              <a:rPr b="0" i="1" lang="cs-CZ" sz="2800" spc="-1" strike="noStrike">
                <a:solidFill>
                  <a:srgbClr val="660066"/>
                </a:solidFill>
                <a:latin typeface="Arial"/>
              </a:rPr>
              <a:t> krystalografických sousta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ší se: souměrností (rovina, osa, střed souměrnosti), délkou tří os (osní kříže)       a jimi sevřených úh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32000" y="1767960"/>
            <a:ext cx="403236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bitus krystal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celkový vzh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určen poměry velikostí ploch a převládajícím tva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destičkovitý, dlouze sloupcovitý, lístkovitý 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vojčatný rů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stický pro některé miner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807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Arial"/>
              </a:rPr>
              <a:t>Krystalografické soust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9280" y="1186920"/>
            <a:ext cx="3746520" cy="6193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říklady neros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ri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ych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leni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klo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kroklín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rojklon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fyli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tvereč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ooki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sočtvereč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metyst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lenc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aragd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estereč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u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ek:   http://commons.wikimedia.org/wiki/File:Crystalsystems_examples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rystalsystems_examples"/>
          <p:cNvPicPr/>
          <p:nvPr/>
        </p:nvPicPr>
        <p:blipFill>
          <a:blip r:embed="rId1"/>
          <a:stretch/>
        </p:blipFill>
        <p:spPr>
          <a:xfrm>
            <a:off x="216000" y="1042920"/>
            <a:ext cx="5688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10080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Tvary krystalických agregá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gregát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útvary, které vznikají, pokud si krystaly vzájemně brání v růstu; někdy lze z tvaru odvodit podmínky vzni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strovité či keříčkovité (vyrůstaly rych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níkovité či ledvinovitě hroznovité (vznikaly z koloidní výchozí lát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rúz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na stěnách puk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geod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 dut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00720" y="1763640"/>
            <a:ext cx="41702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ěkteré typické tv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bulkovitě lístko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áknitě jehlico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adiálně paprsč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lovité agreg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vinitě hrozno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bníkovité agreg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mité povla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strovité agregá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1320"/>
            <a:ext cx="5761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Tvrdost (vrypová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hsova stupn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– mast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 – sádr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 – kal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 – fluo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 – apa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6 – ži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– kř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 – top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 – kor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0 – diamant  (nejtvrdš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1280" y="6011640"/>
            <a:ext cx="445932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iedrich Mohs (1773–1839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mětní deska ve Víd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commons.wikimedia.org/wiki/File:Wien_Friedrich_Moh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776px-Wien_Friedrich_Mohs"/>
          <p:cNvPicPr/>
          <p:nvPr/>
        </p:nvPicPr>
        <p:blipFill>
          <a:blip r:embed="rId2"/>
          <a:stretch/>
        </p:blipFill>
        <p:spPr>
          <a:xfrm>
            <a:off x="5400720" y="250920"/>
            <a:ext cx="422892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10080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Štěpnost, lom, soudrž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těpn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ví se rozpadem na části s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ovný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lochami, např. při úderu kladí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ce dokonalou štěpnost má např. slída a gra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nerály bez štěpnosti se nepravidelně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lám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asturnatý (=hladk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skovit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ákovitý (=rozeklan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1280" y="1763280"/>
            <a:ext cx="445932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alší vlastnosti soudržnosti (kohez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osty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ruché (křehké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při úderu se rozlétají na drobné kou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osty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m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rozpadají se na nerozlétavý p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ujné a tvár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hebné a pruž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Mezi vlastnosti soudržnosti patří 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rypová tvrdos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100807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Vlastní barva, barva vry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57520" cy="5324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diochromatické =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barev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miner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typickou vlastní barvu (důležitý určovací zna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ochromatické = </a:t>
            </a:r>
            <a:r>
              <a:rPr b="1" lang="cs-CZ" sz="2800" spc="-1" strike="noStrike">
                <a:solidFill>
                  <a:srgbClr val="660066"/>
                </a:solidFill>
                <a:latin typeface="Arial"/>
              </a:rPr>
              <a:t>zbarve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miner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barveny příměsemi cizích prvků nebo poruchami ve své krystalické mříž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apř. bezbarvý korund je příměsemi chromu přeměněn v červený rubí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11280" y="176364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Barva vryp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= barva prášku, který vzniká třením krystalu o porcelánovou destič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šťuje se pro rozlišení barevných a zbarvených nerost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ěkteré nerosty stejné barvy mají různou barvu vryp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barvé (čiré) minerály mají vryp bíl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>Jaroslav Štercl</dc:creator>
  <dc:description/>
  <dc:language>en-US</dc:language>
  <cp:lastModifiedBy>stercl</cp:lastModifiedBy>
  <dcterms:modified xsi:type="dcterms:W3CDTF">2014-09-26T12:26:35Z</dcterms:modified>
  <cp:revision>166</cp:revision>
  <dc:subject/>
  <dc:title>Snímek 1</dc:title>
</cp:coreProperties>
</file>