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488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01760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1760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26960"/>
                <a:tab algn="l" pos="853920"/>
                <a:tab algn="l" pos="1279440"/>
                <a:tab algn="l" pos="1706400"/>
                <a:tab algn="l" pos="2133720"/>
                <a:tab algn="l" pos="2560680"/>
                <a:tab algn="l" pos="298620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26960"/>
                <a:tab algn="l" pos="853920"/>
                <a:tab algn="l" pos="1279440"/>
                <a:tab algn="l" pos="1706400"/>
                <a:tab algn="l" pos="2133720"/>
                <a:tab algn="l" pos="2560680"/>
                <a:tab algn="l" pos="298620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CF6DB441-8539-436F-B267-A12F7EFDC1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6960"/>
                <a:tab algn="l" pos="853920"/>
                <a:tab algn="l" pos="1279440"/>
                <a:tab algn="l" pos="1706400"/>
                <a:tab algn="l" pos="2133720"/>
                <a:tab algn="l" pos="2560680"/>
                <a:tab algn="l" pos="298620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0B702F89-7CE3-4773-99EF-756D56D03C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6960"/>
                <a:tab algn="l" pos="853920"/>
                <a:tab algn="l" pos="1279440"/>
                <a:tab algn="l" pos="1706400"/>
                <a:tab algn="l" pos="2133720"/>
                <a:tab algn="l" pos="2560680"/>
                <a:tab algn="l" pos="298620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05C5B53A-F67D-4CDB-8B03-A52B29F200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6960"/>
                <a:tab algn="l" pos="853920"/>
                <a:tab algn="l" pos="1279440"/>
                <a:tab algn="l" pos="1706400"/>
                <a:tab algn="l" pos="2133720"/>
                <a:tab algn="l" pos="2560680"/>
                <a:tab algn="l" pos="298620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1F03376C-236D-4380-888A-3CCA627F98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6960"/>
                <a:tab algn="l" pos="853920"/>
                <a:tab algn="l" pos="1279440"/>
                <a:tab algn="l" pos="1706400"/>
                <a:tab algn="l" pos="2133720"/>
                <a:tab algn="l" pos="2560680"/>
                <a:tab algn="l" pos="298620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EF4C2961-7623-40D6-92A5-733AE00733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6960"/>
                <a:tab algn="l" pos="853920"/>
                <a:tab algn="l" pos="1279440"/>
                <a:tab algn="l" pos="1706400"/>
                <a:tab algn="l" pos="2133720"/>
                <a:tab algn="l" pos="2560680"/>
                <a:tab algn="l" pos="298620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063DB9CD-4847-408E-A3EA-382716A5D1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6960"/>
                <a:tab algn="l" pos="853920"/>
                <a:tab algn="l" pos="1279440"/>
                <a:tab algn="l" pos="1706400"/>
                <a:tab algn="l" pos="2133720"/>
                <a:tab algn="l" pos="2560680"/>
                <a:tab algn="l" pos="298620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DDCA8D74-F931-4E8C-A2B6-7DF3E8B04C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6960"/>
                <a:tab algn="l" pos="853920"/>
                <a:tab algn="l" pos="1279440"/>
                <a:tab algn="l" pos="1706400"/>
                <a:tab algn="l" pos="2133720"/>
                <a:tab algn="l" pos="2560680"/>
                <a:tab algn="l" pos="298620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8A3FE973-EAE4-4B8B-AF43-A0E164B0EA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6960"/>
                <a:tab algn="l" pos="853920"/>
                <a:tab algn="l" pos="1279440"/>
                <a:tab algn="l" pos="1706400"/>
                <a:tab algn="l" pos="2133720"/>
                <a:tab algn="l" pos="2560680"/>
                <a:tab algn="l" pos="298620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97339DC0-4589-4799-A62F-D8BA57B218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6960"/>
                <a:tab algn="l" pos="853920"/>
                <a:tab algn="l" pos="1279440"/>
                <a:tab algn="l" pos="1706400"/>
                <a:tab algn="l" pos="2133720"/>
                <a:tab algn="l" pos="2560680"/>
                <a:tab algn="l" pos="298620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E097CF28-CF55-4821-BF31-8E3457336B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5704-9407-47DE-9216-31FB314F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F96-2483-47EC-9FB6-F018AB41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F19-14E9-4C9E-AE4C-435F6A98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864C-F56B-44DC-BB38-0383FED5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AEF8-5D26-4410-8C76-9296771E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3734-8D8E-48FA-BEF3-C524E601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3B21-3A7A-43A6-B89E-480AF0F9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D8FE-A753-4C6F-A4E4-896D37CE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D224-2685-4A62-844E-AD43FD81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BE86-E79B-46AD-B4C5-97139A94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0E0C-9FDD-4FD7-B2AE-FDF5750D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07D-55B7-4542-9899-AE201449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F27A-F410-433F-9C51-AB398392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7961-F5FC-4CF2-950F-84480C41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5E09-A4AD-4719-B7FE-EAACF876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99C5-B81E-4B8B-80E4-C7ACAE67B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D39B-CE28-4B21-9EE0-A7F52DCB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DC4-7E37-434E-9F0C-FBD58AA7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4D5-389B-4ACA-A26A-A5DFFB16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94D-3220-4322-B371-3DDCC807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BC8-AC9B-4F76-9A41-158AD6BE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1642-4024-4580-A900-2590DEF5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FE6-DB5F-4BD7-BC13-CA6FDA78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4B3F-B5AC-4453-9A99-DEC3EC60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0B6A9-00D1-48B0-BDD3-E77CFACF1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88B4B-DFFD-47A2-BDB0-B5D9ABDE28AD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Marie_Curie_%28Nobel-Chem%29.jpg" TargetMode="External"/><Relationship Id="rId2" Type="http://schemas.openxmlformats.org/officeDocument/2006/relationships/hyperlink" Target="http://commons.wikimedia.org/wiki/File:Sklodowski_Family_Wladyslaw_and_his_daughters_Maria_Bronislawa_Helena.jpg" TargetMode="External"/><Relationship Id="rId3" Type="http://schemas.openxmlformats.org/officeDocument/2006/relationships/hyperlink" Target="http://commons.wikimedia.org/wiki/File:Marie_Pierre_Irene_Curie.jpg" TargetMode="External"/><Relationship Id="rId4" Type="http://schemas.openxmlformats.org/officeDocument/2006/relationships/hyperlink" Target="http://www.palfi.cz/fotoalbum/ruzni-autori/rndr.-jan-hlousek-http---www.jachymov-joachimsthal.cz/podzemi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68720" y="3254040"/>
            <a:ext cx="53229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Praha &amp; EU: Investujeme do vaší budoucnosti</a:t>
            </a:r>
            <a:br>
              <a:rPr sz="1100"/>
            </a:b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Evropský sociální fo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672000" y="2303640"/>
            <a:ext cx="26575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60000" y="3634920"/>
            <a:ext cx="504036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Vlastnosti radia zkoumali Marie a Pierre několik let. Popálili si přitom ru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Lidem se líbilo tajemné světélkování a lékaři započali s pokusy léčit pomocí radia rakovi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800px-Pierre_and_Marie_Curie"/>
          <p:cNvPicPr/>
          <p:nvPr/>
        </p:nvPicPr>
        <p:blipFill>
          <a:blip r:embed="rId1"/>
          <a:stretch/>
        </p:blipFill>
        <p:spPr>
          <a:xfrm>
            <a:off x="5545080" y="3564000"/>
            <a:ext cx="4313160" cy="3600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360360" y="611280"/>
            <a:ext cx="943308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Pierre získal místo na Sorbonně, Marie roku 1903 jako první žena v historii </a:t>
            </a:r>
            <a:r>
              <a:rPr b="1" lang="cs-CZ" sz="3200" spc="-1" strike="noStrike">
                <a:solidFill>
                  <a:srgbClr val="660066"/>
                </a:solidFill>
                <a:latin typeface="Arial"/>
              </a:rPr>
              <a:t>titul doktora fyziky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V prosinci 1903 získali Henri Becquerel (za objev) a Marie s Pierrem Curie (za výzkum záření) </a:t>
            </a:r>
            <a:r>
              <a:rPr b="1" lang="cs-CZ" sz="3200" spc="-1" strike="noStrike">
                <a:solidFill>
                  <a:srgbClr val="660066"/>
                </a:solidFill>
                <a:latin typeface="Arial"/>
              </a:rPr>
              <a:t>Nobelovu cenu za fyziku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 (Maria jako první že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904000" y="6875280"/>
            <a:ext cx="3959280" cy="43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 Matin, 20. dubna 19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87280" y="258840"/>
            <a:ext cx="5400720" cy="69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Pierre Curie 19. dubna 1906 zahynul při dopravní nehodě pod koly drožky v Paříž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Marii nabídli práci po něm, včetně přednášení fyziky. Stala se první ženou, která na Sorbonně přednáš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V prosinci 1911 obdržela </a:t>
            </a:r>
            <a:r>
              <a:rPr b="1" lang="cs-CZ" sz="3200" spc="-1" strike="noStrike">
                <a:solidFill>
                  <a:srgbClr val="660066"/>
                </a:solidFill>
                <a:latin typeface="Arial"/>
              </a:rPr>
              <a:t>Nobelovu cenu za chemii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 (za objev radia a poloni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Cena jí umožnila roku 1914 založit </a:t>
            </a:r>
            <a:r>
              <a:rPr b="1" i="1" lang="cs-CZ" sz="3200" spc="-1" strike="noStrike">
                <a:solidFill>
                  <a:srgbClr val="660066"/>
                </a:solidFill>
                <a:latin typeface="Arial"/>
              </a:rPr>
              <a:t>Ústav pro radium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, pro výzkumy z oblasti chemie, fyziky a lékařstv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pierreCurie_mort_LeMatin_19060420"/>
          <p:cNvPicPr/>
          <p:nvPr/>
        </p:nvPicPr>
        <p:blipFill>
          <a:blip r:embed="rId1"/>
          <a:stretch/>
        </p:blipFill>
        <p:spPr>
          <a:xfrm>
            <a:off x="5904000" y="179280"/>
            <a:ext cx="41767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60000" y="2700360"/>
            <a:ext cx="9433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Arial"/>
              </a:rPr>
              <a:t>Po válce Maria Curie vedla </a:t>
            </a:r>
            <a:r>
              <a:rPr b="0" i="1" lang="cs-CZ" sz="2800" spc="-1" strike="noStrike">
                <a:solidFill>
                  <a:srgbClr val="000080"/>
                </a:solidFill>
                <a:latin typeface="Arial"/>
              </a:rPr>
              <a:t>Ústav pro radium</a:t>
            </a:r>
            <a:r>
              <a:rPr b="0" lang="cs-CZ" sz="2800" spc="-1" strike="noStrike">
                <a:solidFill>
                  <a:srgbClr val="000080"/>
                </a:solidFill>
                <a:latin typeface="Arial"/>
              </a:rPr>
              <a:t> v Paříži, kde jí asistovala dcera Irène; obdobný institut ve Varšavě vedla její sestra Bronisław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Arial"/>
              </a:rPr>
              <a:t>Irène a její manžel Frédéric Joliot-Curie roku 1935 obdrželi Nobelovu ceny za chemii za objev umělé radioaktivity – za syntézu nových prvků (přeměnili hliník na fosfo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Arial"/>
              </a:rPr>
              <a:t>Maria Curie-Skłodowska zemřela 4. července 1934 na aplastickou anémii, Irène zemřela roku 1956 na leukém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Arial"/>
              </a:rPr>
              <a:t>O účincích radioaktivity na živé buňky se zprvu nevěděl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87280" y="324000"/>
            <a:ext cx="5545080" cy="22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000" spc="-1" strike="noStrike">
                <a:solidFill>
                  <a:srgbClr val="000080"/>
                </a:solidFill>
                <a:latin typeface="Arial"/>
              </a:rPr>
              <a:t>Marie během 1. světové války zařídila 18 aut s rentgenovými přístroji, která občas i řídila a školila obsluhu. Tyto polní RTG stanice vyšetřily 3 mil. voják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Marie_Curie_-_Mobile_X-Ray-Unit"/>
          <p:cNvPicPr/>
          <p:nvPr/>
        </p:nvPicPr>
        <p:blipFill>
          <a:blip r:embed="rId1"/>
          <a:stretch/>
        </p:blipFill>
        <p:spPr>
          <a:xfrm>
            <a:off x="6048360" y="179280"/>
            <a:ext cx="3652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468360" y="360360"/>
            <a:ext cx="9070920" cy="68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oje obrázk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e Currie 191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commons.wikimedia.org/wiki/File:Marie_Curie_%28Nobel-Chem%29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łodows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commons.wikimedia.org/wiki/File:Sklodowski_Family_Wladyslaw_and_his_daughters_Maria_Bronislawa_Helena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ie, Pierre a Irène: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commons.wikimedia.org/wiki/File:Marie_Pierre_Irene_Curi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molné blejno / uraninit / smoline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palfi.cz/fotoalbum/ruzni-autori/rndr.-jan-hlousek-http---www.jachymov-joachimsthal.cz/podzem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commons.wikimedia.org/wiki/File:Pichblend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jachymov-joachimsthal.cz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chymov 1907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ommons.wikimedia.org/wiki/File:J%C3%A1chymov_1907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laboratoř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ommons.wikimedia.org/wiki/File:Pierre_and_Marie_Curi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 Matin, 19.04.190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gallica.bnf.fr/ark:/12148/bpt6k567943p/f1.zoom.lang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ní rent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commons.wikimedia.org/wiki/File:Marie_Curie_-_Mobile_X-Ray-Uni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jjš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03280" y="301680"/>
            <a:ext cx="907092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Arial"/>
              </a:rPr>
              <a:t>----------------------------------------------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Arial"/>
              </a:rPr>
              <a:t>Nerostné bohatství a fyz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Arial"/>
              </a:rPr>
              <a:t>----------------------------------------------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ia Curie-Skłodowsk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Historie objevu radioak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áchymovský smolinec – urani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ové prvky: polonium a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d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líč k nové vědě: nukleární fyz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958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Maria Salomea Skłodowska-Cu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0000" y="1440000"/>
            <a:ext cx="611964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narozena 7. listopadu 1867 ve Varšavě (dnešní Polsk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895  manžel: Pierre Cu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903  Nobelova cena za fyziku za výzkumy radioaktivity, spolu s Pierrem a Henri Becquere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911  Nobelova cena za chemii za izolaci čistého ra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zemřela 4. července 1934 v Sancellemoz (Franc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659640" y="1440000"/>
            <a:ext cx="3240000" cy="4564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6480000" y="6119640"/>
            <a:ext cx="33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a Cu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roce 19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6480000" y="179280"/>
            <a:ext cx="3372120" cy="4140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9640" y="5759280"/>
            <a:ext cx="8640720" cy="14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Roku 1891 byla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jako první žena přijata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na fakultu fyziky a chemie pařížské Sorbon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480000" y="4500720"/>
            <a:ext cx="338472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94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ładysław Skłodowski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 jeho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ery: Maria, Bronisława a Hele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60360" y="179280"/>
            <a:ext cx="604836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Rodiče Marie Skłodowské byli učitelé, měli pět dětí. – Polsko tehdy neexistovalo, Varšavu ovládali Rusové a ve škole se kromě oficiálních věcí v ruštině tajně učili polskou historii... –Maria už ve 4 letech uměla číst, ve škole byla premiantkou a svými znalostmi překvapovala inspekci. – Když jí v 10 letech zemřela matka, změnila školu, pak studovala tajnou polskou domácí „univerzitu“, pracovala jako vychovatelka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360" y="3959280"/>
            <a:ext cx="468000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V roce 1897 začala Marie (tehdy již Curie) zkoumat různé „zářící“ materiály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.</a:t>
            </a:r>
            <a:br>
              <a:rPr sz="3200"/>
            </a:b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Mezitím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12. září porodila dceru Irène a v únoru 1898 přišel objev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219640" y="3780000"/>
            <a:ext cx="4606920" cy="34718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360360" y="179280"/>
            <a:ext cx="95392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Na Sorbonně se r. 1894 seznámila s Pierrem Curie, který se zajímal o symetrii krystalů a magnetismus. (Jeho objev, že stlačením některých krystalů vznik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á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elektřina, se dnes využívá v digitálních hodinkách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R. 1895 objevil Wilhelm Conrad Röntgen paprsky (rentgenové), které procházejí většinou materiálů, a Henri Becquerel r. 1896 zjistil, že podobné paprsky vyzařuje těžký kov u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4968720" y="6297480"/>
            <a:ext cx="48247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oline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čil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smolné blejno“ 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áchymov, žíla Prokop, Svorn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87280" y="395280"/>
            <a:ext cx="9433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V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 únoru 1898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koum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ala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molin</a:t>
            </a:r>
            <a:r>
              <a:rPr b="1" lang="cs-CZ" sz="3200" spc="-1" strike="noStrike">
                <a:solidFill>
                  <a:srgbClr val="660066"/>
                </a:solidFill>
                <a:latin typeface="Arial"/>
              </a:rPr>
              <a:t>ec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 – rudu uranu – a objevila,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že je čtyřikrát zářivější než čistý ura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Smolinec tedy musel kromě uranu obsahovat     také jiný aktivní materiál, jehož aktivita zůstávala stejná bez ohledu na chemický stav smoli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31640" y="4067280"/>
            <a:ext cx="4608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smolinec--zila-prokop--svornost"/>
          <p:cNvPicPr/>
          <p:nvPr/>
        </p:nvPicPr>
        <p:blipFill>
          <a:blip r:embed="rId1"/>
          <a:stretch/>
        </p:blipFill>
        <p:spPr>
          <a:xfrm>
            <a:off x="4753080" y="3059280"/>
            <a:ext cx="5111640" cy="34272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9"/>
          <p:cNvSpPr/>
          <p:nvPr/>
        </p:nvSpPr>
        <p:spPr>
          <a:xfrm>
            <a:off x="216000" y="3203640"/>
            <a:ext cx="4535280" cy="40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Zdrojem tohoto záření tedy nebyla chemická reakce, ale něco, co pochází z atomů samotnýc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32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i="1" lang="cs-CZ" sz="3200" spc="-1" strike="noStrike">
                <a:solidFill>
                  <a:srgbClr val="000080"/>
                </a:solidFill>
                <a:latin typeface="Arial"/>
              </a:rPr>
              <a:t>Zkoumaný smolinec pocházel z Jáchymova v Krušných horá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rcRect l="0" t="0" r="0" b="20322"/>
          <a:stretch/>
        </p:blipFill>
        <p:spPr>
          <a:xfrm>
            <a:off x="5327640" y="3564000"/>
            <a:ext cx="4427640" cy="30747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5832360" y="6297480"/>
            <a:ext cx="37800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áchymovský smolinec (uranin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87280" y="395280"/>
            <a:ext cx="943308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Marie Curie rozkládala </a:t>
            </a:r>
            <a:r>
              <a:rPr b="0" i="1" lang="cs-CZ" sz="3200" spc="-1" strike="noStrike">
                <a:solidFill>
                  <a:srgbClr val="000080"/>
                </a:solidFill>
                <a:latin typeface="Arial"/>
              </a:rPr>
              <a:t>smolinec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 chemickou cestou, což vedlo k objevu nového prvku, který nazvala podle rodného Polska – </a:t>
            </a:r>
            <a:r>
              <a:rPr b="1" lang="cs-CZ" sz="3200" spc="-1" strike="noStrike">
                <a:solidFill>
                  <a:srgbClr val="660066"/>
                </a:solidFill>
                <a:latin typeface="Arial"/>
              </a:rPr>
              <a:t>polonium (</a:t>
            </a:r>
            <a:r>
              <a:rPr b="1" lang="cs-CZ" sz="3200" spc="-1" strike="noStrike" baseline="-25000">
                <a:solidFill>
                  <a:srgbClr val="660066"/>
                </a:solidFill>
                <a:latin typeface="Arial"/>
              </a:rPr>
              <a:t>84</a:t>
            </a:r>
            <a:r>
              <a:rPr b="1" lang="cs-CZ" sz="3200" spc="-1" strike="noStrike">
                <a:solidFill>
                  <a:srgbClr val="660066"/>
                </a:solidFill>
                <a:latin typeface="Arial"/>
              </a:rPr>
              <a:t>Po)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Když svůj objev oznamovala, použila prvně slovo </a:t>
            </a:r>
            <a:r>
              <a:rPr b="0" lang="en-US" sz="4000" spc="-1" strike="noStrike">
                <a:solidFill>
                  <a:srgbClr val="000080"/>
                </a:solidFill>
                <a:latin typeface="Arial"/>
              </a:rPr>
              <a:t>„</a:t>
            </a:r>
            <a:r>
              <a:rPr b="0" i="1" lang="cs-CZ" sz="4000" spc="-1" strike="noStrike">
                <a:solidFill>
                  <a:srgbClr val="660066"/>
                </a:solidFill>
                <a:latin typeface="Arial"/>
              </a:rPr>
              <a:t>radioaktivita</a:t>
            </a:r>
            <a:r>
              <a:rPr b="0" lang="en-US" sz="4000" spc="-1" strike="noStrike">
                <a:solidFill>
                  <a:srgbClr val="000080"/>
                </a:solidFill>
                <a:latin typeface="Arial"/>
              </a:rPr>
              <a:t>“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Později ve stejném roce 1898 s Pierrem objevili druhý prvek – </a:t>
            </a:r>
            <a:r>
              <a:rPr b="1" lang="cs-CZ" sz="3200" spc="-1" strike="noStrike">
                <a:solidFill>
                  <a:srgbClr val="660066"/>
                </a:solidFill>
                <a:latin typeface="Arial"/>
              </a:rPr>
              <a:t>radium (</a:t>
            </a:r>
            <a:r>
              <a:rPr b="1" lang="cs-CZ" sz="3200" spc="-1" strike="noStrike" baseline="-25000">
                <a:solidFill>
                  <a:srgbClr val="660066"/>
                </a:solidFill>
                <a:latin typeface="Arial"/>
              </a:rPr>
              <a:t>88</a:t>
            </a:r>
            <a:r>
              <a:rPr b="1" lang="cs-CZ" sz="3200" spc="-1" strike="noStrike">
                <a:solidFill>
                  <a:srgbClr val="660066"/>
                </a:solidFill>
                <a:latin typeface="Arial"/>
              </a:rPr>
              <a:t>Ra)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31640" y="4067280"/>
            <a:ext cx="4608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60360" y="4211640"/>
            <a:ext cx="482436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Tyto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objev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položily základ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nov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é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věd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    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nukleární fyzik</a:t>
            </a:r>
            <a:r>
              <a:rPr b="1" lang="cs-CZ" sz="3200" spc="-1" strike="noStrike">
                <a:solidFill>
                  <a:srgbClr val="660066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–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a vedly k porozumění vnitřní stavbě atom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216000" y="324000"/>
            <a:ext cx="583236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000080"/>
                </a:solidFill>
                <a:latin typeface="Arial"/>
              </a:rPr>
              <a:t>Jáchymovský </a:t>
            </a:r>
            <a:r>
              <a:rPr b="1" lang="cs-CZ" sz="4000" spc="-1" strike="noStrike">
                <a:solidFill>
                  <a:srgbClr val="660066"/>
                </a:solidFill>
                <a:latin typeface="Arial"/>
              </a:rPr>
              <a:t>smolin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dříve nazýván též smolenec, smolec či smolné blejno (německy: Pechblen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ruda uranu → název nastu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jachymov-joachimsthal_cz_3"/>
          <p:cNvPicPr/>
          <p:nvPr/>
        </p:nvPicPr>
        <p:blipFill>
          <a:blip r:embed="rId1"/>
          <a:stretch/>
        </p:blipFill>
        <p:spPr>
          <a:xfrm>
            <a:off x="6119640" y="250920"/>
            <a:ext cx="3673800" cy="2881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287280" y="3419640"/>
            <a:ext cx="95392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jako minerál se nazývá </a:t>
            </a:r>
            <a:r>
              <a:rPr b="1" lang="cs-CZ" sz="3200" spc="-1" strike="noStrike">
                <a:solidFill>
                  <a:srgbClr val="660066"/>
                </a:solidFill>
                <a:latin typeface="Arial"/>
              </a:rPr>
              <a:t>uranin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 či </a:t>
            </a:r>
            <a:r>
              <a:rPr b="1" lang="cs-CZ" sz="3200" spc="-1" strike="noStrike">
                <a:solidFill>
                  <a:srgbClr val="660066"/>
                </a:solidFill>
                <a:latin typeface="Arial"/>
              </a:rPr>
              <a:t>urani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černý a smolně lesklý neprůhledný nerost ledvinitého tvaru a lasturnatého l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silně radioaktivní, krystalová mřížka se rozpa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U</a:t>
            </a:r>
            <a:r>
              <a:rPr b="0" lang="cs-CZ" sz="3200" spc="-1" strike="noStrike" baseline="-25000">
                <a:solidFill>
                  <a:srgbClr val="000080"/>
                </a:solidFill>
                <a:latin typeface="Arial"/>
              </a:rPr>
              <a:t>3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O</a:t>
            </a:r>
            <a:r>
              <a:rPr b="0" lang="cs-CZ" sz="3200" spc="-1" strike="noStrike" baseline="-25000">
                <a:solidFill>
                  <a:srgbClr val="000080"/>
                </a:solidFill>
                <a:latin typeface="Arial"/>
              </a:rPr>
              <a:t>8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 – směs oxidu uraničitého (UO</a:t>
            </a:r>
            <a:r>
              <a:rPr b="0" lang="cs-CZ" sz="3200" spc="-1" strike="noStrike" baseline="-25000">
                <a:solidFill>
                  <a:srgbClr val="00008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) a uranové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jeho zvětráváním vznikají další barevné miner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uraninit_krystal"/>
          <p:cNvPicPr/>
          <p:nvPr/>
        </p:nvPicPr>
        <p:blipFill>
          <a:blip r:embed="rId2"/>
          <a:stretch/>
        </p:blipFill>
        <p:spPr>
          <a:xfrm>
            <a:off x="8424720" y="3419640"/>
            <a:ext cx="136872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4824360" y="6084720"/>
            <a:ext cx="489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áchymo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Joachimsth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pohlednici z roku 19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16000" y="179280"/>
            <a:ext cx="9577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V </a:t>
            </a:r>
            <a:r>
              <a:rPr b="1" lang="cs-CZ" sz="3200" spc="-1" strike="noStrike">
                <a:solidFill>
                  <a:srgbClr val="660066"/>
                </a:solidFill>
                <a:latin typeface="Arial"/>
              </a:rPr>
              <a:t>Jáchymově</a:t>
            </a: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 se již od 16. století těžilo stříb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Smolinec – blejno smolné – byl dlouho pro hutníky a horníky bezcenný a pro zlost, černá „smolná ruda“. Kde se vyskytl, obvykle se vytratila stříbrná ruda. Odhazoval se proto jako nepotřebný na hal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800px-Jáchymov_1907"/>
          <p:cNvPicPr/>
          <p:nvPr/>
        </p:nvPicPr>
        <p:blipFill>
          <a:blip r:embed="rId1"/>
          <a:stretch/>
        </p:blipFill>
        <p:spPr>
          <a:xfrm>
            <a:off x="4824360" y="2987640"/>
            <a:ext cx="4896000" cy="33130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87280" y="2771640"/>
            <a:ext cx="43210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Po objevu radioaktivity a prvku radia se stal smolinec světově proslulý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Arial"/>
              </a:rPr>
              <a:t>Marie a Pierre Curieovi během necelých 4 roků z asi 10 tun smolince izolovali 0,1 g čisté soli radia </a:t>
            </a:r>
            <a:r>
              <a:rPr b="0" lang="cs-CZ" sz="2800" spc="-1" strike="noStrike">
                <a:solidFill>
                  <a:srgbClr val="000080"/>
                </a:solidFill>
                <a:latin typeface="Arial"/>
              </a:rPr>
              <a:t>(chloridu radnatéh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32:32Z</dcterms:created>
  <dc:creator>Jaroslav Štercl</dc:creator>
  <dc:description/>
  <dc:language>en-US</dc:language>
  <cp:lastModifiedBy>stercl</cp:lastModifiedBy>
  <dcterms:modified xsi:type="dcterms:W3CDTF">2014-09-26T12:29:07Z</dcterms:modified>
  <cp:revision>80</cp:revision>
  <dc:subject/>
  <dc:title>Snímek 1</dc:title>
</cp:coreProperties>
</file>