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18AB4-11E8-4DB5-B1E2-77B2DBB8B4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F460F-A89D-4D43-B0BE-B65C4D527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8D4414-A32F-4523-A709-1A31E8CE4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FB04F1-61CE-48DA-9306-1A0CAD179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AC4A6C-E1F0-4D27-9734-AF3862066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0DA106-C6C2-41F4-9F37-8B4CF981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40ECB7-8037-412F-8666-6ECD4F6E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09131B-55DA-4015-A857-505B8BE4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563B2F-A316-4E07-AAA4-5B259A28B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CA0B53-EFBC-472A-BECF-FE4DB77CD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17457D2-744C-40B0-B237-86EC3F3EB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4433DD0-2283-4A42-AE3D-5A27C61D7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24F99-1D76-421A-B49F-BC155846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19D1817-9500-4040-9AF7-443388AFD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70FB7A6-68FC-4F89-94A2-60C4DE9D8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DD47486-AB86-4613-9FDD-9A3559741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5A0AE0F-F0FB-4AE5-9231-963326E61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7584D6E-3B42-44B2-BAE6-4FDBAFBCE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6611B60-31E0-468A-BB4F-D70D4603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B1ED804-358E-4129-8A44-3BC686AB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5A57BBA-0A61-45CB-BEDC-E614F907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0B90AF7-2917-4280-8050-ED281804F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0D794B6-7EA4-4C6B-8D2B-076E91931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D77A0-DD77-4FE6-BC59-0B67F23E3E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2F37B05-99E0-4016-AD6E-4856FBD6D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0EFCF0D-0DCE-48F8-A235-6349B1214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750E2C4-FC63-4904-BD0F-DCA77566D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FC039F1-EA1D-4078-B9DA-480FFFFCF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ADF8461-D56E-480A-B751-7455ACC37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1D6EE21-DDBA-446B-B1F7-2F30AF084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85D0A9C-1DB3-4306-AEB2-A4A6FE435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529680D-38D7-4204-B66E-D080EDA4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30B4190-2E89-43AA-80FE-A9E328EE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37AAC6A-1C0B-436A-A0AE-8277C1A8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BC019B-7B74-4F5C-A5F9-A0C1940E4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319625E-2E13-428C-9EF2-4814A02C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ED6DBED-23AE-4244-BC1A-314EAB3CF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57C4285-B614-495A-A680-0368C9FCA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E30B08F-1110-4E23-94E1-37A5BA9A0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D071A6F-2BB1-4A80-9EE8-5AFE62B6A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AC58EFD-5A9B-42F3-B13D-296A67AF7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99100C3-E016-4CA3-9CF9-F6096A62D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0FA87E8-B53B-40A2-9865-50F5DF0EB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F4253DB-77E6-4EF5-93E7-2462347DE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257659A-A825-4075-9844-CA6F70BC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DAA3A8-46CF-4F01-BAFD-3398D4275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D28996E-1B05-43C3-B419-97801B06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DB6606A-0E51-49F7-B360-68EE9F0E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BD82198-B774-42D4-907C-12BF0DBAE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17E259B-E880-42F0-80B4-9F2E15489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5960A16-C1D2-4DB1-A797-92F39B500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4086A56-3364-488E-B574-EA8C85720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F750AF1-5BCC-457F-9D96-3534444C7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1AC6CF8-6EAF-461F-B4D9-1C3676192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E61752A-A504-4F4F-B429-E9F7F8FB7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323E666-2E87-4448-ABFE-77B3DC46B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268773-2F93-417D-AD8C-8E6B7C03D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BCE5298-C59A-4078-923B-59BF98841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AD7E627-6F38-4D33-ADC1-080B8869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16A6990-19A7-4736-ADC2-023CC5A8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29DCDB1-B379-4C54-827E-6F7DFA27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6836878-0F69-4CE8-BE54-C261AD8AE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2A185E2-025F-4C48-A06F-B11297BE0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E75523D-6BFF-426A-92FE-5E5244D8C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0A9A85-0F0F-4FC4-8306-84865B6B2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756583-A73A-45CC-824B-043DF23C1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EAC58A-4511-4056-BC5B-E66EDB74D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5BA022-6046-4E0B-8A0B-F22A5988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89FF0-ECCA-4D5C-959F-DC447B85A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875AC2-E73B-46FD-8D2C-44C1E01B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79FE0B-8118-487B-AE7A-45793601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29E9C2-65BC-4A52-9B1F-2623BC7B4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64CF08-B846-42EF-9F05-6654D160E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B1C154-E575-4F78-9A41-757AA3BE8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4377AE-56EF-4EC2-8D42-D5AF1A054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A3F0B4-1FCA-4795-8C35-514CEE4C2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0F9940-7854-46D7-BCE7-303D4769D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9641D2-35AB-471D-861B-8E608AA8F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D2B558-5BE2-4921-9691-BFEDBD068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07E80-8F0D-40C5-9B18-8786540A7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C873A6-EE42-4052-89A5-235E4539E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19FA32-BD45-4DC6-A9A0-B1D2B569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B88677-C07C-477B-85B0-AE8F5797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E67844-85B4-4DBE-B5F6-2E89FDB9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8E9EE0-BB64-4008-BBE1-170B4A64F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8E0126-230F-4FB6-9776-E01353AA3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91AB3C-255B-4CB2-AE72-ACC1692CC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D94C32-B6A7-425B-95C8-C90C1A5D3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465D40-69A0-4799-AE4E-C1426CB63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D9F6C9-7D76-4AF3-89FE-0D57CFAB2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468E3-9922-44E2-9DCA-FBBD288BD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E12F08-A75B-4046-9F53-BACD50AA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74DA72-CB4B-4902-8472-E4F37A9DA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1C0C84-3348-4414-9520-4CDB16A23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5370BF-F830-4702-AB1F-8C1C979A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26CBCD-196B-4737-930C-219E7F90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686274-4107-48BF-8026-27A02991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522099-37BA-46EE-A5DB-A4D877942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976899-90A3-4988-A4CA-0085D3E95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611B45-A5E8-4729-8B48-1320103A0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EB6CD3-89F9-4AEB-9D36-C8028B57B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8F768-D8AD-417F-9B63-429F8F0F3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BD3EF7-B390-4C58-A144-D62ABDFC5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82C09A-B019-4042-9D1B-49634CD66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43FBFA-1F38-4570-9666-7850FAF6D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815CF6-A5B6-4595-BD7F-1FB44BCB6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0ED13C-5E7E-45B2-B52E-4ED534028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115497-244C-416B-94DC-45980EC5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60F81C-78AC-4BD4-8705-9470FFC7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BF78CF-69B2-4ED4-B0B1-C39E11A9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C368D6-CBFD-4873-B425-7CECDA94D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B043B6-64E7-4E63-935E-15016AB93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5FF30-2C01-47ED-B25A-186324A4E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A55093-8173-47B1-ADB3-AFC7E2880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B13B66-9A22-42AB-B7EE-C37142A64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01DC5A-5348-4649-AFA1-B145B517E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BECC47-9E4B-476A-96B6-A9CFC0FB2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8F982A-BB9F-4774-ACD3-A1DC61142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D79097-B836-46C2-94F5-F32997FC1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306C87-F584-4418-A439-F0D1850EC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24570A-D557-4DFD-B517-A52C6069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3E32A9-1A55-4CC5-8B0C-6F0AFC8A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C117B1-B452-4224-A53B-56C2D0FA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8D9AD-739B-485F-B41B-FBA16E4D3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96B17E-5551-4A6A-B155-226D6D96C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74FCBD-EEC3-4330-A065-BFD240271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D9D15C-85C2-4867-B68A-F39FEC739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E9144D-380B-44E0-920F-1F7ED68E4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E2C98B-92A3-4E50-BD20-1AB733F93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62B4E8-AACC-4616-BDFB-904E9D245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108AB7-3C11-4F90-A786-B4A9DBD93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57D3CC-59D2-4050-A00E-7AAAE1F5B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321708-7D44-4404-AD52-CAFD4B88B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A44031-FDF1-495E-BCB5-52BD67B8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987B1-83F4-4E45-9F1C-6DAD3B3D6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63348D-59AA-471D-B712-DA6CEF2B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D84993-17B3-48C2-BC9C-44DE6FED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DC24EF-29D0-4973-B38B-0093715DA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AEECC4-47B9-4045-B4E5-8EB180108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024CE9-B26A-422F-B0CA-49236E867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94F393-6BCD-45A1-9260-D7FC604F8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EF1DAA-ABF4-4030-A63B-197B3A38E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284B13-9064-4B09-97F0-50334D543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3197C9-F234-4F54-8106-ABF2835FE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2A1EA5-B457-4DD9-B968-FAA393D2D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8032D-8C4B-4DEC-8837-7BFA709DB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AA3BEB-FAFB-4BDF-9160-4E10FE0A5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038DE8-A15A-49E8-BB73-E717782A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2982A3-6FDF-40A3-BE3F-F6899C34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5F1EBB-BC2E-4A81-8BFA-059AEA64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A37291-ED34-4CB5-A715-06DFE936E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5D76EC-E1AD-4C63-B82D-0E9D5636B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66BAB7-D07C-4136-BA61-398A52D26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9B3F2F-92E7-4FB2-82D1-AD9933124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E56201D-0434-4FE4-B34C-C3B2794A7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9AFA23-4118-479B-8F60-CB7037CAE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296360"/>
                <a:tab algn="l" pos="107442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296360"/>
                <a:tab algn="l" pos="10744200"/>
              </a:tabLst>
            </a:pPr>
            <a:fld id="{41555325-F0AB-4490-BA74-48DF930AF066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7"/>
          </p:nvPr>
        </p:nvSpPr>
        <p:spPr>
          <a:xfrm>
            <a:off x="456840" y="6246720"/>
            <a:ext cx="212580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8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9"/>
          </p:nvPr>
        </p:nvSpPr>
        <p:spPr>
          <a:xfrm>
            <a:off x="655596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6EB7FF88-DFF0-415B-B64F-6F289515E1C3}" type="slidenum">
              <a: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0"/>
          </p:nvPr>
        </p:nvSpPr>
        <p:spPr>
          <a:xfrm>
            <a:off x="456840" y="6246720"/>
            <a:ext cx="212580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1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2"/>
          </p:nvPr>
        </p:nvSpPr>
        <p:spPr>
          <a:xfrm>
            <a:off x="655596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25BCF446-C44E-48BE-8F7D-C658576C10D8}" type="slidenum">
              <a: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3"/>
          </p:nvPr>
        </p:nvSpPr>
        <p:spPr>
          <a:xfrm>
            <a:off x="456840" y="6246720"/>
            <a:ext cx="212580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4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5"/>
          </p:nvPr>
        </p:nvSpPr>
        <p:spPr>
          <a:xfrm>
            <a:off x="655596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89AEF6BE-7312-4878-B887-F36B1E1C182B}" type="slidenum">
              <a: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6"/>
          </p:nvPr>
        </p:nvSpPr>
        <p:spPr>
          <a:xfrm>
            <a:off x="456840" y="6246720"/>
            <a:ext cx="212580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7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8"/>
          </p:nvPr>
        </p:nvSpPr>
        <p:spPr>
          <a:xfrm>
            <a:off x="655596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B8272316-39E7-4B50-8798-FB20820E8171}" type="slidenum">
              <a: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6840" y="6246720"/>
            <a:ext cx="212580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4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5"/>
          </p:nvPr>
        </p:nvSpPr>
        <p:spPr>
          <a:xfrm>
            <a:off x="655596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  <a:def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fld id="{1FBCBB77-7251-46B7-898F-981FA8823B1E}" type="slidenum"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6"/>
          </p:nvPr>
        </p:nvSpPr>
        <p:spPr>
          <a:xfrm>
            <a:off x="456840" y="6246720"/>
            <a:ext cx="212580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7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8"/>
          </p:nvPr>
        </p:nvSpPr>
        <p:spPr>
          <a:xfrm>
            <a:off x="655596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55259369-8C6D-4CB9-A04D-D6B09865DFE4}" type="slidenum">
              <a: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9"/>
          </p:nvPr>
        </p:nvSpPr>
        <p:spPr>
          <a:xfrm>
            <a:off x="456840" y="6246720"/>
            <a:ext cx="212580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0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1"/>
          </p:nvPr>
        </p:nvSpPr>
        <p:spPr>
          <a:xfrm>
            <a:off x="655596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3123870F-F3A5-4044-B29D-0680944EEAE1}" type="slidenum">
              <a: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2"/>
          </p:nvPr>
        </p:nvSpPr>
        <p:spPr>
          <a:xfrm>
            <a:off x="456840" y="6246720"/>
            <a:ext cx="212580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3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4"/>
          </p:nvPr>
        </p:nvSpPr>
        <p:spPr>
          <a:xfrm>
            <a:off x="655596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F985D760-0617-48AA-9C49-D5DD695BC237}" type="slidenum">
              <a: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5"/>
          </p:nvPr>
        </p:nvSpPr>
        <p:spPr>
          <a:xfrm>
            <a:off x="456840" y="6246720"/>
            <a:ext cx="212580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6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7"/>
          </p:nvPr>
        </p:nvSpPr>
        <p:spPr>
          <a:xfrm>
            <a:off x="655596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5C6C7DEE-9E01-4B7C-B0E9-4FF6200D208D}" type="slidenum">
              <a: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8"/>
          </p:nvPr>
        </p:nvSpPr>
        <p:spPr>
          <a:xfrm>
            <a:off x="456840" y="6246720"/>
            <a:ext cx="212580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9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0"/>
          </p:nvPr>
        </p:nvSpPr>
        <p:spPr>
          <a:xfrm>
            <a:off x="655596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9DDDFC3A-8146-4211-84F9-FC644FA1B2FE}" type="slidenum">
              <a: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1"/>
          </p:nvPr>
        </p:nvSpPr>
        <p:spPr>
          <a:xfrm>
            <a:off x="456840" y="6246720"/>
            <a:ext cx="212580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2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3"/>
          </p:nvPr>
        </p:nvSpPr>
        <p:spPr>
          <a:xfrm>
            <a:off x="655596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9172AE41-5934-4E6D-8089-FA9EF713EAA8}" type="slidenum">
              <a: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4"/>
          </p:nvPr>
        </p:nvSpPr>
        <p:spPr>
          <a:xfrm>
            <a:off x="456840" y="6246720"/>
            <a:ext cx="212580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5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6"/>
          </p:nvPr>
        </p:nvSpPr>
        <p:spPr>
          <a:xfrm>
            <a:off x="655596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0A82949B-DAA0-40D3-8A36-236946019A68}" type="slidenum">
              <a: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 txBox="1"/>
          <p:nvPr/>
        </p:nvSpPr>
        <p:spPr>
          <a:xfrm>
            <a:off x="2873520" y="2952720"/>
            <a:ext cx="4829040" cy="34560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-309600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Praha &amp; EU: Investujeme do vaší budoucnosti</a:t>
            </a:r>
            <a:br>
              <a:rPr sz="1000"/>
            </a:b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Evropský sociální fo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4" descr=""/>
          <p:cNvPicPr/>
          <p:nvPr/>
        </p:nvPicPr>
        <p:blipFill>
          <a:blip r:embed="rId1"/>
          <a:stretch/>
        </p:blipFill>
        <p:spPr>
          <a:xfrm>
            <a:off x="3330720" y="2089080"/>
            <a:ext cx="241128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296360"/>
                <a:tab algn="l" pos="107442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bohacování slovní zásoby</a:t>
            </a: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6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296360"/>
                <a:tab algn="l" pos="10744200"/>
              </a:tabLst>
            </a:pPr>
            <a:r>
              <a:rPr b="0" lang="cs-CZ" sz="3200" spc="-1" strike="noStrike">
                <a:solidFill>
                  <a:srgbClr val="898989"/>
                </a:solidFill>
                <a:latin typeface="Calibri"/>
              </a:rPr>
              <a:t>Se zaměřením na horniny a nerostné bohatství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296360"/>
                <a:tab algn="l" pos="107442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bohacování slovní zásob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296360"/>
                <a:tab algn="l" pos="107442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dvozování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296360"/>
                <a:tab algn="l" pos="107442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kládání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296360"/>
                <a:tab algn="l" pos="107442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jímání z jiných jazyků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296360"/>
                <a:tab algn="l" pos="107442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znik nových slov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296360"/>
                <a:tab algn="l" pos="107442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etafo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296360"/>
                <a:tab algn="l" pos="107442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dvozování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0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296360"/>
                <a:tab algn="l" pos="107442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Tvoření slov odvozováním: (derivace)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296360"/>
                <a:tab algn="l" pos="107442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-         Slova odvozená: tvoří se ze základového slova připojením různých částí (morfémů)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296360"/>
                <a:tab algn="l" pos="107442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-         Základové slovo: slovo, ze kterého bylo příslušné odvozené slovo bezprostředně odvozeno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296360"/>
                <a:tab algn="l" pos="107442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-         Slovotvorný základ-kmen: společná část slova odvozeného a základového (část slova, která přešla ze základového slova bez koncovky)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296360"/>
                <a:tab algn="l" pos="107442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-         Slovotvorné prostředky-afixy: 1) přípona = sufix  2) předpona = prefix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296360"/>
                <a:tab algn="l" pos="107442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-         koncovka – mění se při skloňování a časování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296360"/>
                <a:tab algn="l" pos="107442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-         Slovní čeleď: slovní rodina, skupina slov se stejným kořenem, slova příbuzná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296360"/>
                <a:tab algn="l" pos="10744200"/>
              </a:tabLst>
            </a:pP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296360"/>
                <a:tab algn="l" pos="107442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příklady k rozboru: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296360"/>
                <a:tab algn="l" pos="107442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hor -n - ický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296360"/>
                <a:tab algn="l" pos="107442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vápen-atý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296360"/>
                <a:tab algn="l" pos="107442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vy-vře-l-ina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296360"/>
                <a:tab algn="l" pos="107442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utvoř co nejvíce slov příbuzných ke slovu TĚŽBA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1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296360"/>
                <a:tab algn="l" pos="107442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Skládání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296360"/>
                <a:tab algn="l" pos="10744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Tvoření slov skládáním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296360"/>
                <a:tab algn="l" pos="10744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kompozita = slova vzniklá spojením dvou a více základů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296360"/>
                <a:tab algn="l" pos="107442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296360"/>
                <a:tab algn="l" pos="10744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kládáním se tvoří především podstatná a přídavná jména, tvoření sloves je spíše vyjímečné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296360"/>
                <a:tab algn="l" pos="107442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296360"/>
                <a:tab algn="l" pos="10744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ápnodusík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296360"/>
                <a:tab algn="l" pos="107442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296360"/>
                <a:tab algn="l" pos="10744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železobet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296360"/>
                <a:tab algn="l" pos="107442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296360"/>
                <a:tab algn="l" pos="10744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hnědouhelný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296360"/>
                <a:tab algn="l" pos="107442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296360"/>
                <a:tab algn="l" pos="10744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ostravsko-karvinský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296360"/>
                <a:tab algn="l" pos="107442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ejímání z jiných jazyků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296360"/>
                <a:tab algn="l" pos="107442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Přejímání z jiných jazyků - podle zásady potřebnosti, účelnosti, mezinárodní srozumitelnosti; snadné tvoření odvozenin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296360"/>
                <a:tab algn="l" pos="10744200"/>
              </a:tabLst>
            </a:pP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296360"/>
                <a:tab algn="l" pos="107442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slova cizího původu: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296360"/>
                <a:tab algn="l" pos="10744200"/>
              </a:tabLst>
            </a:pP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296360"/>
                <a:tab algn="l" pos="107442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a) zdomácnělá = slova, která byla do češtiny přejata z jiného jazyka, ale už se po stránce hláskové a tvarové přizpůsobila češtině; původ si neuvědomujeme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296360"/>
                <a:tab algn="l" pos="10744200"/>
              </a:tabLst>
            </a:pP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296360"/>
                <a:tab algn="l" pos="107442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b) cizí = slova přejatá, která si dosud v různé míře zachovala svůj původní ráz, cítíme je jako cizí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296360"/>
                <a:tab algn="l" pos="10744200"/>
              </a:tabLst>
            </a:pP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296360"/>
                <a:tab algn="l" pos="107442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žula-granit, vápenec -kalcit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296360"/>
                <a:tab algn="l" pos="107442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filfas-rudnický košík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296360"/>
                <a:tab algn="l" pos="107442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hutman-hlídač dolů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296360"/>
                <a:tab algn="l" pos="107442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latroch-průduch v dole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296360"/>
                <a:tab algn="l" pos="107442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žumpejz (sumpfeisen)-syrové železo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296360"/>
                <a:tab algn="l" pos="107442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maršat - rozměření hory pro těžbu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296360"/>
                <a:tab algn="l" pos="107442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znik nových slov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296360"/>
                <a:tab algn="l" pos="10744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ologismus či neologizmus, česky  novotvar je nově utvořené nebo přejaté slovo, přesněji lexikální jednotka. Vzniká nejčastěji pro označení nových skutečností, např. vynálezů  nebo myšlenek, a postupem času se může stát součástí běžné slovní zásoby. Lingvistická disciplína zkoumající neologismy se nazývá neologie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29636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296360"/>
                <a:tab algn="l" pos="10744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těžbě a hutnictví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29636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296360"/>
                <a:tab algn="l" pos="10744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ologismus sémantický - tunel (podvod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29636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296360"/>
                <a:tab algn="l" pos="10744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zsedlo hor - rozsedlina ho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29636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296360"/>
                <a:tab algn="l" pos="10744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ardanový kloub, alternátor - části těžebních strojů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296360"/>
                <a:tab algn="l" pos="107442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296360"/>
                <a:tab algn="l" pos="10744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řevej- výztuž stropu v chodbě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296360"/>
                <a:tab algn="l" pos="107442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etaf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8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296360"/>
                <a:tab algn="l" pos="10744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etafora (z řeckého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μεταφέρειν –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etaférein, přenos) je jazyková a rétorická  literární konstrukce spočívající v přenášení významu na základě vnější (strukturální) podobnosti. Je druhem tropu, tedy přenášení významu původního pojmenování na jiný předmět. Je součástí běžné funkce a užívání jazyka, ale zvláštní význam má zejména v poezii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296360"/>
                <a:tab algn="l" pos="107442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296360"/>
                <a:tab algn="l" pos="10744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arhany - stojkořadí v porubu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296360"/>
                <a:tab algn="l" pos="107442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296360"/>
                <a:tab algn="l" pos="10744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lávka - část uhelné sloj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296360"/>
                <a:tab algn="l" pos="107442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296360"/>
                <a:tab algn="l" pos="10744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yfárat na den - vyfárat na povrch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296360"/>
                <a:tab algn="l" pos="107442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296360"/>
                <a:tab algn="l" pos="10744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lot - Hustá řada pevných stojek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296360"/>
                <a:tab algn="l" pos="107442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296360"/>
                <a:tab algn="l" pos="10744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tolica-výstuž stropu v chodbě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4T13:50:19Z</dcterms:created>
  <dc:creator>albert</dc:creator>
  <dc:description/>
  <dc:language>en-US</dc:language>
  <cp:lastModifiedBy>stercl</cp:lastModifiedBy>
  <dcterms:modified xsi:type="dcterms:W3CDTF">2014-09-26T12:28:28Z</dcterms:modified>
  <cp:revision>3</cp:revision>
  <dc:subject/>
  <dc:title>Obohacování slovní zásoby</dc:title>
</cp:coreProperties>
</file>