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01B-7349-48F2-9729-4CD6E542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709C-AA2E-4483-A951-0AD2CA7F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FE7-307C-4B56-93C2-8A74FBA0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C8A-B0A8-41E2-BF5F-08F47CAA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F08-B3AE-49FD-908C-A0030F25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E7D-BADB-4935-852C-9A2D200C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FF8-A85E-4B1C-9064-07BC9BBB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056-E5AD-44B3-9AD0-7E9A16C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AEF-7CD4-4DC8-B8F4-49C88393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84B-8960-4FAE-AE1A-D709064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417-8A32-4D7A-B57B-F984B14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1D3-A133-4019-BE05-8371A7BD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EB6B-ABC2-4F11-AF43-E7562A7344B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74960" y="2940120"/>
            <a:ext cx="4827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330720" y="2089080"/>
            <a:ext cx="2411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borný vý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yl-odbor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íl – odborné poučení o nějakém tématu, sdělení nových poznatk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hový postup – výkladový, popis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ady: věcná správnost, úplnost, přesnost, srozumitelnost, výstižnost, jednoznačnost, přehlednost, objektiv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 - postihuje a vysvětluje vnitřní souvislosti a vztahy, podmínky vzniku, trvání jevu, násl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ití - učebnice, odborné časopisy a publ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uhy výkladu – vědecký x prakticky odborný x populárně naučn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y výkladu – odborný článek, stať, odborná publikace, sborník, přednáška, referát, disk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ropný vrt"/>
          <p:cNvPicPr/>
          <p:nvPr/>
        </p:nvPicPr>
        <p:blipFill>
          <a:blip r:embed="rId1"/>
          <a:stretch/>
        </p:blipFill>
        <p:spPr>
          <a:xfrm>
            <a:off x="4648320" y="1052640"/>
            <a:ext cx="403848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exikální prostředky odborného výkl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borné názvy=termí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lení podle původu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) domácí termíny- spoj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) přejaté z jiných jazyků – interw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lení podle počtu slo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. Jednoslovná pojmen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ální (jen v jednom oboru a jediný význam) – vodík, metaf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 ustáleným významem (v různých oborech různý význam) – spojka, nápr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I. Víceslovná spojení (terminologická souslov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dopravní prostředky, prvosenka jar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těžba uhlí"/>
          <p:cNvPicPr/>
          <p:nvPr/>
        </p:nvPicPr>
        <p:blipFill>
          <a:blip r:embed="rId1"/>
          <a:stretch/>
        </p:blipFill>
        <p:spPr>
          <a:xfrm>
            <a:off x="457200" y="1125360"/>
            <a:ext cx="40384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yntax odborného výkla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4968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hutnost vyjadřování, sevře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jmenné konstrukce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žením prací pro onemocnění sekretářky dochází k nárůstu případů včas nevyřízených žádostí 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íst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ože sekretářka onemocněla, práce se zdržují a narůstá počet žádostí, které nebyly vyřízeny vč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dstatná jména slovesná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 výrazu po vykrácen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íst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dyž výraz vykrátím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ídavná jména slovesná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pečený, nes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druhotné předložk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v důsledku, za účelem, se zřetel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suvk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– oddělují se  buď pomlčkami, čárkami, nebo závorkami (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Tento druh, jak jsem se již zmínil, žije v Jižní Ameri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asivní konstrukce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říchod prof. Černého je doprovázen zvýšeným zájmem o matematickou analýz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místo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ýšený zájem o matematickou analýzu doprovází příchod prof. Černéh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žitá souvětí podřad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objektivní pořádek slov ve větě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východisko-jádro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kremen-zajimavy-vzorek-1"/>
          <p:cNvPicPr/>
          <p:nvPr/>
        </p:nvPicPr>
        <p:blipFill>
          <a:blip r:embed="rId1"/>
          <a:stretch/>
        </p:blipFill>
        <p:spPr>
          <a:xfrm>
            <a:off x="5148360" y="1413000"/>
            <a:ext cx="374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mpozice odborného výkla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enění na odstavce, které na sebe logicky navazuj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lenění na kapit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racovaná osn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čedič"/>
          <p:cNvPicPr/>
          <p:nvPr/>
        </p:nvPicPr>
        <p:blipFill>
          <a:blip r:embed="rId1"/>
          <a:stretch/>
        </p:blipFill>
        <p:spPr>
          <a:xfrm>
            <a:off x="539640" y="1341360"/>
            <a:ext cx="3629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alší náležitosti výklad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záv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mky v textu pod čarou nebo za tex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rafické rozlišení – typy a velikost písma, barvy, proklá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tace zdrojů a pramenů, odka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ibliografické úd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plnění textu grafy, tabulkami, nákresy, obrázky, sché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Chemický vzorec, vzájemné úspo&amp;rcaron;ádání prvk&amp;uring; a fotografie vzorku vybraných minerál&amp;uring;."/>
          <p:cNvPicPr/>
          <p:nvPr/>
        </p:nvPicPr>
        <p:blipFill>
          <a:blip r:embed="rId1"/>
          <a:stretch/>
        </p:blipFill>
        <p:spPr>
          <a:xfrm>
            <a:off x="539640" y="1773360"/>
            <a:ext cx="36734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orový odborný vý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hy rop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pný průmysl rozděluje ropu podle jejího původu (např. </a:t>
            </a:r>
            <a:r>
              <a:rPr b="0" i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Texas Intermediate, </a:t>
            </a:r>
            <a:r>
              <a:rPr b="1" i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TI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bo </a:t>
            </a:r>
            <a:r>
              <a:rPr b="1" i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nt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často také podle její hustoty (lehká, </a:t>
            </a:r>
            <a:r>
              <a:rPr b="0" i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tředně těžká, </a:t>
            </a:r>
            <a:r>
              <a:rPr b="0" i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těžká, </a:t>
            </a:r>
            <a:r>
              <a:rPr b="0" i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vy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rafinérie ji také mohou označovat jako „sladkou“ (</a:t>
            </a:r>
            <a:r>
              <a:rPr b="0" i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et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což znamená, že obsahuje relativně málo síry, nebo jako „kyselou“ (</a:t>
            </a:r>
            <a:r>
              <a:rPr b="0" i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</a:t>
            </a: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což znamená, že tato ropa obsahuje více než 0,5 % síry a vyžaduje náročnější zpracování, aby vyhověla současným normá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avní světové typy jso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ěsná ropa Brent, zahrnující 15 druhů ropy z nalezišť v Severním moři. Za cenu tohoto typu ropy je většinou prodávána ropa z Evropy, Afriky a Blízkého východu určená pro spotřebu na Západě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 Texas Intermediate (WTI), za jejíž cenu se prodává severoamerická rop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ai, za jejíž cenu se prodává blízkovýchodní ropa určená pro asijsko-pacifickou oblas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is (z Malajsie), za jejíž cenu se prodává lehká ropa z Dálného východ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as (z Indonésie), za jejíž cenu se prodává těžká ropa z Dálného východ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š OPEC zahrnující druh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b Light (Saudská Arábi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ny Light (Nigéri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eh (Spojené arabské emirát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hmus (Mexiko, nepatří do OPEC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as (Indonési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haran Blend (Alžírsko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a Juana Light (Venezuel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C se snaží udržet cenu koše OPEC v předem daném rozmezí pomocí zvyšování a snižování produkce. Ropa typu koš OPEC, sestávající jak z lehkých, tak z těžkých druhů ropy, je v průměru těžší než Brent i WTI a má větší obsah sí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echny výše uvedené druhy se řadí mezi klasickou „konvenční“ ropu. Kromě ní existují také velká ložiska nekonvenční ropy, kterou tvoří živice v dehtových píscích a kerogen v ropných břidlicích. Nacházejí se hlavně v Kanadě a Venezuele. Její podíl zatím tvoří jen 5 % celkové světové produkce, z důvodu vysoké energetické náročnosti těžb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3" descr=" "/>
          <p:cNvPicPr/>
          <p:nvPr/>
        </p:nvPicPr>
        <p:blipFill>
          <a:blip r:embed="rId1"/>
          <a:stretch/>
        </p:blipFill>
        <p:spPr>
          <a:xfrm>
            <a:off x="684360" y="4508640"/>
            <a:ext cx="2658960" cy="1390680"/>
          </a:xfrm>
          <a:prstGeom prst="rect">
            <a:avLst/>
          </a:prstGeom>
          <a:ln w="0">
            <a:noFill/>
          </a:ln>
        </p:spPr>
      </p:pic>
      <p:pic>
        <p:nvPicPr>
          <p:cNvPr id="61" name="Obrázek 4" descr=" "/>
          <p:cNvPicPr/>
          <p:nvPr/>
        </p:nvPicPr>
        <p:blipFill>
          <a:blip r:embed="rId2"/>
          <a:stretch/>
        </p:blipFill>
        <p:spPr>
          <a:xfrm>
            <a:off x="4427640" y="4327560"/>
            <a:ext cx="2568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7:09:16Z</dcterms:created>
  <dc:creator>TommyF</dc:creator>
  <dc:description/>
  <dc:language>en-US</dc:language>
  <cp:lastModifiedBy>stercl</cp:lastModifiedBy>
  <dcterms:modified xsi:type="dcterms:W3CDTF">2014-09-29T15:14:00Z</dcterms:modified>
  <cp:revision>79</cp:revision>
  <dc:subject/>
  <dc:title>Snímek 1</dc:title>
</cp:coreProperties>
</file>